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FCE1-50D6-4D2D-BD80-3F5EF58EB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written about a dozen books (mostly about Visual Basic) and more than 200 magazine artic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ook most relevant to this discussion is Visual Basic Graphics Programming. It was written for VB 6 so it covers practically nothing from this talk, although some of its more advanced topics will still be useful in VB .NET (with some transl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earn more about my books and read more than a thousand tips, tricks, and examples at my Web site www.vb-helper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hyperlinks on these book images to go to the books’ Web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topics is computer graphics so building this presentation was great fun. However, GDI+ represents a major break from graphics in previous versions of Visual Basic so there's lots of material to cover. To squeeze everything into one talk, I'm going to have to skim a bit. The full presentation contains a few hidden slides that you can use to fill in some of the g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7EC-C8BA-48CF-A407-9270A58E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92C-121A-4753-ADD6-142D2BC9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0C3-DD76-43A4-B170-29EE6F4B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1EB-3040-4C00-9F92-77D04AD2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927E-36D5-4C70-AFF3-847F8FC8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28B2-56B2-4587-BAF4-E870FD55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7B7-36C4-4EC5-BD58-849B3734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90E4-7304-499B-97BB-AFE3F9B3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D36-B7BD-45CD-AA99-71C059F0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0292-CD02-40D6-A177-BD15EFDC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16EE-2770-4D8C-AFA6-DE6E891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234-64FA-4F54-80B9-0EE9A658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A014-BC59-4D15-8DDD-200663E6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3FD3-86AB-4332-8B8D-8319B88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FA6F-FA3A-499D-92B5-000C31B6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860F-C428-447E-8226-B18D383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AB4E-9145-4BBA-A136-0C90B62A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344-3B91-485E-80C9-242B3641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87E-90F2-455B-967C-F724C9E3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79E-3E07-40CD-9483-5FEB0944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177-FF22-49B8-9587-9E5131F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C20-CBED-4B3A-AEA8-56DC5E85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F82-17A1-4E7E-BE91-3E65C1D1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E9C-31BB-4732-BF33-0CCF5154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vb-helpe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vb-helper.co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D996-50CA-4D26-BB02-ED4BB80D76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vb-help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EBB-AF0B-4D45-8998-566576621E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vb-help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dStephens@vb-helper.com" TargetMode="External"/><Relationship Id="rId2" Type="http://schemas.openxmlformats.org/officeDocument/2006/relationships/hyperlink" Target="http://www.vb-helper.com/vsa_ppt.zip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b-helper.com/vbnet_prog_gui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VSA Scripting in .NET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410080"/>
            <a:ext cx="739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Rod Steph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RodStephens@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vb-helper.com/vsa_ppt.z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B .NET Scrip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VSA – Visual Studio for Application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Much</a:t>
            </a: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more powerfu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more complicated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415880" y="3016080"/>
            <a:ext cx="10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SA Gathers Inform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VSA uses reflection to learn about object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Looks in an assembly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Cannot be an executable assembly (in VB)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refore the program must include a DLL</a:t>
            </a:r>
            <a:endParaRPr b="0" lang="en-US" sz="1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.NET Scripting Ste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Add references to the VSA libraries: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Microsoft.Vsa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Microsoft.VisualBasic.Vsa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ahoma"/>
              </a:rPr>
              <a:t>System.Reflection</a:t>
            </a:r>
            <a:endParaRPr b="0" lang="en-US" sz="2400" spc="-1" strike="noStrike">
              <a:solidFill>
                <a:srgbClr val="3399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Build an IVsaSite clas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Use the IVsaSite clas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365760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What Is Scripting?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6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 .NET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Build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Us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ing an IVsaSit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Used in the main program (not the DLL)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Implements IVsaSit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VSA uses it to interact with your program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Stores references to scriptable object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riptDrawVsaSite (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Class ScriptDrawVsaSit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lements IVsaSit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Global objects for use by the script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_Objects As New Hashtabl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Add a global object to the hashtabl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Sub AddObject(ByVal object_name As String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yVal object_reference As Object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_Objects.Add(object_name, object_referenc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Sub GetCompiledState(ByRef pe() As Byte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yRef debugInfo() As Byte)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lements Microsoft.Vsa.IVsaSite.GetCompiledStat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e = Nothing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bugInfo = Nothing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riptDrawVsaSite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Return an event source instanc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Function GetEventSourceInstance(ByVal itemName As String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yVal eventSourceName As String) As Object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lements Microsoft.Vsa.IVsaSite.GetEventSourceInstanc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result As Object = m_Objects.Item(eventSourceNam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resul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ch ex As Excep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row New VsaException(VsaError.EventSourceTypeInvalid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Tr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Return a global instanc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Function GetGlobalInstance(ByVal name As String) As Object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lements Microsoft.Vsa.IVsaSite.GetGlobalInstanc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result As Object = m_Objects.Item(nam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resul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ch ex As Excep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row New VsaException(VsaError.GlobalInstanceInvalid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Tr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riptDrawVsaSite (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Sub Notify(ByVal notify As String, ByVal info As Object)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lements Microsoft.Vsa.IVsaSite.Notif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riptDrawVsaSite (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Function OnCompilerError(ByVal [error] As Microsoft.Vsa.IVsaError)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 Boolean Implements Microsoft.Vsa.IVsaSite.OnCompilerErro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Compose the error messag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msg1 As String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"Error on line " &amp; [error].Line &amp; vbCr &amp; vbC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msg2 As String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rror].LineText &amp; vbC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Display the messag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dlg As New dlgErro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.rchError.Text = msg1 &amp; msg2 &amp; [error].Descrip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.rchError.Select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en(msg1) + [error].StartColumn - 1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rror].EndColumn - [error].StartColumn + 1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.rchError.SelectionColor = Color.Red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.rchError.SelectionFont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 Font(dlg.rchError.SelectionFont, FontStyle.Bold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dlg.ShowDialog() = DialogResult.OK The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Continue to report errors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Tru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Stop reporting errors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Fals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Clas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419112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What Is Scripting?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6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 .NET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Build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Us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y Next New Boo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943600"/>
            <a:ext cx="73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vb-helper.com/vbnet_prog_guid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981080"/>
            <a:ext cx="754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isual Basic .NET Programmer’s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33920" y="2743200"/>
            <a:ext cx="1600200" cy="1866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480060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Available around VS 2005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IVsaSite (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Execute the script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Sub ExecuteScript(ByVal script As String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vsa_engine As New VsaEngin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vsa_site As New ScriptDrawVsaSit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site.AddObject("ThePicture", g_Pictur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site.AddObject("MyPicture", g_Picture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Initialize the engin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RootMoniker = "ScriptDrawVsa://Picture/Draw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Site = vsa_sit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InitNew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RootNamespace = "ScriptDrawNS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Empty the cache in case there is code in the GAC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RevokeCache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Generate debug information when compiling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GenerateDebugInfo = Tru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Get a reference to the Items collection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items As IVsaItems = vsa_engine.Item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IVsaSite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Load system.dll and mscorelib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im reference_item As IVsaReferenceItem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eference_item = CType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tems.CreateItem("system.dll", VsaItemType.Reference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ItemFlag.None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VsaReferenceItem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item.AssemblyName = "system.dll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item = CType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tems.CreateItem("mscorlib.dll", VsaItemType.Reference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ItemFlag.None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VsaReferenceItem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item.AssemblyName = "mscorlib.dll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item = CType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tems.CreateItem("system.drawing.dll", VsaItemType.Reference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ItemFlag.None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VsaReferenceItem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item.AssemblyName = "system.drawing.dll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IVsaSite (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Load a reference to the ScriptDrawObjects assembly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Note that VB doesn't support EXEs, only DLLs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assembly_name As String = [Assembly].GetAssembly(GetType(Picture)).Loca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item = CType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tems.CreateItem(assembly_name, VsaItemType.Reference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ItemFlag.None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VsaReferenceItem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item.AssemblyName = assembly_nam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Load a global form object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global_item As IVsaGlobalItem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lobal_item = CType(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tems.CreateItem("ThePicture", VsaItemType.AppGlobal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ItemFlag.None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VsaGlobalItem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lobal_item.TypeString = "ScriptDrawObjects.Picture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IVsaSite (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Load the script code. The name of this item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must match the script's Module name to get global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items to work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code_item As IVsaCodeItem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Type(items.CreateItem("Script", VsaItemType.Code, VsaItemFlag.None),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VsaCodeItem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de_item.SourceText = scrip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Add an event sourc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de_item.AddEventSource("MyPicture", "ScriptDrawObjects.Picture"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Compile the script cod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Compile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If the compilation failed, exit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Not vsa_engine.IsCompiled() The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Close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IVsaSite (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Start the engin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Run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Execute sub MyScriptTest.Script.Main()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&lt;engine.RootNamespace&gt;.&lt;Module&gt;.&lt;Subroutine&gt;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vsa_assembly As [Assembly] = vsa_engine.Assembly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my_type As Type = _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assembly.GetType(vsa_engine.RootNamespace &amp; ".Script"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method_info As MethodInfo = my_type.GetMethod("Main"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thod_info.Invoke(Nothing, Nothing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Clean up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a_engine.Close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ple, Righ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Script (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s System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s System.Math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s System.Drawing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orts ScriptDrawObjects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Scrip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Functions to return points on the curve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Function X(ByVal t As Single)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CInt((2000 * (27 * Cos(t) + 15 * Cos(t * 20 / 7)) / 42) / 20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Function Y(ByVal t As Single)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CInt((2000 * (27 * Sin(t) + 15 * Sin(t * 20 / 7)) / 42) / 20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Script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33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Sub Main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 cx As Integer = 150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 cy As Integer = 150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t As Single = 0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dt As Single = 0.1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x1, y1, x2, y2 As Integer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Picture.Clear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2 = cx + X(t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2 = cy + Y(t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 += d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 While t &lt; 14 * PI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1 = x2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1 = y2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2 = cx + X(t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2 = cy + Y(t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Picture.MakeSegment(x1, y1, x2, y2, Color.Blue, 2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 += d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1 = cx + X(0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1 = cy + Y(0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Picture.MakeSegment(x1, y1, x2, y2, Color.Blue, 2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Modul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ScriptDraw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0040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10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66ccff"/>
                </a:solidFill>
                <a:latin typeface="Times New Roman"/>
              </a:rPr>
              <a:t>?</a:t>
            </a:r>
            <a:endParaRPr b="0" lang="en-US" sz="400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1981080"/>
            <a:ext cx="7238880" cy="60984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What Is Scripting?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6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 .NET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Build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Us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Script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Executing code written at run tim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User script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Tool and enhancement script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2590920"/>
            <a:ext cx="7238880" cy="60948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What Is Scripting?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6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 .NET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Build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Us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B6 Scrip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Add a reference to Microsoft Script Control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Set the control’s “Language” to VBScript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Use AddObject to tell it about objects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Use AddCode to tell it about cod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Use Run to execute cod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B6 Scrip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' Execute the script.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Sub cmdRun_Click()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m script_control As New MSScriptControl.ScriptControl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ript_control.Language = "VBScript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ript_control.AddObject "TheForm", M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ript_control.AllowUI = True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ript_control.AddCode txtCode.Text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ript_control.Run "Main"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2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VB6Example</a:t>
            </a:r>
            <a:endParaRPr b="0" lang="en-US" sz="2800" spc="-1" strike="noStrike">
              <a:solidFill>
                <a:srgbClr val="66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24080"/>
            <a:ext cx="7238880" cy="609840"/>
          </a:xfrm>
          <a:prstGeom prst="rect">
            <a:avLst/>
          </a:prstGeom>
          <a:gradFill rotWithShape="0">
            <a:gsLst>
              <a:gs pos="0">
                <a:srgbClr val="00005e">
                  <a:alpha val="0"/>
                </a:srgbClr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What Is Scripting?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6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VB .NET Scripting</a:t>
            </a:r>
            <a:endParaRPr b="0" lang="en-US" sz="3200" spc="-1" strike="noStrike">
              <a:solidFill>
                <a:srgbClr val="66c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Build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Using IVsaSite</a:t>
            </a:r>
            <a:endParaRPr b="0" lang="en-US" sz="2800" spc="-1" strike="noStrike">
              <a:solidFill>
                <a:srgbClr val="3399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5:44:22Z</dcterms:created>
  <dc:creator>Rod</dc:creator>
  <dc:description/>
  <dc:language>en-US</dc:language>
  <cp:lastModifiedBy>Rod Stephens</cp:lastModifiedBy>
  <dcterms:modified xsi:type="dcterms:W3CDTF">2004-10-22T16:34:13Z</dcterms:modified>
  <cp:revision>54</cp:revision>
  <dc:subject/>
  <dc:title>Slide 1</dc:title>
</cp:coreProperties>
</file>