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6.jpeg" ContentType="image/jpeg"/>
  <Override PartName="/ppt/media/suction.wav" ContentType="audio/x-wav"/>
  <Override PartName="/ppt/media/image4.jpeg" ContentType="image/jpeg"/>
  <Override PartName="/ppt/media/image5.jpeg" ContentType="image/jpeg"/>
  <Override PartName="/ppt/media/image13.wmf" ContentType="image/x-wmf"/>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E202-2F01-48CB-80AA-8B4310D02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my talk “VB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Rod Stephens, a software consultant and aut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my contact information. If you have questions about this talk, send me a note. Be sure to put the word VBUG in the subject line so my spam filters don't throw it a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post this talk with any changes or enhancements at the address shown here in a few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base format holds a series of records that contain similar information. In this example, the XML file holds employee information. You could use a deeper structure to store more than one “table” of information. With a little work, you could reproduce the entire structure of a relational database in an XML file (not counting indexes, views, and other database stuf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ummary of XML advantages and 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ny application that can read and write XML can exchang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f...: Actually an application needs to understand the format of the data not just XML. For example, a Word 2003 document saved in Word XML format contains a lot of special fields. If those fields are incorrect, Word won’t load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You can define any elements and attributes on the fly without any kind of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You can have only one root data element and XML files are naturally hierarchical. That’s not too big a restriction. You can always place several “top-level” items inside an artificial data root element. It’s more of an issue if you want to store network-lik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XML is remarkably easy to understand. If you name elements and attributes properly, anyone should be able to understand the file without any prior information about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ose: XML’s text format takes up a lot more room than a binary format would. You can reduce the size a bit by storing data in attributes so you can use empty elements. You can also use short names but that makes it harder to understand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An XML document is a text files so you cannot change one item in the middle as you could in a real database. If you want to make changes, you need to rewrite the entire f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doesn’t do anything except hold data but a host of related technologies provide some impressive functi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s define the types of data an XML file can hold. For example, a schema can indicate that the Address element contains exactly one Street, City, State, and PostalCode element in that order. For example, if you receive an customer order that satisfies the schema, then you have some reason to believe that the data is valid. (DTD is highlighted here because Microsoft provides the most support for that kind of sc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ath is a method for specifying elements within an XML document. For example, you could use XPath to specify all Employee elements. XSL could then process those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Service is a remote server. You send a request to the Web Service and it returns some sort of result. Web Service requests and results are packaged in XML within a SOAP (Simple Object Access Protocol) envelo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some notion of what XML is, I’m going to explain how you can use it in your Visual Basic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before, the DOM is a collection of objects that you can use to manipulate an XML docu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ore useful DOM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Document: Represents the XML document as a whole. Its ChildNodes collection contains the root data element and any processing instructions or comments that live at the document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Element: Represents a data element. Its GetAttribute method gets an attribute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tribute: Represents an attribute in an XmlElement. You can use the XmlElement object’s GetAttribute and SetAttribute methods so you often don’t need to work with attributes a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Text: Represents a text value. For example, if a FirstName element contains the text Mike, its XmlElement object actually contains an XmlText object that holds the value M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Comment: Represents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A more generic class that can represent an XmlDocument, XmlElement, XmlComment, XmlText, XmlAttribute, or other DOM ob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the XmlDocument object represents the document as a wh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Load and Save methods for loading and saving the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Xml method lets you initialize the document using a text string containing XML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Xml and OuterXml return the object’s XML text. OuterXml includes the object’s tags while InnerXml includes just what’s inside the ta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s DocumentElement property returns a reference to the data root element. This is handy if you want to work with the data and don’t need to look at processing instru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also includes methods for creating new DOM objects. I’ll describe them a bit la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provides some standard methods that are useful for the objects it can re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returns a child item by name. This is handy if you want to find a particular child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Text returns the text values contained in the node and its descendants, all concatenated together. If you know an element contains only text, for example a LastName element, this returns the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ives the node’s na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XmlElement’s ChildNodes and Attributes collections return objects representing the element’s child nodes and attributes. You can loop through these to examine the DOM’s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you can use the Item method to go to a child node with a particular na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WalkDom shows how to use these methods to examine a DOM hierarchy. The key is the DescribeNode function shown here. This routine takes as a parameter an XmlNode object (which initially is an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adds the node’s name to a string. It then loops through the node’s Attributes collection adding each attribute’s name and value to the str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function checks whether the node is an XmlText node. If so, the code adds the node’s text value to the result st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recursively calls itself to describe each of the node’s children, concatenates the results, and returns the string is has compmos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written about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ook most relevant to this discussion is “Visual Basic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hyperlinks on these book images to go to the books’ Web p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ections use the ChildNodes collection to navigate through the DOM. The DOM objects also provide methods you can use to navigate more locally. For example, you could make the code follow a series of links from one DOM object to another to dig through the object hierarc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Node object’s FirstChild and LastChild properties give you references to the element’s first and last children. From there you can use the NextSibling and PreviousSibling methods to move through the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entNode property returns a reference to a node’s pa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Document returns a reference to the XmlDocument that contains the n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hows the local navigation properties graphical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new document node is a two-part process. First, you use an XmlDocument object’s methods to create the node. For example, you could use its CreateElement method to make a new XmlEle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you add the new node to some other node’s ChildNodes or Attributes collec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sn’t too hard but it’s somewhat cumbersome. Fortunately it’s easy to wrap these procedures into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Document object and adds it to a node’s child collection. It returns the new XmlElement object in case the calling routine needs to do something with it (for example, add children to 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Attribute object, sets the attribute’s value, and adds the new object to a node’s attributes collection. It returns the new XmlAttribute object in case the calling routine needs to do something with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Declaration object. It then adds it to the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XML declaration must come first in the document so this routine adds the declaration using the document’s PrependChild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a document can have only one XML declaration. If you call this routine twice, you’ll get an err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Comment object. It puts spaces around the comment text so it isn’t run right into the start and end comment charac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the object, the code adds it to a node’s child coll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makes a new XmlText object and adds it to a node’s child collec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BuildDom uses these helper routines to build an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creates a new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ds an XML declaration and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t creates the data root element named Books and adds a Book element to the ro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presentation contains a lot more material than I can cover in this talk so I have hidden a bunch of the more optional slides. If you look at the presentation at home, unhide the slides to see the extra mater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adds some attributes to the Book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adds some sub-elements that contain XmlText nodes. For example, it creates an element named Title that contains the text “Visual Basic .NET and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s finished, the program calls the document’s Save method to save the fi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 provides a couple methods that help you find specific no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Nodes returns an XmlNodeList collection of nodes that match an XPath ex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SingleNode returns the first node that matches an XPath ex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lementsByTagName returns an XmlNodeList collection holding descendants with a certain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e XmlNode object’s Item method, which returns a child node with a specific na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ath is sort of similar to a directory path. Slashes separate nodes in the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wildcard means to skip any number of intermediate nodes. This example selects nodes that are descendants of the Food element’s Desserts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wildcard means to skip exactly one intermediate node. This example selects nodes that are grandchildren of the Food element’s Desserts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complications to XPath but this is enough for now.</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ollowing examples, memorize this XML fi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gins with an Employees element that contains a series of Employee elements. Each of those contains LastName, FirstName, Phone, and other fairly obvious element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lectNodes demonstrates the SelectNodes, SelectSingleNodes, and GetElementsByTagName methods. It begins by using the LoadXml method to load the test 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calls SelectNodes passing it the XPath expression //FirstName. This selects all FirstName elements in the entire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loops through the returned XmlNodes, displaying their InnerText values. (You may remember that the test database’s LastName elements hold only last name text so InnerText displays that tex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calls SelectSingleNode passing it a much more complicated XPath expression. The descendant:: notation means to look for a node that has descendants satisfying a certain condition. In this case, the condition begins with an asterisk so that means to skip one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ckets indicate an attribute value. This statement looks for an attribute named LastName with value Ba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all together, this XPath expression looks for a node with a child that has a LastName attribute with value Baker. IN the test data, this is the Employee element containing the information for employee Ba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cated this node, the program loops through the Employee’s child nodes displaying thei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performs a similar SelectSingleNode to locate the Employee element for employee Cantu. This XPath statement uses an asterisk for its attribute name so it will find a node with any attribute having value Cant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uses this node’s GetElementsByTagName method to find any descendants named Office. It saves a reference to the first descendant (in this example there is only one such node) and displays its valu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a bit more realistic. Program SavePosition uses XML to save its position when it closes and restore its position when it loads. Here’s what the file looks lik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can manipulate XML files, you need to know at least a little about what XML is. I’ll explain the basics very briefly so you can follow the rest of the ta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brief introduction, I’ll explain how you can use the Document Object Model (DOM) to load an XML document. The DOM provides objects you can use to manipulate an XML document’s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build or search an XML file containing millions of records, you probably cannot load the whole thing into memory using the DOM all at once. I’ll explain some ways you can work with these kinds of XML files that are too large to fit easily in the D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finish with a discussion of one of the cooler features of Visual Studio’s XML tools: serialization. Using these techniques, you can easily serialize and deserialize data or even program obje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s Form_Load event handler loads the XML document. It uses a Try Catch block to protect itself in case this is the first time the program has run and the file doesn’t exis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uses the document’s DocumentElement property to get a reference to the root data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root element’s Item method to select the child nodes it needs. It uses those nodes’ InnerText methods to get the values stored in the fi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_Closing event handler uses the XML helper functions I described earlier to build an XML file containing the form’s position and size. It starts with an XML declaration and then adds a root data element named Set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adds elements holding the form’s X, Y, Width, and Height values and saves the resul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DOM is impractical. In those cases, you can turn to forward-only XML methods. The XmlTextWriter and XmlTextReader classes let you write and read XML files sequentially without having the entire DOM loaded at the sam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Simple API for XML) lets you read XML files sequentially using an approach different from the one used by XmlTextRead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would you want to use forward-only XML techni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f you have a huge DOM, you may not be able to fit it all into memory at once. For example, suppose you need to work with a customer database that contains entries for a few million customers. It’s unlikely that you’ll have enough memory to load i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only need to work with a small part of a large XML document. For example, you might need to find a specific customer in your huge customer database. In that case, loading the while thing into memory would be waste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you may be able to stop processing early. For example, you may want to look through a job database and display only the first 100 entries for the user. In that case, it would be wasteful to load the entire job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ome tasks are naturally forward-only. For example, you might step through an order database printing invoices for each order. You print the invoices one-at-a-time so there’s no reason to have them all loaded at o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 imposes some overhead so it’s worth avoiding in these c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talk about the XmlTextWriter and XmlTextReader classes. These are the classes preferred by Visual Studio for forward-only XM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urely guess, XmlTextWriter writes an XML file. This list shows some of its more important methods. Most of these are self-explana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tartDocument: Writes the XML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Comment: Writes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ElementString: Writes an element that contains a simple str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tartElement, WriteEndElement: Write the beginning and ending of an element. You use these instead of WriteElementString when you need to make an element that contains attributes or other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tributeString: Writes an attribute string for the currently open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loses the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give some code exampl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ormatting property. If this is Formatting.None, the XML gets all run together on a single line. Whitespace is ignored in XML files and many programs that generate them don’t bother with indentation. Setting this to Formatting.Indented makes the result much easier to re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writes a comm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rites an element containing a simple str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t and finish an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XmlTextWriter may use an empty element if you don’t put anything inside the el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 data-description language and nothing else. Anyone who tells you it does something more than just storing data is trying to sell you some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XML’s great benefits is its flexibility. You can define any elements you like nested to any dep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XML files have a single root data element. All other elements must live inside tha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have attributes that provide more information about the element. For instance, an attribute could specify an element’s type. Just as you define the elements, you also define the attributes. You can give attributes just about any names and values you l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 element’s attributes contain all the information you need to define the element. In that case, you can use a special empty element syntax to avoid a few keystrok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can include comments. These may lie outside of the data hierarchy (outside of the data roo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include processor instructions. These can also lie outside of the data hierarchy.</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dds an attribute to the element you just opened. If you use this method when you have not just opened an element, you’ll get an erro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UseXmlTextWriter uses an XmlTextWriter to build an XML file. It creates a new XmlTextWriter and sets Formatting to Formatting.Ind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uses WriteStartDocument to make the XML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lls other XmlTextWriter methods to make a comment and a data root element named IceCr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at element, the program adds another comment and a Flavor element. It gives this element an  attribute named Type with value Favorite. It then uses the WriteString method to add the string value Chocolate inside the element and calls WriteEndElement to close the Flavor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creates two string elements named Flavor and containing the text Strawberry and Vanill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WriteEndElement to close the IceCream root node and calls Close to close the document.</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is the resul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written an XML file with XmlTextWriter, you now need to know how to read it. The XmlTextReader provides methods that you can use to move through the file. Unfortunately the complexity allowed in XML files means this isn’t a completely straightforward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XmlTextReader’s more important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Content: Skips the XML declaration and any initial comments, and moves to the data roo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akes the reader read the next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turns the current node’s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Attribute: Returns a specific attribute’s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lementString: Reads the text in a simple string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Close the XML documen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ReadOrder uses this test data. The file has a root element named Order that contains Item elements. Each Item element has a Quantity attribute and a text valu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starts by creating an XmlTextReader and opening the XML file. It calls MoveToContent to skip to the data root node and then calls Read to read the next node. This should be the first Item elemen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program loops while it is reading a node name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Item element, the program gets the item’s Quantity attribute. It then adds the item’s text and quantity to a ListBox. Note that calling ReadElementString automatically advances the XmlTextReader to the nex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runs out of Item elements, the program closes the file.</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TextReader provides lots of other methods for moving through an XML file. These mostly allow you to move through the file more carefu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tartElement, ReadEndElement: These read an element’s start and end t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tring: Reads the contents of a text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tributeValue: Reads an attribute value as a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Count: Returns the number of attributes the current element h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Attribute: Moves to a particular attribute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FirstAttribute, MoveToNextAttribute: Moves to the first or next attrib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ToElement: Moves to the element that contains the current attrib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Skips the current node’s children. This can be handy for skipping deeply nested parts of the document hierarch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is an alternative method for reading an XML file in a forward-only fashion. SAX was developed on Unix systems and there are several SAX implementations available. Microsoft has its own that you can download from their Web si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s an example XML file with some of its more important features label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oring the initial comment, the file begins with an XML declaration processing instruction. This tells whatever program is reading the file that it is XML version 1.0 (the only version currently defined), the character set is normal UTF-8, and that the file doesn’t require any external declar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XML declaration is the most common processing instruction and some applications refuse to read an XML file if it doesn’t include a declaration.</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stands for Simple API for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TextReader is procedural. You tell it what to do and it does it. For example, read an attribute, read an element’s text, skip a nod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is event-oriented. It processes the file and executes callbacks when it encounters various types of nod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llustrates the two approach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Microsoft’s implementation of SAX, you need to implement two interfaces. Typically you will implement these in two classes that provide the necessary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know why Microsoft did it this way instead of providing simple classes with ev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BSAXErrorHandler defines error handling functions that the SAX library may need. Currently Microsoft’s library only calls the CatchFatalError routine but you need to define the other two as w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BSAXContentHandler defines a bunch of routines that SAX calls when it reads various parts of the XML documen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AXOrders reads this XML file. An Orders root element contains a series of Order elements. Each Order element holds some customer information and Item elements. Each Item has a UnitPrice attribute and a Quantity attribut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 main program gets the whole thing started. It creates a new SAXXMLReader object to read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new OrderErrorHandler and OrderContentHandler objects. These are the classes that implement the two interfaces needed by SA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declares these objects WithEvents so it can easily catch events that they rais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starts, the main program tells the SAXXMLReader what objects to use for its content handler and error hand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reader’s parseURL method to read and process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done, the program displays a grand total that I’ll describe shortly.</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calls the ContentHandler object’s </a:t>
            </a:r>
            <a:r>
              <a:rPr b="0" lang="en-US" sz="1200" spc="-1" strike="noStrike">
                <a:solidFill>
                  <a:srgbClr val="000000"/>
                </a:solidFill>
                <a:latin typeface="Courier New"/>
              </a:rPr>
              <a:t>CatchStartElement method when it reads an element. This code determines whether the element is an Order or Item. If it’s an Order, the code resets the m_OrderTotal value to 0 to indicate that the new Order has no items yet.</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f this is an Item, the code adds the item’s UnitPrice times its Quantity to the order tota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calls the content handler object’s </a:t>
            </a:r>
            <a:r>
              <a:rPr b="0" lang="en-US" sz="1200" spc="-1" strike="noStrike">
                <a:solidFill>
                  <a:srgbClr val="000000"/>
                </a:solidFill>
                <a:latin typeface="Courier New"/>
              </a:rPr>
              <a:t>CatchEndElement method when it reads the end of an element. If this is an Order element, the </a:t>
            </a:r>
            <a:r>
              <a:rPr b="0" lang="en-US" sz="1200" spc="-1" strike="noStrike">
                <a:solidFill>
                  <a:srgbClr val="000000"/>
                </a:solidFill>
                <a:latin typeface="Arial"/>
              </a:rPr>
              <a:t>content handler object </a:t>
            </a:r>
            <a:r>
              <a:rPr b="0" lang="en-US" sz="1200" spc="-1" strike="noStrike">
                <a:solidFill>
                  <a:srgbClr val="000000"/>
                </a:solidFill>
                <a:latin typeface="Courier New"/>
              </a:rPr>
              <a:t>raises the OrderTotaled even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main program catches this event and adds the order total to its output and to its grand total.</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zation is the process of converting some sort of data into a serial stream. Often the stream is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ation is the process of converting the stream back into the origina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can be just about anything. In particular, Visual Studio makes it relatively easy to store all of the information you need to represent an object. This lets you serialize and deserialize obje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rrange data in an XML file in any way you like as long as you have one data root element and other elements are properly nested. However, there are a few common data arrang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structure is relatively shallow, holding a simple list of items.</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SerializeOrder serializes and deserializes information about a series of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Item class has three methods: Price, Quantity, an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serializes an item as shown in this XML code fragment. Price is stored in an attribute named Cost and Quantity is stored in the attribute Number (I changed the names just so you could see how it’s done). The Item value is stored as a simple text element named Item.</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the OrderItem class’s decla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Element declaration before the Item variable tells the serializer that this variable should be stored as an XML element named I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Courier New"/>
              </a:rPr>
              <a:t>XmlAttributeAttribute declaration before the Price variable tells the serializer to store this variable as an attribute named Cost.</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class provides its Quantity value using a property procedure. The XmlAttributeAttribute declaration before this function tells the serializer to store the Quantity value an attribute named Number.</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ter when the serializer needs to get or set this value, it is smart enough to use the property procedur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OrderItem class holds two constructor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program SerializeOrder serializes an array containing three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creates an array of OrderItems and places data in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reates an XmlSerializer object, passing the type of data it wants to serialize into the constructor. In this case, the data type is an array of Order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makes a FileStream object and uses it to open the file it wants to cre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the serializer’s Serialize method, passing it the file stream and the array of objects to serialize. It closes the file stream and is don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ing the data is about as easy. The program creates an XmlSerializer, passing its constructor the type of object it will deserialize. It uses a file stream to open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declares an array of OrtderItem objects. It then sets this array to the result of the serializer’s Deserialize method. Note that the code uses CType to coerce the result into the right data ty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loses the file stream and displays the result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tudio provides several other serialization cap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aryFormatter class serializes and deserializes using a more compact binary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apFormatter class uses a SOAP (Simple Object Access Protocol) envel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ializer classes provided by Visual Studio can handle binary data (such as images) and can automatically serialize sub-items. Some of the serializer classes can handle “parenthood loops” where an object has a reference to another object that has a reference to the fir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ISerializable interface allows an object to completely control its own serialization and deserializa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shows how to serialize and deserialize images (if we have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erarchical structure holds some sort of deep hierarchy such as a company organizational char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rialize an image, example program SerializeImage creates a BinaryFormatter object. It creates a file with a file stream object and calls the BinaryFormatter’s Serialize method to write an image’s serialization into the file. That’s all there is to i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ializing the image is just as easy. The program creates a BinaryFormatter object, opens the serialization file, and calls the formatter’s Deserialize method. It uses CType to coerce the result into an Image object and displays the result in a Picture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etty cool but it removes one of XML’s main advantages: its simplicity. You cannot see the image as simple text. Realistically you wouldn’t want to but you might want to embed a picture in a text XML file. In that case, you need a textual serialization for the imag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rializeImageText creates an XML file using an XmlTextWriter. It starts an element named Picture and gives it an Encoding attribute with value Base64. This isn’t necessary to the XmlTextWriter but it will let you later know what kind of image you are rea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creates a memory stream and uses the Image’s Save method to write it into the stream. The program then copies the memory stream’s contents into a byte array.</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saves the number of bytes in the image data as an attribute. Notice that this is the number of binary bytes in the memory stream not the length of the textual representation that we are about to cre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the XmlTextWriter’s WriteBase64 method to write the binary data into the XML file using the Base64 encoding. (There is also a similar BinHex enco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loses the Picture element and the XML fil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with LOTS of data omitted). You can see the Encoding and NumBytes attributes in the Picture’s element’s starting tag.</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eserialize the image by performing inverse operations in reverse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reates an XmlTextReader object and makes it read the XML data until it finds an element named Picture. It gets the NumBytes attribute and allocates a Byte array large enough to hold the data. It then calls the reader’s ReadBase64 method to convert the textual data back into the original bytes. It makes a new memory stream using the bytes and uses the Image class’s FromStream method to convert the bytes into a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nk Pile” holds a seemingly random assortment of data. This data is a tiny part of a Word 2003 document saved in Word XML format. (It’s kind of instructive to save a simple file and look at the XML cont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00CC6-D3E2-4013-8195-0D51B3951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E9130-AB6D-4FD0-AAA4-915C8F68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C335E-F29D-47A4-B44F-4BECA0656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5B782-9C98-4644-93C5-DB0516224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10648-4C6D-4D2B-90FD-3A1A62324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D0B5C-9512-469E-8DEE-4EF47F9A5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8A916-45E0-4F13-B57F-0D93FE825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1D58E-81B3-4DF2-8D51-D1ECA7E99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DD007-DC07-4284-B7FB-A1C1A14AB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25195-5B39-4D44-9BB4-FE30CEF62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DAC3E-83F2-48C7-BF9A-6C9B2B64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CF0EC-5C74-4D17-9A4F-2F2F6C39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E44A5-ABD6-49DD-946A-61E9A498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84E7B-401D-4FDF-A652-202217A68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7BAD2-7CBB-4C42-8522-AF3BBF58D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C6053-D2B5-438E-93D6-D24A345D6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08D77-1B4C-4EE7-A7F0-27CBEC05C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6A172-C246-4940-A580-53A045E5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828F4-26E8-481B-9281-118A8406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256C-22EC-47ED-8E4F-E548CB4D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168B-6C45-4178-9969-B7659F1E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721F-F4E7-48B8-9D08-F66EA97C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456A-E8B5-4B00-BA47-94266616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6965-331E-464C-B34E-2A64CA664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26DB-A31A-4BD1-8FC4-4D7CF5CB4F8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C9D4-AAEC-4AF3-91B5-6E53C2DE7C7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http://www.vb-helper.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vb-helper.com/ccl.htm" TargetMode="External"/><Relationship Id="rId2" Type="http://schemas.openxmlformats.org/officeDocument/2006/relationships/image" Target="../media/image1.jpeg"/><Relationship Id="rId3" Type="http://schemas.openxmlformats.org/officeDocument/2006/relationships/hyperlink" Target="http://www.vb-helper.com/err.htm" TargetMode="External"/><Relationship Id="rId4" Type="http://schemas.openxmlformats.org/officeDocument/2006/relationships/image" Target="../media/image2.jpeg"/><Relationship Id="rId5" Type="http://schemas.openxmlformats.org/officeDocument/2006/relationships/hyperlink" Target="http://www.vb-helper.com/vba.htm" TargetMode="External"/><Relationship Id="rId6" Type="http://schemas.openxmlformats.org/officeDocument/2006/relationships/image" Target="../media/image3.jpeg"/><Relationship Id="rId7" Type="http://schemas.openxmlformats.org/officeDocument/2006/relationships/hyperlink" Target="http://www.vb-helper.com/avbt.htm" TargetMode="External"/><Relationship Id="rId8" Type="http://schemas.openxmlformats.org/officeDocument/2006/relationships/image" Target="../media/image4.jpeg"/><Relationship Id="rId9" Type="http://schemas.openxmlformats.org/officeDocument/2006/relationships/hyperlink" Target="http://www.vb-helper.com/vbcl.htm" TargetMode="External"/><Relationship Id="rId10" Type="http://schemas.openxmlformats.org/officeDocument/2006/relationships/image" Target="../media/image5.jpeg"/><Relationship Id="rId11" Type="http://schemas.openxmlformats.org/officeDocument/2006/relationships/hyperlink" Target="http://www.vb-helper.com/proto.htm" TargetMode="External"/><Relationship Id="rId12" Type="http://schemas.openxmlformats.org/officeDocument/2006/relationships/image" Target="../media/image6.jpeg"/><Relationship Id="rId13" Type="http://schemas.openxmlformats.org/officeDocument/2006/relationships/hyperlink" Target="http://www.vb-helper.com/da.htm" TargetMode="External"/><Relationship Id="rId14" Type="http://schemas.openxmlformats.org/officeDocument/2006/relationships/image" Target="../media/image7.jpeg"/><Relationship Id="rId15" Type="http://schemas.openxmlformats.org/officeDocument/2006/relationships/hyperlink" Target="http://www.vb-helper.com/vbdb.htm" TargetMode="External"/><Relationship Id="rId16" Type="http://schemas.openxmlformats.org/officeDocument/2006/relationships/image" Target="../media/image8.jpeg"/><Relationship Id="rId17" Type="http://schemas.openxmlformats.org/officeDocument/2006/relationships/hyperlink" Target="http://www.vb-helper.com/vbgp.htm" TargetMode="External"/><Relationship Id="rId18" Type="http://schemas.openxmlformats.org/officeDocument/2006/relationships/image" Target="../media/image9.jpeg"/><Relationship Id="rId19" Type="http://schemas.openxmlformats.org/officeDocument/2006/relationships/hyperlink" Target="http://www.vb-helper.com/xml.htm" TargetMode="External"/><Relationship Id="rId20" Type="http://schemas.openxmlformats.org/officeDocument/2006/relationships/image" Target="../media/image10.jpeg"/><Relationship Id="rId21" Type="http://schemas.openxmlformats.org/officeDocument/2006/relationships/hyperlink" Target="http://www.vb-helper.com/office.htm" TargetMode="External"/><Relationship Id="rId22" Type="http://schemas.openxmlformats.org/officeDocument/2006/relationships/image" Target="../media/image11.jpe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suction.wav"/><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B .NET and XML</a:t>
            </a:r>
            <a:endParaRPr b="1" lang="en-US" sz="4400" spc="-1" strike="noStrike">
              <a:solidFill>
                <a:srgbClr val="eaeaea"/>
              </a:solidFill>
              <a:latin typeface="Tahoma"/>
            </a:endParaRPr>
          </a:p>
        </p:txBody>
      </p:sp>
      <p:sp>
        <p:nvSpPr>
          <p:cNvPr id="117" name=""/>
          <p:cNvSpPr/>
          <p:nvPr/>
        </p:nvSpPr>
        <p:spPr>
          <a:xfrm>
            <a:off x="1066680" y="4800600"/>
            <a:ext cx="5791320" cy="12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http://www.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vb-helper.com/vb_net_and_xml.html</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UK VBUG 2003 Annual Conference</a:t>
            </a:r>
          </a:p>
        </p:txBody>
      </p:sp>
      <p:sp>
        <p:nvSpPr>
          <p:cNvPr id="4" name="PlaceHolder 3"/>
          <p:cNvSpPr>
            <a:spLocks noGrp="1"/>
          </p:cNvSpPr>
          <p:nvPr>
            <p:ph type="sldNum" idx="6"/>
          </p:nvPr>
        </p:nvSpPr>
        <p:spPr/>
        <p:txBody>
          <a:bodyPr/>
          <a:p>
            <a:fld id="{6A1A008C-009F-4E47-9DFE-4CB20011D038}" type="slidenum">
              <a:t>1</a:t>
            </a:fld>
          </a:p>
        </p:txBody>
      </p:sp>
      <p:sp>
        <p:nvSpPr>
          <p:cNvPr id="5" name="PlaceHolder 4"/>
          <p:cNvSpPr>
            <a:spLocks noGrp="1"/>
          </p:cNvSpPr>
          <p:nvPr>
            <p:ph type="dt" idx="4"/>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Junk pi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Database</a:t>
            </a:r>
            <a:endParaRPr b="0" lang="en-US" sz="3200" spc="-1" strike="noStrike">
              <a:solidFill>
                <a:srgbClr val="ffffff"/>
              </a:solidFill>
              <a:latin typeface="Tahoma"/>
            </a:endParaRPr>
          </a:p>
        </p:txBody>
      </p:sp>
      <p:sp>
        <p:nvSpPr>
          <p:cNvPr id="164" name=""/>
          <p:cNvSpPr/>
          <p:nvPr/>
        </p:nvSpPr>
        <p:spPr>
          <a:xfrm>
            <a:off x="4191120" y="1905120"/>
            <a:ext cx="4419360" cy="3809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Anderson&lt;/La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Andy&lt;/Fir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gt;8901&lt;/Extension&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ffice&gt;8-254&lt;/Offic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itle&gt;MTS&lt;/Titl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Baker&lt;/La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Beatrice&lt;/FirstNam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239E4E0-FD9A-438F-AD86-E5C4106FA63D}" type="slidenum">
              <a:t>1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s and Cons</a:t>
            </a:r>
            <a:endParaRPr b="1" lang="en-US" sz="4400" spc="-1" strike="noStrike">
              <a:solidFill>
                <a:srgbClr val="eaeaea"/>
              </a:solidFill>
              <a:latin typeface="Tahoma"/>
            </a:endParaRPr>
          </a:p>
        </p:txBody>
      </p:sp>
      <p:sp>
        <p:nvSpPr>
          <p:cNvPr id="16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Advantages</a:t>
            </a:r>
            <a:endParaRPr b="0" lang="en-US" sz="36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ized...</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l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a:t>
            </a:r>
            <a:endParaRPr b="0" lang="en-US" sz="2800" spc="-1" strike="noStrike">
              <a:solidFill>
                <a:srgbClr val="ffffff"/>
              </a:solidFill>
              <a:latin typeface="Tahoma"/>
            </a:endParaRPr>
          </a:p>
        </p:txBody>
      </p:sp>
      <p:sp>
        <p:nvSpPr>
          <p:cNvPr id="167"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Disadvantages</a:t>
            </a:r>
            <a:endParaRPr b="0" lang="en-US" sz="36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rt of</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bos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ic</a:t>
            </a:r>
            <a:endParaRPr b="0" lang="en-US" sz="2800" spc="-1" strike="noStrike">
              <a:solidFill>
                <a:srgbClr val="ffffff"/>
              </a:solidFill>
              <a:latin typeface="Tahoma"/>
            </a:endParaRPr>
          </a:p>
        </p:txBody>
      </p:sp>
      <p:sp>
        <p:nvSpPr>
          <p:cNvPr id="168"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050778FC-7CA3-40CD-B3CF-50DE1FDFAF55}" type="slidenum">
              <a:t>11</a:t>
            </a:fld>
          </a:p>
        </p:txBody>
      </p:sp>
      <p:sp>
        <p:nvSpPr>
          <p:cNvPr id="7" name="PlaceHolder 6"/>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553080" y="228600"/>
            <a:ext cx="2381400" cy="876240"/>
          </a:xfrm>
          <a:prstGeom prst="rect">
            <a:avLst/>
          </a:prstGeom>
          <a:ln w="0">
            <a:noFill/>
          </a:ln>
        </p:spPr>
      </p:pic>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lated Technologies</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 - </a:t>
            </a:r>
            <a:r>
              <a:rPr b="0" lang="en-US" sz="3200" spc="-1" strike="noStrike">
                <a:solidFill>
                  <a:srgbClr val="66ccff"/>
                </a:solidFill>
                <a:latin typeface="Tahoma"/>
              </a:rPr>
              <a:t>DTD</a:t>
            </a:r>
            <a:r>
              <a:rPr b="0" lang="en-US" sz="3200" spc="-1" strike="noStrike">
                <a:solidFill>
                  <a:srgbClr val="ffffff"/>
                </a:solidFill>
                <a:latin typeface="Tahoma"/>
              </a:rPr>
              <a:t>, XDR, XS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 XSLT, XPath</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Services, SOAP</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7CE1132-0D67-419D-BA69-7F314191EB75}" type="slidenum">
              <a:t>12</a:t>
            </a:fld>
          </a:p>
        </p:txBody>
      </p:sp>
      <p:sp>
        <p:nvSpPr>
          <p:cNvPr id="6" name="PlaceHolder 5"/>
          <p:cNvSpPr>
            <a:spLocks noGrp="1"/>
          </p:cNvSpPr>
          <p:nvPr>
            <p:ph type="dt" idx="1"/>
          </p:nvPr>
        </p:nvSpPr>
        <p:spPr/>
        <p:txBody>
          <a:bodyPr/>
          <a:p>
            <a:r>
              <a:rPr lang="en-US"/>
              <a:t>September 16-17, 2003</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685800" y="2622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CCF2935-488C-4CBA-A3E4-11595B38C93A}" type="slidenum">
              <a:t>1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Object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Attribu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Com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Nod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55C3664-17BB-4672-8957-37617B0FC084}" type="slidenum">
              <a:t>1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Document</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document as a who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 Sav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Xml, Outer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ument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e creat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164B4DD-DFCE-478D-BFF5-6FCEC9BDF45F}" type="slidenum">
              <a:t>1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Node</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77F6DB0-01AE-4709-A453-578F721C07FE}" type="slidenum">
              <a:t>1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D91BA27-CA4B-42EE-B4B1-24F463183BFC}" type="slidenum">
              <a:t>1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 Code (1)</a:t>
            </a: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turn information about this nod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Function DescribeNode(ByVal xml_node As XmlNode,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indent As Integer = 0)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ive the node's 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 Space(indent) &amp; xml_node.GetType.ToString &amp; ": " &amp;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node.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heck for attribu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xml_node.Attributes Is Nothing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Attributes.Count &gt; 0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attr As XmlAttribute In xml_node.Attribu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attr.Name &amp; "=" &amp; attr.Value &amp; ",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att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 txt.Substring(0, txt.Length - 2) &amp;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185" name=""/>
          <p:cNvSpPr/>
          <p:nvPr/>
        </p:nvSpPr>
        <p:spPr>
          <a:xfrm rot="10800000">
            <a:off x="227160" y="4030560"/>
            <a:ext cx="454680" cy="217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Walk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3DC87C6-3B51-4CFB-B720-A4642A21A61F}" type="slidenum">
              <a:t>1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 Code (2)</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f this is a text node, display the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TypeOf (xml_node) Is XmlText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xml_node.Value &amp;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scribe the node's childr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HasChildNodes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child As XmlNode In xml_node.Child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DescribeNode(child, indent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chil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t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188" name=""/>
          <p:cNvSpPr/>
          <p:nvPr/>
        </p:nvSpPr>
        <p:spPr>
          <a:xfrm rot="10800000">
            <a:off x="227160" y="4030560"/>
            <a:ext cx="454680" cy="217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Walk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23C466A-3F1A-42D5-8C61-3E8675241864}" type="slidenum">
              <a:t>1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295280" y="2133720"/>
            <a:ext cx="7162920" cy="3276360"/>
          </a:xfrm>
          <a:prstGeom prst="ellipse">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a:hlinkClick r:id="rId1"/>
          </p:cNvPr>
          <p:cNvPicPr/>
          <p:nvPr/>
        </p:nvPicPr>
        <p:blipFill>
          <a:blip r:embed="rId2"/>
          <a:stretch/>
        </p:blipFill>
        <p:spPr>
          <a:xfrm>
            <a:off x="6400800" y="4583160"/>
            <a:ext cx="822240" cy="1028520"/>
          </a:xfrm>
          <a:prstGeom prst="rect">
            <a:avLst/>
          </a:prstGeom>
          <a:ln w="0">
            <a:noFill/>
          </a:ln>
        </p:spPr>
      </p:pic>
      <p:pic>
        <p:nvPicPr>
          <p:cNvPr id="120" name="" descr="">
            <a:hlinkClick r:id="rId3"/>
          </p:cNvPr>
          <p:cNvPicPr/>
          <p:nvPr/>
        </p:nvPicPr>
        <p:blipFill>
          <a:blip r:embed="rId4"/>
          <a:stretch/>
        </p:blipFill>
        <p:spPr>
          <a:xfrm>
            <a:off x="6400800" y="1932120"/>
            <a:ext cx="822240" cy="1028520"/>
          </a:xfrm>
          <a:prstGeom prst="rect">
            <a:avLst/>
          </a:prstGeom>
          <a:ln w="0">
            <a:noFill/>
          </a:ln>
        </p:spPr>
      </p:pic>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ks</a:t>
            </a:r>
            <a:endParaRPr b="1" lang="en-US" sz="4400" spc="-1" strike="noStrike">
              <a:solidFill>
                <a:srgbClr val="eaeaea"/>
              </a:solidFill>
              <a:latin typeface="Tahoma"/>
            </a:endParaRPr>
          </a:p>
        </p:txBody>
      </p:sp>
      <p:pic>
        <p:nvPicPr>
          <p:cNvPr id="122" name="" descr="">
            <a:hlinkClick r:id="rId5"/>
          </p:cNvPr>
          <p:cNvPicPr/>
          <p:nvPr/>
        </p:nvPicPr>
        <p:blipFill>
          <a:blip r:embed="rId6"/>
          <a:stretch/>
        </p:blipFill>
        <p:spPr>
          <a:xfrm>
            <a:off x="2514600" y="1920960"/>
            <a:ext cx="822240" cy="1028520"/>
          </a:xfrm>
          <a:prstGeom prst="rect">
            <a:avLst/>
          </a:prstGeom>
          <a:ln w="0">
            <a:noFill/>
          </a:ln>
        </p:spPr>
      </p:pic>
      <p:pic>
        <p:nvPicPr>
          <p:cNvPr id="123" name="" descr="">
            <a:hlinkClick r:id="rId7"/>
          </p:cNvPr>
          <p:cNvPicPr/>
          <p:nvPr/>
        </p:nvPicPr>
        <p:blipFill>
          <a:blip r:embed="rId8"/>
          <a:stretch/>
        </p:blipFill>
        <p:spPr>
          <a:xfrm>
            <a:off x="2514600" y="4572000"/>
            <a:ext cx="822240" cy="1028880"/>
          </a:xfrm>
          <a:prstGeom prst="rect">
            <a:avLst/>
          </a:prstGeom>
          <a:ln w="0">
            <a:noFill/>
          </a:ln>
        </p:spPr>
      </p:pic>
      <p:pic>
        <p:nvPicPr>
          <p:cNvPr id="124" name="" descr="">
            <a:hlinkClick r:id="rId9"/>
          </p:cNvPr>
          <p:cNvPicPr/>
          <p:nvPr/>
        </p:nvPicPr>
        <p:blipFill>
          <a:blip r:embed="rId10"/>
          <a:stretch/>
        </p:blipFill>
        <p:spPr>
          <a:xfrm>
            <a:off x="1230480" y="2666880"/>
            <a:ext cx="822240" cy="1028880"/>
          </a:xfrm>
          <a:prstGeom prst="rect">
            <a:avLst/>
          </a:prstGeom>
          <a:ln w="0">
            <a:noFill/>
          </a:ln>
        </p:spPr>
      </p:pic>
      <p:pic>
        <p:nvPicPr>
          <p:cNvPr id="125" name="" descr="">
            <a:hlinkClick r:id="rId11"/>
          </p:cNvPr>
          <p:cNvPicPr/>
          <p:nvPr/>
        </p:nvPicPr>
        <p:blipFill>
          <a:blip r:embed="rId12"/>
          <a:stretch/>
        </p:blipFill>
        <p:spPr>
          <a:xfrm>
            <a:off x="1219320" y="3886200"/>
            <a:ext cx="846000" cy="1028880"/>
          </a:xfrm>
          <a:prstGeom prst="rect">
            <a:avLst/>
          </a:prstGeom>
          <a:ln w="0">
            <a:noFill/>
          </a:ln>
        </p:spPr>
      </p:pic>
      <p:pic>
        <p:nvPicPr>
          <p:cNvPr id="126" name="" descr="">
            <a:hlinkClick r:id="rId13"/>
          </p:cNvPr>
          <p:cNvPicPr/>
          <p:nvPr/>
        </p:nvPicPr>
        <p:blipFill>
          <a:blip r:embed="rId14"/>
          <a:stretch/>
        </p:blipFill>
        <p:spPr>
          <a:xfrm>
            <a:off x="4465800" y="4896000"/>
            <a:ext cx="822240" cy="1028520"/>
          </a:xfrm>
          <a:prstGeom prst="rect">
            <a:avLst/>
          </a:prstGeom>
          <a:ln w="0">
            <a:noFill/>
          </a:ln>
        </p:spPr>
      </p:pic>
      <p:pic>
        <p:nvPicPr>
          <p:cNvPr id="127" name="" descr="">
            <a:hlinkClick r:id="rId15"/>
          </p:cNvPr>
          <p:cNvPicPr/>
          <p:nvPr/>
        </p:nvPicPr>
        <p:blipFill>
          <a:blip r:embed="rId16"/>
          <a:stretch/>
        </p:blipFill>
        <p:spPr>
          <a:xfrm>
            <a:off x="7696080" y="3886200"/>
            <a:ext cx="868320" cy="1028880"/>
          </a:xfrm>
          <a:prstGeom prst="rect">
            <a:avLst/>
          </a:prstGeom>
          <a:ln w="0">
            <a:noFill/>
          </a:ln>
        </p:spPr>
      </p:pic>
      <p:sp>
        <p:nvSpPr>
          <p:cNvPr id="128" name=""/>
          <p:cNvSpPr/>
          <p:nvPr/>
        </p:nvSpPr>
        <p:spPr>
          <a:xfrm>
            <a:off x="3819600" y="2449440"/>
            <a:ext cx="2203200" cy="2714760"/>
          </a:xfrm>
          <a:prstGeom prst="rect">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a:hlinkClick r:id="rId17"/>
          </p:cNvPr>
          <p:cNvPicPr/>
          <p:nvPr/>
        </p:nvPicPr>
        <p:blipFill>
          <a:blip r:embed="rId18"/>
          <a:stretch/>
        </p:blipFill>
        <p:spPr>
          <a:xfrm>
            <a:off x="4465800" y="1620720"/>
            <a:ext cx="822240" cy="1027080"/>
          </a:xfrm>
          <a:prstGeom prst="rect">
            <a:avLst/>
          </a:prstGeom>
          <a:ln w="0">
            <a:noFill/>
          </a:ln>
        </p:spPr>
      </p:pic>
      <p:pic>
        <p:nvPicPr>
          <p:cNvPr id="130" name="" descr="">
            <a:hlinkClick r:id="rId19"/>
          </p:cNvPr>
          <p:cNvPicPr/>
          <p:nvPr/>
        </p:nvPicPr>
        <p:blipFill>
          <a:blip r:embed="rId20"/>
          <a:stretch/>
        </p:blipFill>
        <p:spPr>
          <a:xfrm>
            <a:off x="3733920" y="2362320"/>
            <a:ext cx="2200320" cy="2714400"/>
          </a:xfrm>
          <a:prstGeom prst="rect">
            <a:avLst/>
          </a:prstGeom>
          <a:ln w="0">
            <a:noFill/>
          </a:ln>
        </p:spPr>
      </p:pic>
      <p:pic>
        <p:nvPicPr>
          <p:cNvPr id="131" name="" descr="">
            <a:hlinkClick r:id="rId21"/>
          </p:cNvPr>
          <p:cNvPicPr/>
          <p:nvPr/>
        </p:nvPicPr>
        <p:blipFill>
          <a:blip r:embed="rId22"/>
          <a:stretch/>
        </p:blipFill>
        <p:spPr>
          <a:xfrm>
            <a:off x="7746840" y="2671920"/>
            <a:ext cx="768600" cy="102060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1A85BB59-4054-4031-8022-6DCE58D6ED1B}" type="slidenum">
              <a:t>2</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cal Navigation</a:t>
            </a: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Child, LastChil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Sibling, PreviousSibl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Nod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wnerDocum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40DAF36-38BB-4796-A3DF-FBEC6484DBBE}" type="slidenum">
              <a:t>2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cal Navigation</a:t>
            </a: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192" name="" descr=""/>
          <p:cNvPicPr/>
          <p:nvPr/>
        </p:nvPicPr>
        <p:blipFill>
          <a:blip r:embed="rId1"/>
          <a:stretch/>
        </p:blipFill>
        <p:spPr>
          <a:xfrm>
            <a:off x="1542960" y="2135160"/>
            <a:ext cx="6745320" cy="388476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F7ADCD0F-7DAF-4F3A-8818-572424306463}" type="slidenum">
              <a:t>21</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ing Nodes</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to the 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to a ChildNodes or Attributes collec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5F19381-26F4-46EA-AE8D-A97F1F71B246}" type="slidenum">
              <a:t>2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ing an Element</a:t>
            </a:r>
            <a:endParaRPr b="1" lang="en-US" sz="4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the new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element 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element = xml_document.CreateElement(element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the element to the books_node's child collec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ooks_node.AppendChild(xml_element)</a:t>
            </a:r>
            <a:endParaRPr b="0" lang="en-US" sz="1400" spc="-1" strike="noStrike">
              <a:solidFill>
                <a:srgbClr val="ffffff"/>
              </a:solidFill>
              <a:latin typeface="Tahoma"/>
            </a:endParaRPr>
          </a:p>
        </p:txBody>
      </p:sp>
      <p:sp>
        <p:nvSpPr>
          <p:cNvPr id="19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D4AD5C5-E99B-4532-93B9-761AE2F7D3F7}" type="slidenum">
              <a:t>2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Element</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new XmlElement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lement_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element As Xml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element = xml_document.CreateElement(element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0"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CA3C74A-F1EB-42E8-8843-A7ACC31C8C2F}" type="slidenum">
              <a:t>2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Attribute</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XmlAttribute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Attribut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ByVal xml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ByVal attribute_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attribute_valu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attribute As Xml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attribute = xml_document.CreateAttribute(attribute_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attribute.Value = attribute_val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node.Attributes.Append(xml_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3"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sp>
        <p:nvSpPr>
          <p:cNvPr id="20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E180208-FCFC-4A0E-8603-CB40540F6A18}" type="slidenum">
              <a:t>2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Declaration</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XML declaration to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Declaratio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version As String = "1.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encoding As String = Noth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ptional ByVal standalone As String = Noth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Make the 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declaration As Xml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eclaration = xml_document.CreateXmlDeclaratio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version, encoding, standal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Prepend the child so we know it's in the right pl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PrependChild(xml_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0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08" name="" descr=""/>
          <p:cNvPicPr/>
          <p:nvPr/>
        </p:nvPicPr>
        <p:blipFill>
          <a:blip r:embed="rId1"/>
          <a:stretch/>
        </p:blipFill>
        <p:spPr>
          <a:xfrm>
            <a:off x="6553080" y="228600"/>
            <a:ext cx="2381400" cy="876240"/>
          </a:xfrm>
          <a:prstGeom prst="rect">
            <a:avLst/>
          </a:prstGeom>
          <a:ln w="0">
            <a:noFill/>
          </a:ln>
        </p:spPr>
      </p:pic>
      <p:sp>
        <p:nvSpPr>
          <p:cNvPr id="20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3F1E5D4-4471-446D-980E-884AB5E6AEBA}" type="slidenum">
              <a:t>26</a:t>
            </a:fld>
          </a:p>
        </p:txBody>
      </p:sp>
      <p:sp>
        <p:nvSpPr>
          <p:cNvPr id="6" name="PlaceHolder 5"/>
          <p:cNvSpPr>
            <a:spLocks noGrp="1"/>
          </p:cNvSpPr>
          <p:nvPr>
            <p:ph type="dt" idx="1"/>
          </p:nvPr>
        </p:nvSpPr>
        <p:spPr/>
        <p:txBody>
          <a:bodyPr/>
          <a:p>
            <a:r>
              <a:rPr lang="en-US"/>
              <a:t>September 16-17, 2003</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Comment</a:t>
            </a: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comment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Com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comment_valu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comment As Xml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comment = xml_document.CreateComment(" "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ment_value &amp;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12"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13" name="" descr=""/>
          <p:cNvPicPr/>
          <p:nvPr/>
        </p:nvPicPr>
        <p:blipFill>
          <a:blip r:embed="rId1"/>
          <a:stretch/>
        </p:blipFill>
        <p:spPr>
          <a:xfrm>
            <a:off x="6553080" y="228600"/>
            <a:ext cx="2381400" cy="876240"/>
          </a:xfrm>
          <a:prstGeom prst="rect">
            <a:avLst/>
          </a:prstGeom>
          <a:ln w="0">
            <a:noFill/>
          </a:ln>
        </p:spPr>
      </p:pic>
      <p:sp>
        <p:nvSpPr>
          <p:cNvPr id="21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E6D5EC3-88C1-4F01-9CEC-563C5F5C0A28}" type="slidenum">
              <a:t>27</a:t>
            </a:fld>
          </a:p>
        </p:txBody>
      </p:sp>
      <p:sp>
        <p:nvSpPr>
          <p:cNvPr id="6" name="PlaceHolder 5"/>
          <p:cNvSpPr>
            <a:spLocks noGrp="1"/>
          </p:cNvSpPr>
          <p:nvPr>
            <p:ph type="dt" idx="1"/>
          </p:nvPr>
        </p:nvSpPr>
        <p:spPr/>
        <p:txBody>
          <a:bodyPr/>
          <a:p>
            <a:r>
              <a:rPr lang="en-US"/>
              <a:t>September 16-17, 20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XmlText</a:t>
            </a: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new XmlText node to the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XmlTex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xml_document As XmlDocu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parent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lement_text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s Xml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new XmlText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text As Xml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 = xml_document.CreateTextNode(element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node.AppendChild(xml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xml_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17" name=""/>
          <p:cNvSpPr/>
          <p:nvPr/>
        </p:nvSpPr>
        <p:spPr>
          <a:xfrm rot="10800000">
            <a:off x="227160" y="3950280"/>
            <a:ext cx="454680" cy="226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ule: XmlStuff.vb</a:t>
            </a:r>
            <a:endParaRPr b="0" lang="en-US" sz="1800" spc="-1" strike="noStrike">
              <a:solidFill>
                <a:srgbClr val="ffffff"/>
              </a:solidFill>
              <a:latin typeface="Arial"/>
            </a:endParaRPr>
          </a:p>
        </p:txBody>
      </p:sp>
      <p:pic>
        <p:nvPicPr>
          <p:cNvPr id="218"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97D7834-B3CB-4296-A1E7-0DD1374A7638}" type="slidenum">
              <a:t>28</a:t>
            </a:fld>
          </a:p>
        </p:txBody>
      </p:sp>
      <p:sp>
        <p:nvSpPr>
          <p:cNvPr id="6" name="PlaceHolder 5"/>
          <p:cNvSpPr>
            <a:spLocks noGrp="1"/>
          </p:cNvSpPr>
          <p:nvPr>
            <p:ph type="dt" idx="1"/>
          </p:nvPr>
        </p:nvSpPr>
        <p:spPr/>
        <p:txBody>
          <a:bodyPr/>
          <a:p>
            <a:r>
              <a:rPr lang="en-US"/>
              <a:t>September 16-17, 2003</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BuildDom (1)</a:t>
            </a:r>
            <a:endParaRPr b="1" lang="en-US" sz="44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XML declar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Declaration(xml_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a com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Comment(xml_document, xml_document, " Book lis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data root element, Book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ooks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ument, xml_document, "Book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a Book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ook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ument, books_node, "Book")</a:t>
            </a:r>
            <a:endParaRPr b="0" lang="en-US" sz="1400" spc="-1" strike="noStrike">
              <a:solidFill>
                <a:srgbClr val="ffffff"/>
              </a:solidFill>
              <a:latin typeface="Tahoma"/>
            </a:endParaRPr>
          </a:p>
        </p:txBody>
      </p:sp>
      <p:sp>
        <p:nvSpPr>
          <p:cNvPr id="221" name=""/>
          <p:cNvSpPr/>
          <p:nvPr/>
        </p:nvSpPr>
        <p:spPr>
          <a:xfrm rot="10800000">
            <a:off x="227160" y="4016880"/>
            <a:ext cx="454680" cy="2202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Buil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3880851-09D2-4054-AA99-4ED134752CC8}" type="slidenum">
              <a:t>2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Slides!</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A01AD57-4D09-4B3A-AD77-81F4A1CB1830}" type="slidenum">
              <a:t>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BuildDom (2)</a:t>
            </a:r>
            <a:endParaRPr b="1" lang="en-US" sz="4400" spc="-1" strike="noStrike">
              <a:solidFill>
                <a:srgbClr val="eaeaea"/>
              </a:solidFill>
              <a:latin typeface="Tahoma"/>
            </a:endParaRPr>
          </a:p>
        </p:txBody>
      </p:sp>
      <p:sp>
        <p:nvSpPr>
          <p:cNvPr id="2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Book attribut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rice", "$39.99")</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ages", "50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Price", "$39.99")</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Attribute(xml_document, book_node, "Year", "200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se sub-elements containing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itle", "Visual Basic .NET and 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SBN", "0-471-12060-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ument, book_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uthor", "Rod Stephen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resul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Save(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24" name=""/>
          <p:cNvSpPr/>
          <p:nvPr/>
        </p:nvSpPr>
        <p:spPr>
          <a:xfrm rot="10800000">
            <a:off x="227160" y="4016880"/>
            <a:ext cx="454680" cy="2202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Buil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61A3F41-06FB-4960-BCAF-82F262F15082}" type="slidenum">
              <a:t>3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adXml Shortcut</a:t>
            </a:r>
            <a:endParaRPr b="1" lang="en-US" sz="4400" spc="-1" strike="noStrike">
              <a:solidFill>
                <a:srgbClr val="eaeaea"/>
              </a:solidFill>
              <a:latin typeface="Tahoma"/>
            </a:endParaRPr>
          </a:p>
        </p:txBody>
      </p:sp>
      <p:sp>
        <p:nvSpPr>
          <p:cNvPr id="2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static XML files, LoadXml is easier</a:t>
            </a:r>
            <a:endParaRPr b="0" lang="en-US" sz="3200" spc="-1" strike="noStrike">
              <a:solidFill>
                <a:srgbClr val="ffffff"/>
              </a:solidFill>
              <a:latin typeface="Tahoma"/>
            </a:endParaRPr>
          </a:p>
        </p:txBody>
      </p:sp>
      <p:sp>
        <p:nvSpPr>
          <p:cNvPr id="227" name=""/>
          <p:cNvSpPr/>
          <p:nvPr/>
        </p:nvSpPr>
        <p:spPr>
          <a:xfrm rot="10800000">
            <a:off x="227160" y="403236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FA3B436-F8D1-4D11-A2B6-339AA25E4715}" type="slidenum">
              <a:t>3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LoadDom</a:t>
            </a:r>
            <a:endParaRPr b="1" lang="en-US" sz="4400" spc="-1" strike="noStrike">
              <a:solidFill>
                <a:srgbClr val="eaeaea"/>
              </a:solidFill>
              <a:latin typeface="Tahoma"/>
            </a:endParaRPr>
          </a:p>
        </p:txBody>
      </p:sp>
      <p:sp>
        <p:nvSpPr>
          <p:cNvPr id="2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new XmlDocument objec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oad the XML data.</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xml_document.LoadXml(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lt;?xml version=""1.0""?&gt;" </a:t>
            </a:r>
            <a:r>
              <a:rPr b="0" lang="en-US" sz="1400" spc="-1" strike="noStrike">
                <a:solidFill>
                  <a:srgbClr val="ffffff"/>
                </a:solidFill>
                <a:latin typeface="Courier New"/>
              </a:rPr>
              <a:t>&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Book list  --&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Books&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Book Pages=""503"" Price=""$39.99"" Year=""2002""&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Title&gt;Visual Basic .NET and XML&lt;/Title&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ISBN&gt;0-471-12060-X&lt;/ISBN&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URL&gt;http://www.vb-helper.com/xml.htm&lt;/URL&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Picture&gt;http://www.vb-helper.com/xmls.jpg&lt;/Picture&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Author&gt;Rod Stephens&lt;/Author&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Author&gt;Brian Hochgurtel&lt;/Author&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lt;/Book&gt;" &amp;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Books&gt;")</a:t>
            </a:r>
            <a:endParaRPr b="0" lang="en-US" sz="1400" spc="-1" strike="noStrike">
              <a:solidFill>
                <a:srgbClr val="ffffff"/>
              </a:solidFill>
              <a:latin typeface="Tahoma"/>
            </a:endParaRPr>
          </a:p>
        </p:txBody>
      </p:sp>
      <p:sp>
        <p:nvSpPr>
          <p:cNvPr id="230" name=""/>
          <p:cNvSpPr/>
          <p:nvPr/>
        </p:nvSpPr>
        <p:spPr>
          <a:xfrm rot="10800000">
            <a:off x="227160" y="403236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4FFDDB5-15D4-45F3-8790-19D7179B182C}" type="slidenum">
              <a:t>3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nding Things</a:t>
            </a: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SingleNod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ElementsByTagNam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83C8788-11F9-4B68-9822-FB1186553354}" type="slidenum">
              <a:t>3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 Little XPath</a:t>
            </a:r>
            <a:endParaRPr b="1" lang="en-US" sz="44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a directory path</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dcards:</a:t>
            </a:r>
            <a:endParaRPr b="0" lang="en-US" sz="32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	</a:t>
            </a:r>
            <a:r>
              <a:rPr b="0" lang="en-US" sz="2400" spc="-1" strike="noStrike">
                <a:solidFill>
                  <a:srgbClr val="ffffcc"/>
                </a:solidFill>
                <a:latin typeface="Tahoma"/>
              </a:rPr>
              <a:t>Skips any number of intermediate nodes</a:t>
            </a:r>
            <a:endParaRPr b="0" lang="en-US" sz="2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_document.</a:t>
            </a:r>
            <a:r>
              <a:rPr b="0" lang="en-US" sz="1400" spc="-1" strike="noStrike">
                <a:solidFill>
                  <a:srgbClr val="66ccff"/>
                </a:solidFill>
                <a:latin typeface="Courier New"/>
              </a:rPr>
              <a:t>SelectNodes("/Foods/Desserts//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
            </a:r>
            <a:r>
              <a:rPr b="0" lang="en-US" sz="2400" spc="-1" strike="noStrike">
                <a:solidFill>
                  <a:srgbClr val="ffffcc"/>
                </a:solidFill>
                <a:latin typeface="Tahoma"/>
              </a:rPr>
              <a:t>	</a:t>
            </a:r>
            <a:r>
              <a:rPr b="0" lang="en-US" sz="2400" spc="-1" strike="noStrike">
                <a:solidFill>
                  <a:srgbClr val="ffffcc"/>
                </a:solidFill>
                <a:latin typeface="Tahoma"/>
              </a:rPr>
              <a:t>Skips a single intermediate node</a:t>
            </a:r>
            <a:endParaRPr b="0" lang="en-US" sz="2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_document.</a:t>
            </a:r>
            <a:r>
              <a:rPr b="0" lang="en-US" sz="1400" spc="-1" strike="noStrike">
                <a:solidFill>
                  <a:srgbClr val="66ccff"/>
                </a:solidFill>
                <a:latin typeface="Courier New"/>
              </a:rPr>
              <a:t>SelectNodes("/Foods/Desserts/*/Chocolate")</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8680237-BDA0-4297-98AE-0BFA8A7662E5}" type="slidenum">
              <a:t>3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Database</a:t>
            </a: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Anderson&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Andy&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234-567-8901&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Home"&gt;987-654-3210&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ffice&gt;8-254&lt;/Offic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itle&gt;Senior Member of Technical Staff&lt;/Titl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CADD338-6906-4722-B6B5-8DAE1452B4D1}" type="slidenum">
              <a:t>35</a:t>
            </a:fld>
          </a:p>
        </p:txBody>
      </p:sp>
      <p:sp>
        <p:nvSpPr>
          <p:cNvPr id="6" name="PlaceHolder 5"/>
          <p:cNvSpPr>
            <a:spLocks noGrp="1"/>
          </p:cNvSpPr>
          <p:nvPr>
            <p:ph type="dt" idx="1"/>
          </p:nvPr>
        </p:nvSpPr>
        <p:spPr/>
        <p:txBody>
          <a:bodyPr/>
          <a:p>
            <a:r>
              <a:rPr lang="en-US"/>
              <a:t>September 16-17, 2003</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1)</a:t>
            </a:r>
            <a:endParaRPr b="1" lang="en-US" sz="4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new XmlDocument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oad the XML da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xml_document.Load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FirstName elemen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As String = "*** First Names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node_list As XmlNodeList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a:t>
            </a:r>
            <a:r>
              <a:rPr b="0" lang="en-US" sz="1400" spc="-1" strike="noStrike">
                <a:solidFill>
                  <a:srgbClr val="66ccff"/>
                </a:solidFill>
                <a:latin typeface="Courier New"/>
              </a:rPr>
              <a:t>SelectNodes("//FirstName")</a:t>
            </a:r>
            <a:endParaRPr b="0" lang="en-US" sz="14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List the first nam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Each first_name_node As XmlNode In node_lis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first_name_node.InnerTe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first_name_node</a:t>
            </a:r>
            <a:endParaRPr b="0" lang="en-US" sz="1400" spc="-1" strike="noStrike">
              <a:solidFill>
                <a:srgbClr val="ffffff"/>
              </a:solidFill>
              <a:latin typeface="Tahoma"/>
            </a:endParaRPr>
          </a:p>
        </p:txBody>
      </p:sp>
      <p:sp>
        <p:nvSpPr>
          <p:cNvPr id="239"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4827092-A48B-4F56-A229-ACC37A5C4D11}" type="slidenum">
              <a:t>3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2)</a:t>
            </a: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Baker's inform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vbCrLf &amp; "*** Baker's Information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aker_node As XmlNode = xml_document.</a:t>
            </a:r>
            <a:r>
              <a:rPr b="0" lang="en-US" sz="1400" spc="-1" strike="noStrike">
                <a:solidFill>
                  <a:srgbClr val="66ccff"/>
                </a:solidFill>
                <a:latin typeface="Courier New"/>
              </a:rPr>
              <a:t>SelectSingleNode("descendant::*[LastName='Bak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information about this Employee node's childr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Each xml_node As XmlNode In baker_node.Child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xml_nod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node.Attributes.Count &gt; 0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attr As String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attr_node As XmlAttribute In xml_node.Attribut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tr &amp;= attr_node.Name &amp; "=" &amp; attr_node.Value &amp;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attr_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attr.Substring(0, attr.Length - 2) &amp;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 " &amp; xml_node.InnerText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xml_node</a:t>
            </a:r>
            <a:endParaRPr b="0" lang="en-US" sz="1400" spc="-1" strike="noStrike">
              <a:solidFill>
                <a:srgbClr val="ffffff"/>
              </a:solidFill>
              <a:latin typeface="Tahoma"/>
            </a:endParaRPr>
          </a:p>
        </p:txBody>
      </p:sp>
      <p:sp>
        <p:nvSpPr>
          <p:cNvPr id="242"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A5B7774-D0CF-4437-887F-5D726B6DB1AE}" type="slidenum">
              <a:t>3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SelectNodes (3)</a:t>
            </a:r>
            <a:endParaRPr b="1" lang="en-US" sz="4400" spc="-1" strike="noStrike">
              <a:solidFill>
                <a:srgbClr val="eaeaea"/>
              </a:solidFill>
              <a:latin typeface="Tahoma"/>
            </a:endParaRPr>
          </a:p>
        </p:txBody>
      </p:sp>
      <p:sp>
        <p:nvSpPr>
          <p:cNvPr id="2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Cantu's offi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vbCrLf &amp; "*** Cantu's Office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antu_element As XmlElement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a:t>
            </a:r>
            <a:r>
              <a:rPr b="0" lang="en-US" sz="1400" spc="-1" strike="noStrike">
                <a:solidFill>
                  <a:srgbClr val="66ccff"/>
                </a:solidFill>
                <a:latin typeface="Courier New"/>
              </a:rPr>
              <a:t>SelectSingleNode("descendant::*[*='Cantu']")</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ffice_node As XmlNod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ntu_element.</a:t>
            </a:r>
            <a:r>
              <a:rPr b="0" lang="en-US" sz="1400" spc="-1" strike="noStrike">
                <a:solidFill>
                  <a:srgbClr val="66ccff"/>
                </a:solidFill>
                <a:latin typeface="Courier New"/>
              </a:rPr>
              <a:t>GetElementsByTagName("Office").Item(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amp;= office_node.InnerText &amp; vbCrLf</a:t>
            </a:r>
            <a:endParaRPr b="0" lang="en-US" sz="1400" spc="-1" strike="noStrike">
              <a:solidFill>
                <a:srgbClr val="ffffff"/>
              </a:solidFill>
              <a:latin typeface="Tahoma"/>
            </a:endParaRPr>
          </a:p>
        </p:txBody>
      </p:sp>
      <p:sp>
        <p:nvSpPr>
          <p:cNvPr id="245" name=""/>
          <p:cNvSpPr/>
          <p:nvPr/>
        </p:nvSpPr>
        <p:spPr>
          <a:xfrm rot="10800000">
            <a:off x="227160" y="3758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24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54724A9-D740-449B-A59E-970D65D4A984}" type="slidenum">
              <a:t>3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553080" y="228600"/>
            <a:ext cx="2381400" cy="876240"/>
          </a:xfrm>
          <a:prstGeom prst="rect">
            <a:avLst/>
          </a:prstGeom>
          <a:ln w="0">
            <a:noFill/>
          </a:ln>
        </p:spPr>
      </p:pic>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1)</a:t>
            </a:r>
            <a:endParaRPr b="1" lang="en-US" sz="4400" spc="-1" strike="noStrike">
              <a:solidFill>
                <a:srgbClr val="eaeaea"/>
              </a:solidFill>
              <a:latin typeface="Tahoma"/>
            </a:endParaRPr>
          </a:p>
        </p:txBody>
      </p:sp>
      <p:sp>
        <p:nvSpPr>
          <p:cNvPr id="2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etting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gt;159&lt;/X&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Y&gt;99&lt;/Y&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idth&gt;159&lt;/Width&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Height&gt;132&lt;/Height&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ettings&gt;</a:t>
            </a:r>
            <a:endParaRPr b="0" lang="en-US" sz="1400" spc="-1" strike="noStrike">
              <a:solidFill>
                <a:srgbClr val="ffffff"/>
              </a:solidFill>
              <a:latin typeface="Tahoma"/>
            </a:endParaRPr>
          </a:p>
        </p:txBody>
      </p:sp>
      <p:sp>
        <p:nvSpPr>
          <p:cNvPr id="250"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25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2A1B314-C2FA-48F3-9ECB-121DF9C7E579}" type="slidenum">
              <a:t>39</a:t>
            </a:fld>
          </a:p>
        </p:txBody>
      </p:sp>
      <p:sp>
        <p:nvSpPr>
          <p:cNvPr id="6" name="PlaceHolder 5"/>
          <p:cNvSpPr>
            <a:spLocks noGrp="1"/>
          </p:cNvSpPr>
          <p:nvPr>
            <p:ph type="dt" idx="1"/>
          </p:nvPr>
        </p:nvSpPr>
        <p:spPr/>
        <p:txBody>
          <a:bodyPr/>
          <a:p>
            <a:r>
              <a:rPr lang="en-US"/>
              <a:t>September 16-17, 2003</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503D2EC-B163-4107-83E1-109E816241B7}" type="slidenum">
              <a:t>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553080" y="228600"/>
            <a:ext cx="2381400" cy="876240"/>
          </a:xfrm>
          <a:prstGeom prst="rect">
            <a:avLst/>
          </a:prstGeom>
          <a:ln w="0">
            <a:noFill/>
          </a:ln>
        </p:spPr>
      </p:pic>
      <p:sp>
        <p:nvSpPr>
          <p:cNvPr id="2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2)</a:t>
            </a:r>
            <a:endParaRPr b="1" lang="en-US" sz="4400" spc="-1" strike="noStrike">
              <a:solidFill>
                <a:srgbClr val="eaeaea"/>
              </a:solidFill>
              <a:latin typeface="Tahoma"/>
            </a:endParaRPr>
          </a:p>
        </p:txBody>
      </p:sp>
      <p:sp>
        <p:nvSpPr>
          <p:cNvPr id="25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store saved setting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Dim xml_document As New XmlDocu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ument.Load(XmlFileNam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Get the Settings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settings_node As XmlNode = xml_document.Document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ad the X, Y, Width, and Height values an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use them to restore the form's posi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SetBounds(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X").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Y").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Width").InnerTex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tings_node.Item("Height").InnerTex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 As System.IO.FileNotFoundExcep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55"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25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13A82C3-B6A0-4D7E-A10C-191CFCC2BF42}" type="slidenum">
              <a:t>40</a:t>
            </a:fld>
          </a:p>
        </p:txBody>
      </p:sp>
      <p:sp>
        <p:nvSpPr>
          <p:cNvPr id="6" name="PlaceHolder 5"/>
          <p:cNvSpPr>
            <a:spLocks noGrp="1"/>
          </p:cNvSpPr>
          <p:nvPr>
            <p:ph type="dt" idx="1"/>
          </p:nvPr>
        </p:nvSpPr>
        <p:spPr/>
        <p:txBody>
          <a:bodyPr/>
          <a:p>
            <a:r>
              <a:rPr lang="en-US"/>
              <a:t>September 16-17, 2003</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553080" y="228600"/>
            <a:ext cx="2381400" cy="876240"/>
          </a:xfrm>
          <a:prstGeom prst="rect">
            <a:avLst/>
          </a:prstGeom>
          <a:ln w="0">
            <a:noFill/>
          </a:ln>
        </p:spPr>
      </p:pic>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Position (3)</a:t>
            </a:r>
            <a:endParaRPr b="1" lang="en-US" sz="4400" spc="-1" strike="noStrike">
              <a:solidFill>
                <a:srgbClr val="eaeaea"/>
              </a:solidFill>
              <a:latin typeface="Tahoma"/>
            </a:endParaRPr>
          </a:p>
        </p:txBody>
      </p:sp>
      <p:sp>
        <p:nvSpPr>
          <p:cNvPr id="2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Closing(...) Handles MyBase.Clos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Dim xml_doc As New XmlDocume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AddXmlDeclaration(xml_doc)</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Build the XML structure holding the setting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settings_node As XmlElement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xml_doc, xml_doc, "Setting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X", Me.Location.X)</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Y", Me.Location.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Width", Me.Wid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ddXmlElementWithText(xml_doc, settings_node, "Height", Me.Heigh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XML data.</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doc.Save(XmlFileNam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60" name=""/>
          <p:cNvSpPr/>
          <p:nvPr/>
        </p:nvSpPr>
        <p:spPr>
          <a:xfrm rot="10800000">
            <a:off x="227160" y="3721680"/>
            <a:ext cx="454680" cy="2499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Posi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90D2865-17B0-4F70-B040-86F04C2A2412}" type="slidenum">
              <a:t>41</a:t>
            </a:fld>
          </a:p>
        </p:txBody>
      </p:sp>
      <p:sp>
        <p:nvSpPr>
          <p:cNvPr id="6" name="PlaceHolder 5"/>
          <p:cNvSpPr>
            <a:spLocks noGrp="1"/>
          </p:cNvSpPr>
          <p:nvPr>
            <p:ph type="dt" idx="1"/>
          </p:nvPr>
        </p:nvSpPr>
        <p:spPr/>
        <p:txBody>
          <a:bodyPr/>
          <a:p>
            <a:r>
              <a:rPr lang="en-US"/>
              <a:t>September 16-17, 2003</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685800" y="325296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9667D69-4ED4-453A-B4AD-65BF9D0CACE5}" type="slidenum">
              <a:t>4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Forward-Only XML?</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ge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ny part of a big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ping earl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process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121C992-DDDA-4E32-95E2-8D71EBA43E2D}" type="slidenum">
              <a:t>4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6">
                                  <p:stCondLst>
                                    <p:cond delay="0"/>
                                  </p:stCondLst>
                                  <p:childTnLst>
                                    <p:set>
                                      <p:cBhvr>
                                        <p:cTn id="112" dur="1" fill="hold">
                                          <p:stCondLst>
                                            <p:cond delay="0"/>
                                          </p:stCondLst>
                                        </p:cTn>
                                        <p:tgtEl>
                                          <p:spTgt spid="265">
                                            <p:txEl>
                                              <p:pRg st="0" end="0"/>
                                            </p:txEl>
                                          </p:spTgt>
                                        </p:tgtEl>
                                        <p:attrNameLst>
                                          <p:attrName>style.visibility</p:attrName>
                                        </p:attrNameLst>
                                      </p:cBhvr>
                                      <p:to>
                                        <p:strVal val="visible"/>
                                      </p:to>
                                    </p:set>
                                    <p:anim calcmode="lin" valueType="num">
                                      <p:cBhvr additive="base">
                                        <p:cTn id="113"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265">
                                            <p:txEl>
                                              <p:pRg st="1" end="1"/>
                                            </p:txEl>
                                          </p:spTgt>
                                        </p:tgtEl>
                                        <p:attrNameLst>
                                          <p:attrName>style.visibility</p:attrName>
                                        </p:attrNameLst>
                                      </p:cBhvr>
                                      <p:to>
                                        <p:strVal val="visible"/>
                                      </p:to>
                                    </p:set>
                                    <p:anim calcmode="lin" valueType="num">
                                      <p:cBhvr additive="base">
                                        <p:cTn id="119"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265">
                                            <p:txEl>
                                              <p:pRg st="2" end="2"/>
                                            </p:txEl>
                                          </p:spTgt>
                                        </p:tgtEl>
                                        <p:attrNameLst>
                                          <p:attrName>style.visibility</p:attrName>
                                        </p:attrNameLst>
                                      </p:cBhvr>
                                      <p:to>
                                        <p:strVal val="visible"/>
                                      </p:to>
                                    </p:set>
                                    <p:anim calcmode="lin" valueType="num">
                                      <p:cBhvr additive="base">
                                        <p:cTn id="125"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265">
                                            <p:txEl>
                                              <p:pRg st="3" end="3"/>
                                            </p:txEl>
                                          </p:spTgt>
                                        </p:tgtEl>
                                        <p:attrNameLst>
                                          <p:attrName>style.visibility</p:attrName>
                                        </p:attrNameLst>
                                      </p:cBhvr>
                                      <p:to>
                                        <p:strVal val="visible"/>
                                      </p:to>
                                    </p:set>
                                    <p:anim calcmode="lin" valueType="num">
                                      <p:cBhvr additive="base">
                                        <p:cTn id="131"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685800" y="37339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703D1EF-760B-4E6A-A317-98897CE22AFE}" type="slidenum">
              <a:t>4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TextWriter Methods</a:t>
            </a:r>
            <a:endParaRPr b="1" lang="en-US" sz="4400" spc="-1" strike="noStrike">
              <a:solidFill>
                <a:srgbClr val="eaeaea"/>
              </a:solidFill>
              <a:latin typeface="Tahoma"/>
            </a:endParaRPr>
          </a:p>
        </p:txBody>
      </p:sp>
      <p:sp>
        <p:nvSpPr>
          <p:cNvPr id="2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Start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Com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Element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StartElement, WriteEnd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Attribute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5951568-CE65-4ABE-9FB6-78AB58B03628}" type="slidenum">
              <a:t>4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70">
                                            <p:txEl>
                                              <p:pRg st="0" end="0"/>
                                            </p:txEl>
                                          </p:spTgt>
                                        </p:tgtEl>
                                        <p:attrNameLst>
                                          <p:attrName>style.visibility</p:attrName>
                                        </p:attrNameLst>
                                      </p:cBhvr>
                                      <p:to>
                                        <p:strVal val="visible"/>
                                      </p:to>
                                    </p:set>
                                    <p:anim calcmode="lin" valueType="num">
                                      <p:cBhvr additive="base">
                                        <p:cTn id="13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70">
                                            <p:txEl>
                                              <p:pRg st="1" end="1"/>
                                            </p:txEl>
                                          </p:spTgt>
                                        </p:tgtEl>
                                        <p:attrNameLst>
                                          <p:attrName>style.visibility</p:attrName>
                                        </p:attrNameLst>
                                      </p:cBhvr>
                                      <p:to>
                                        <p:strVal val="visible"/>
                                      </p:to>
                                    </p:set>
                                    <p:anim calcmode="lin" valueType="num">
                                      <p:cBhvr additive="base">
                                        <p:cTn id="145"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70">
                                            <p:txEl>
                                              <p:pRg st="2" end="2"/>
                                            </p:txEl>
                                          </p:spTgt>
                                        </p:tgtEl>
                                        <p:attrNameLst>
                                          <p:attrName>style.visibility</p:attrName>
                                        </p:attrNameLst>
                                      </p:cBhvr>
                                      <p:to>
                                        <p:strVal val="visible"/>
                                      </p:to>
                                    </p:set>
                                    <p:anim calcmode="lin" valueType="num">
                                      <p:cBhvr additive="base">
                                        <p:cTn id="151"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0">
                                            <p:txEl>
                                              <p:pRg st="3" end="3"/>
                                            </p:txEl>
                                          </p:spTgt>
                                        </p:tgtEl>
                                        <p:attrNameLst>
                                          <p:attrName>style.visibility</p:attrName>
                                        </p:attrNameLst>
                                      </p:cBhvr>
                                      <p:to>
                                        <p:strVal val="visible"/>
                                      </p:to>
                                    </p:set>
                                    <p:anim calcmode="lin" valueType="num">
                                      <p:cBhvr additive="base">
                                        <p:cTn id="157"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70">
                                            <p:txEl>
                                              <p:pRg st="4" end="4"/>
                                            </p:txEl>
                                          </p:spTgt>
                                        </p:tgtEl>
                                        <p:attrNameLst>
                                          <p:attrName>style.visibility</p:attrName>
                                        </p:attrNameLst>
                                      </p:cBhvr>
                                      <p:to>
                                        <p:strVal val="visible"/>
                                      </p:to>
                                    </p:set>
                                    <p:anim calcmode="lin" valueType="num">
                                      <p:cBhvr additive="base">
                                        <p:cTn id="163"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70">
                                            <p:txEl>
                                              <p:pRg st="5" end="5"/>
                                            </p:txEl>
                                          </p:spTgt>
                                        </p:tgtEl>
                                        <p:attrNameLst>
                                          <p:attrName>style.visibility</p:attrName>
                                        </p:attrNameLst>
                                      </p:cBhvr>
                                      <p:to>
                                        <p:strVal val="visible"/>
                                      </p:to>
                                    </p:set>
                                    <p:anim calcmode="lin" valueType="num">
                                      <p:cBhvr additive="base">
                                        <p:cTn id="169"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StartDocument</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xml_text_writer As New XmlTextWriter(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XmlFileName(), System.Text.Encoding.UTF8)</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Formatting = Formatting.Indented</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Document(Tru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xml version="1.0" encoding="utf-8" standalone="yes"?&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7307616-131F-40B7-910D-49819C01CE0B}" type="slidenum">
              <a:t>4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Comment</a:t>
            </a:r>
            <a:endParaRPr b="1" lang="en-US" sz="4400" spc="-1" strike="noStrike">
              <a:solidFill>
                <a:srgbClr val="eaeaea"/>
              </a:solidFill>
              <a:latin typeface="Tahoma"/>
            </a:endParaRPr>
          </a:p>
        </p:txBody>
      </p:sp>
      <p:sp>
        <p:nvSpPr>
          <p:cNvPr id="2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Comment("Ice cream flavor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 cream flavors--&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AF301DF-751F-473F-90CA-11C3C2DE6780}" type="slidenum">
              <a:t>4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ElementString</a:t>
            </a:r>
            <a:endParaRPr b="1" lang="en-US" sz="4400" spc="-1" strike="noStrike">
              <a:solidFill>
                <a:srgbClr val="eaeaea"/>
              </a:solidFill>
              <a:latin typeface="Tahoma"/>
            </a:endParaRPr>
          </a:p>
        </p:txBody>
      </p:sp>
      <p:sp>
        <p:nvSpPr>
          <p:cNvPr id="2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lementString("Flavor", "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Flavor&gt;Chocolate&lt;/Flavor&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6EECDAB-E109-44CE-83B8-812C4C694941}" type="slidenum">
              <a:t>4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StartElement, WriteEndElement</a:t>
            </a:r>
            <a:endParaRPr b="1" lang="en-US" sz="4400" spc="-1" strike="noStrike">
              <a:solidFill>
                <a:srgbClr val="eaeaea"/>
              </a:solidFill>
              <a:latin typeface="Tahoma"/>
            </a:endParaRPr>
          </a:p>
        </p:txBody>
      </p:sp>
      <p:sp>
        <p:nvSpPr>
          <p:cNvPr id="2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Element("IceCream")</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Comment("Ice cream flavor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ndElemen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Cream&g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lt;!--Ice cream flavors--&g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IceCream&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011CC3A-133A-409B-AB00-A769FB2D4AE0}" type="slidenum">
              <a:t>4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XML?</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description language</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sted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root element</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ty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or instru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17F23D5-1966-45AB-816F-03058A766D0B}" type="slidenum">
              <a:t>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39">
                                            <p:txEl>
                                              <p:pRg st="0" end="0"/>
                                            </p:txEl>
                                          </p:spTgt>
                                        </p:tgtEl>
                                        <p:attrNameLst>
                                          <p:attrName>style.visibility</p:attrName>
                                        </p:attrNameLst>
                                      </p:cBhvr>
                                      <p:to>
                                        <p:strVal val="visible"/>
                                      </p:to>
                                    </p:set>
                                    <p:anim calcmode="lin" valueType="num">
                                      <p:cBhvr additive="base">
                                        <p:cTn id="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9">
                                            <p:txEl>
                                              <p:pRg st="1" end="1"/>
                                            </p:txEl>
                                          </p:spTgt>
                                        </p:tgtEl>
                                        <p:attrNameLst>
                                          <p:attrName>style.visibility</p:attrName>
                                        </p:attrNameLst>
                                      </p:cBhvr>
                                      <p:to>
                                        <p:strVal val="visible"/>
                                      </p:to>
                                    </p:set>
                                    <p:anim calcmode="lin" valueType="num">
                                      <p:cBhvr additive="base">
                                        <p:cTn id="1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39">
                                            <p:txEl>
                                              <p:pRg st="2" end="2"/>
                                            </p:txEl>
                                          </p:spTgt>
                                        </p:tgtEl>
                                        <p:attrNameLst>
                                          <p:attrName>style.visibility</p:attrName>
                                        </p:attrNameLst>
                                      </p:cBhvr>
                                      <p:to>
                                        <p:strVal val="visible"/>
                                      </p:to>
                                    </p:set>
                                    <p:anim calcmode="lin" valueType="num">
                                      <p:cBhvr additive="base">
                                        <p:cTn id="19"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39">
                                            <p:txEl>
                                              <p:pRg st="3" end="3"/>
                                            </p:txEl>
                                          </p:spTgt>
                                        </p:tgtEl>
                                        <p:attrNameLst>
                                          <p:attrName>style.visibility</p:attrName>
                                        </p:attrNameLst>
                                      </p:cBhvr>
                                      <p:to>
                                        <p:strVal val="visible"/>
                                      </p:to>
                                    </p:set>
                                    <p:anim calcmode="lin" valueType="num">
                                      <p:cBhvr additive="base">
                                        <p:cTn id="25"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39">
                                            <p:txEl>
                                              <p:pRg st="4" end="4"/>
                                            </p:txEl>
                                          </p:spTgt>
                                        </p:tgtEl>
                                        <p:attrNameLst>
                                          <p:attrName>style.visibility</p:attrName>
                                        </p:attrNameLst>
                                      </p:cBhvr>
                                      <p:to>
                                        <p:strVal val="visible"/>
                                      </p:to>
                                    </p:set>
                                    <p:anim calcmode="lin" valueType="num">
                                      <p:cBhvr additive="base">
                                        <p:cTn id="31" dur="5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9">
                                            <p:txEl>
                                              <p:pRg st="5" end="5"/>
                                            </p:txEl>
                                          </p:spTgt>
                                        </p:tgtEl>
                                        <p:attrNameLst>
                                          <p:attrName>style.visibility</p:attrName>
                                        </p:attrNameLst>
                                      </p:cBhvr>
                                      <p:to>
                                        <p:strVal val="visible"/>
                                      </p:to>
                                    </p:set>
                                    <p:anim calcmode="lin" valueType="num">
                                      <p:cBhvr additive="base">
                                        <p:cTn id="37"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39">
                                            <p:txEl>
                                              <p:pRg st="6" end="6"/>
                                            </p:txEl>
                                          </p:spTgt>
                                        </p:tgtEl>
                                        <p:attrNameLst>
                                          <p:attrName>style.visibility</p:attrName>
                                        </p:attrNameLst>
                                      </p:cBhvr>
                                      <p:to>
                                        <p:strVal val="visible"/>
                                      </p:to>
                                    </p:set>
                                    <p:anim calcmode="lin" valueType="num">
                                      <p:cBhvr additive="base">
                                        <p:cTn id="43" dur="5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eAttributeString</a:t>
            </a:r>
            <a:endParaRPr b="1" lang="en-US" sz="4400" spc="-1" strike="noStrike">
              <a:solidFill>
                <a:srgbClr val="eaeaea"/>
              </a:solidFill>
              <a:latin typeface="Tahoma"/>
            </a:endParaRPr>
          </a:p>
        </p:txBody>
      </p:sp>
      <p:sp>
        <p:nvSpPr>
          <p:cNvPr id="2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code:</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artElement("Flavor")</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AttributeString("Type", "Favori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String("Chocolate")</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xml_text_writer.WriteEndElemen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s this result:</a:t>
            </a:r>
            <a:endParaRPr b="0" lang="en-US" sz="2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Flavor Type="Favorite"&gt;Chocolate&lt;/Flavor&gt;</a:t>
            </a:r>
            <a:endParaRPr b="0" lang="en-US" sz="14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9CA8FFD-84D9-4F48-9A65-94E602FECDBB}" type="slidenum">
              <a:t>5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ose</a:t>
            </a:r>
            <a:endParaRPr b="1" lang="en-US" sz="4400" spc="-1" strike="noStrike">
              <a:solidFill>
                <a:srgbClr val="eaeaea"/>
              </a:solidFill>
              <a:latin typeface="Tahoma"/>
            </a:endParaRPr>
          </a:p>
        </p:txBody>
      </p:sp>
      <p:sp>
        <p:nvSpPr>
          <p:cNvPr id="2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ses any open elements and the output stre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2BB1840-4DD2-4EDD-A135-3C72143604D1}" type="slidenum">
              <a:t>5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XmlTextWriter (1)</a:t>
            </a:r>
            <a:endParaRPr b="1" lang="en-US" sz="4400" spc="-1" strike="noStrike">
              <a:solidFill>
                <a:srgbClr val="eaeaea"/>
              </a:solidFill>
              <a:latin typeface="Tahoma"/>
            </a:endParaRPr>
          </a:p>
        </p:txBody>
      </p:sp>
      <p:sp>
        <p:nvSpPr>
          <p:cNvPr id="2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writer As New XmlTextWriter(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FileName(), System.Text.Encoding.UTF8)</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Formatting = Formatting.Indent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Document(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Comment("Program UseXmlTextWri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IceC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Comment("Ice cream flavo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Flav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Type", "Favori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ring("Chocol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lementString("Flavor", "Strawber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lementString("Flavor", "Vanill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Close()</a:t>
            </a:r>
            <a:endParaRPr b="0" lang="en-US" sz="1400" spc="-1" strike="noStrike">
              <a:solidFill>
                <a:srgbClr val="ffffff"/>
              </a:solidFill>
              <a:latin typeface="Tahoma"/>
            </a:endParaRPr>
          </a:p>
        </p:txBody>
      </p:sp>
      <p:sp>
        <p:nvSpPr>
          <p:cNvPr id="285" name=""/>
          <p:cNvSpPr/>
          <p:nvPr/>
        </p:nvSpPr>
        <p:spPr>
          <a:xfrm rot="10800000">
            <a:off x="227160" y="3157920"/>
            <a:ext cx="454680" cy="3078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XmlTextWrit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7C62E9C-4A13-48B1-B083-A436222F08B2}" type="slidenum">
              <a:t>5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XmlTextWriter (2)</a:t>
            </a: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rogram UseXmlTextWrite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IceCream&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ce cream flavor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 Type="Favorite"&gt;Chocolate&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gt;Strawberry&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lavor&gt;Vanilla&lt;/Flavor&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IceCream&gt;</a:t>
            </a:r>
            <a:endParaRPr b="0" lang="en-US" sz="1400" spc="-1" strike="noStrike">
              <a:solidFill>
                <a:srgbClr val="ffffff"/>
              </a:solidFill>
              <a:latin typeface="Tahoma"/>
            </a:endParaRPr>
          </a:p>
        </p:txBody>
      </p:sp>
      <p:sp>
        <p:nvSpPr>
          <p:cNvPr id="288" name=""/>
          <p:cNvSpPr/>
          <p:nvPr/>
        </p:nvSpPr>
        <p:spPr>
          <a:xfrm rot="10800000">
            <a:off x="227160" y="3157920"/>
            <a:ext cx="454680" cy="3078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XmlTextWrit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0FD7E4D-A29C-41F6-9AD6-6A0465C15E3A}" type="slidenum">
              <a:t>5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TextReader Methods</a:t>
            </a:r>
            <a:endParaRPr b="1" lang="en-US" sz="4400" spc="-1" strike="noStrike">
              <a:solidFill>
                <a:srgbClr val="eaeaea"/>
              </a:solidFill>
              <a:latin typeface="Tahoma"/>
            </a:endParaRPr>
          </a:p>
        </p:txBody>
      </p:sp>
      <p:sp>
        <p:nvSpPr>
          <p:cNvPr id="2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eToCont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Attribu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ElementStr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7E426B1-3E95-4277-A999-9FCD2FEB8F1B}" type="slidenum">
              <a:t>5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290">
                                            <p:txEl>
                                              <p:pRg st="0" end="0"/>
                                            </p:txEl>
                                          </p:spTgt>
                                        </p:tgtEl>
                                        <p:attrNameLst>
                                          <p:attrName>style.visibility</p:attrName>
                                        </p:attrNameLst>
                                      </p:cBhvr>
                                      <p:to>
                                        <p:strVal val="visible"/>
                                      </p:to>
                                    </p:set>
                                    <p:anim calcmode="lin" valueType="num">
                                      <p:cBhvr additive="base">
                                        <p:cTn id="177"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2">
                                  <p:stCondLst>
                                    <p:cond delay="0"/>
                                  </p:stCondLst>
                                  <p:childTnLst>
                                    <p:set>
                                      <p:cBhvr>
                                        <p:cTn id="182" dur="1" fill="hold">
                                          <p:stCondLst>
                                            <p:cond delay="0"/>
                                          </p:stCondLst>
                                        </p:cTn>
                                        <p:tgtEl>
                                          <p:spTgt spid="290">
                                            <p:txEl>
                                              <p:pRg st="1" end="1"/>
                                            </p:txEl>
                                          </p:spTgt>
                                        </p:tgtEl>
                                        <p:attrNameLst>
                                          <p:attrName>style.visibility</p:attrName>
                                        </p:attrNameLst>
                                      </p:cBhvr>
                                      <p:to>
                                        <p:strVal val="visible"/>
                                      </p:to>
                                    </p:set>
                                    <p:anim calcmode="lin" valueType="num">
                                      <p:cBhvr additive="base">
                                        <p:cTn id="183"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290">
                                            <p:txEl>
                                              <p:pRg st="2" end="2"/>
                                            </p:txEl>
                                          </p:spTgt>
                                        </p:tgtEl>
                                        <p:attrNameLst>
                                          <p:attrName>style.visibility</p:attrName>
                                        </p:attrNameLst>
                                      </p:cBhvr>
                                      <p:to>
                                        <p:strVal val="visible"/>
                                      </p:to>
                                    </p:set>
                                    <p:anim calcmode="lin" valueType="num">
                                      <p:cBhvr additive="base">
                                        <p:cTn id="189"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290">
                                            <p:txEl>
                                              <p:pRg st="3" end="3"/>
                                            </p:txEl>
                                          </p:spTgt>
                                        </p:tgtEl>
                                        <p:attrNameLst>
                                          <p:attrName>style.visibility</p:attrName>
                                        </p:attrNameLst>
                                      </p:cBhvr>
                                      <p:to>
                                        <p:strVal val="visible"/>
                                      </p:to>
                                    </p:set>
                                    <p:anim calcmode="lin" valueType="num">
                                      <p:cBhvr additive="base">
                                        <p:cTn id="195"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2">
                                  <p:stCondLst>
                                    <p:cond delay="0"/>
                                  </p:stCondLst>
                                  <p:childTnLst>
                                    <p:set>
                                      <p:cBhvr>
                                        <p:cTn id="200" dur="1" fill="hold">
                                          <p:stCondLst>
                                            <p:cond delay="0"/>
                                          </p:stCondLst>
                                        </p:cTn>
                                        <p:tgtEl>
                                          <p:spTgt spid="290">
                                            <p:txEl>
                                              <p:pRg st="4" end="4"/>
                                            </p:txEl>
                                          </p:spTgt>
                                        </p:tgtEl>
                                        <p:attrNameLst>
                                          <p:attrName>style.visibility</p:attrName>
                                        </p:attrNameLst>
                                      </p:cBhvr>
                                      <p:to>
                                        <p:strVal val="visible"/>
                                      </p:to>
                                    </p:set>
                                    <p:anim calcmode="lin" valueType="num">
                                      <p:cBhvr additive="base">
                                        <p:cTn id="201"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2">
                                  <p:stCondLst>
                                    <p:cond delay="0"/>
                                  </p:stCondLst>
                                  <p:childTnLst>
                                    <p:set>
                                      <p:cBhvr>
                                        <p:cTn id="206" dur="1" fill="hold">
                                          <p:stCondLst>
                                            <p:cond delay="0"/>
                                          </p:stCondLst>
                                        </p:cTn>
                                        <p:tgtEl>
                                          <p:spTgt spid="290">
                                            <p:txEl>
                                              <p:pRg st="5" end="5"/>
                                            </p:txEl>
                                          </p:spTgt>
                                        </p:tgtEl>
                                        <p:attrNameLst>
                                          <p:attrName>style.visibility</p:attrName>
                                        </p:attrNameLst>
                                      </p:cBhvr>
                                      <p:to>
                                        <p:strVal val="visible"/>
                                      </p:to>
                                    </p:set>
                                    <p:anim calcmode="lin" valueType="num">
                                      <p:cBhvr additive="base">
                                        <p:cTn id="207"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1)</a:t>
            </a:r>
            <a:endParaRPr b="1" lang="en-US" sz="4400" spc="-1" strike="noStrike">
              <a:solidFill>
                <a:srgbClr val="eaeaea"/>
              </a:solidFill>
              <a:latin typeface="Tahoma"/>
            </a:endParaRPr>
          </a:p>
        </p:txBody>
      </p:sp>
      <p:sp>
        <p:nvSpPr>
          <p:cNvPr id="2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4"&gt;Artichoke&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gt;Beet&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2"&gt;Cherry&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12"&gt;Date&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Quantity="3"&gt;Peach&lt;/Item&g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gt;</a:t>
            </a:r>
            <a:endParaRPr b="0" lang="en-US" sz="1400" spc="-1" strike="noStrike">
              <a:solidFill>
                <a:srgbClr val="ffffff"/>
              </a:solidFill>
              <a:latin typeface="Tahoma"/>
            </a:endParaRPr>
          </a:p>
        </p:txBody>
      </p:sp>
      <p:sp>
        <p:nvSpPr>
          <p:cNvPr id="293"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AF0706E-0A71-4B93-8FB0-71F57C94ED28}" type="slidenum">
              <a:t>5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2)</a:t>
            </a: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reader As New XmlTextReader(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kip all whitesp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WhitespaceHandling = WhitespaceHandling.N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ove to the data root nod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MoveToCont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Order root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Read()</a:t>
            </a:r>
            <a:endParaRPr b="0" lang="en-US" sz="1400" spc="-1" strike="noStrike">
              <a:solidFill>
                <a:srgbClr val="ffffff"/>
              </a:solidFill>
              <a:latin typeface="Tahoma"/>
            </a:endParaRPr>
          </a:p>
        </p:txBody>
      </p:sp>
      <p:sp>
        <p:nvSpPr>
          <p:cNvPr id="296"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7F81383-7761-4C26-B3E5-FCDFDB00CA87}" type="slidenum">
              <a:t>5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Order (3)</a:t>
            </a: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ocess each Item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o While xml_text_reader.Name = "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Save the 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xml_text_reader.GetAttribute("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et the valu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 call to ReadElementString moves to the next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stItems.Items.Add(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ReadElementString("Item") &amp; vbTab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o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reader.Close()</a:t>
            </a:r>
            <a:endParaRPr b="0" lang="en-US" sz="1400" spc="-1" strike="noStrike">
              <a:solidFill>
                <a:srgbClr val="ffffff"/>
              </a:solidFill>
              <a:latin typeface="Tahoma"/>
            </a:endParaRPr>
          </a:p>
        </p:txBody>
      </p:sp>
      <p:sp>
        <p:nvSpPr>
          <p:cNvPr id="299" name=""/>
          <p:cNvSpPr/>
          <p:nvPr/>
        </p:nvSpPr>
        <p:spPr>
          <a:xfrm rot="10800000">
            <a:off x="227160" y="3907080"/>
            <a:ext cx="454680" cy="2308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ad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AB78477-CC20-4DA5-9350-C814D968E1ED}" type="slidenum">
              <a:t>5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XmlTextReader Methods</a:t>
            </a:r>
            <a:endParaRPr b="1" lang="en-US" sz="4400" spc="-1" strike="noStrike">
              <a:solidFill>
                <a:srgbClr val="eaeaea"/>
              </a:solidFill>
              <a:latin typeface="Tahoma"/>
            </a:endParaRPr>
          </a:p>
        </p:txBody>
      </p:sp>
      <p:sp>
        <p:nvSpPr>
          <p:cNvPr id="3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StartElement, ReadEndElement</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String</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AttributeValu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ributeCount, MoveToAttribut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ToFirstAttribute, MoveToNextAttribut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ToElement</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p</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8A15A13-548E-4EBB-8027-65D191ACF7A0}" type="slidenum">
              <a:t>5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215" dur="500"/>
                                        <p:tgtEl>
                                          <p:spTgt spid="30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220" dur="500"/>
                                        <p:tgtEl>
                                          <p:spTgt spid="30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225" dur="500"/>
                                        <p:tgtEl>
                                          <p:spTgt spid="301">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230" dur="500"/>
                                        <p:tgtEl>
                                          <p:spTgt spid="301">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235" dur="500"/>
                                        <p:tgtEl>
                                          <p:spTgt spid="301">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240" dur="500"/>
                                        <p:tgtEl>
                                          <p:spTgt spid="301">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301">
                                            <p:txEl>
                                              <p:pRg st="6" end="6"/>
                                            </p:txEl>
                                          </p:spTgt>
                                        </p:tgtEl>
                                        <p:attrNameLst>
                                          <p:attrName>style.visibility</p:attrName>
                                        </p:attrNameLst>
                                      </p:cBhvr>
                                      <p:to>
                                        <p:strVal val="visible"/>
                                      </p:to>
                                    </p:set>
                                    <p:animEffect filter="blinds(horizontal)" transition="in">
                                      <p:cBhvr additive="repl">
                                        <p:cTn id="245" dur="5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685800" y="42670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A057E12-BDC2-4A68-90A0-4BCCD297ADBE}" type="slidenum">
              <a:t>5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lt;!– This is a comment. --&gt;</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xml version="1.0" encoding="UTF-8" standalone="yes"?&gt;</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Stephens&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Rod&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home"&gt;234-567-8901&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345-678-9012&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HomePage URL="http://www.vb-helper.com" /&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Pratchett&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Terry&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678-901-2345&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cell"&gt;901-234-5678&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p:txBody>
      </p:sp>
      <p:sp>
        <p:nvSpPr>
          <p:cNvPr id="142" name=""/>
          <p:cNvSpPr/>
          <p:nvPr/>
        </p:nvSpPr>
        <p:spPr>
          <a:xfrm>
            <a:off x="4891320" y="132732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Comment</a:t>
            </a:r>
            <a:endParaRPr b="0" lang="en-US" sz="1800" spc="-1" strike="noStrike">
              <a:solidFill>
                <a:srgbClr val="ffffff"/>
              </a:solidFill>
              <a:latin typeface="Arial"/>
            </a:endParaRPr>
          </a:p>
        </p:txBody>
      </p:sp>
      <p:sp>
        <p:nvSpPr>
          <p:cNvPr id="143" name=""/>
          <p:cNvSpPr/>
          <p:nvPr/>
        </p:nvSpPr>
        <p:spPr>
          <a:xfrm>
            <a:off x="4114800" y="1700280"/>
            <a:ext cx="1339920" cy="498240"/>
          </a:xfrm>
          <a:custGeom>
            <a:avLst/>
            <a:gdLst/>
            <a:ahLst/>
            <a:rect l="l" t="t" r="r" b="b"/>
            <a:pathLst>
              <a:path w="844" h="314">
                <a:moveTo>
                  <a:pt x="844" y="0"/>
                </a:moveTo>
                <a:cubicBezTo>
                  <a:pt x="785" y="40"/>
                  <a:pt x="672" y="172"/>
                  <a:pt x="490" y="243"/>
                </a:cubicBezTo>
                <a:cubicBezTo>
                  <a:pt x="308" y="314"/>
                  <a:pt x="102" y="267"/>
                  <a:pt x="0" y="27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83480" y="1492200"/>
            <a:ext cx="627120" cy="738360"/>
          </a:xfrm>
          <a:custGeom>
            <a:avLst/>
            <a:gdLst/>
            <a:ahLst/>
            <a:rect l="l" t="t" r="r" b="b"/>
            <a:pathLst>
              <a:path w="395" h="465">
                <a:moveTo>
                  <a:pt x="0" y="0"/>
                </a:moveTo>
                <a:cubicBezTo>
                  <a:pt x="62" y="37"/>
                  <a:pt x="337" y="145"/>
                  <a:pt x="364" y="222"/>
                </a:cubicBezTo>
                <a:cubicBezTo>
                  <a:pt x="395" y="333"/>
                  <a:pt x="204" y="414"/>
                  <a:pt x="162" y="46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388560" y="1143000"/>
            <a:ext cx="24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Processor Instruction</a:t>
            </a:r>
            <a:endParaRPr b="0" lang="en-US" sz="1800" spc="-1" strike="noStrike">
              <a:solidFill>
                <a:srgbClr val="ffffff"/>
              </a:solidFill>
              <a:latin typeface="Arial"/>
            </a:endParaRPr>
          </a:p>
        </p:txBody>
      </p:sp>
      <p:sp>
        <p:nvSpPr>
          <p:cNvPr id="146" name=""/>
          <p:cNvSpPr/>
          <p:nvPr/>
        </p:nvSpPr>
        <p:spPr>
          <a:xfrm flipV="1">
            <a:off x="2438280" y="2437200"/>
            <a:ext cx="4235400" cy="381240"/>
          </a:xfrm>
          <a:custGeom>
            <a:avLst/>
            <a:gdLst/>
            <a:ahLst/>
            <a:rect l="l" t="t" r="r" b="b"/>
            <a:pathLst>
              <a:path w="2668" h="226">
                <a:moveTo>
                  <a:pt x="2668" y="0"/>
                </a:moveTo>
                <a:cubicBezTo>
                  <a:pt x="2477" y="26"/>
                  <a:pt x="1978" y="124"/>
                  <a:pt x="1533" y="155"/>
                </a:cubicBezTo>
                <a:cubicBezTo>
                  <a:pt x="963" y="226"/>
                  <a:pt x="319" y="179"/>
                  <a:pt x="0" y="18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586560" y="266688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Root Element</a:t>
            </a:r>
            <a:endParaRPr b="0" lang="en-US" sz="1800" spc="-1" strike="noStrike">
              <a:solidFill>
                <a:srgbClr val="ffffff"/>
              </a:solidFill>
              <a:latin typeface="Arial"/>
            </a:endParaRPr>
          </a:p>
        </p:txBody>
      </p:sp>
      <p:sp>
        <p:nvSpPr>
          <p:cNvPr id="148" name=""/>
          <p:cNvSpPr/>
          <p:nvPr/>
        </p:nvSpPr>
        <p:spPr>
          <a:xfrm>
            <a:off x="336600" y="28195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Attributes</a:t>
            </a:r>
            <a:endParaRPr b="0" lang="en-US" sz="1800" spc="-1" strike="noStrike">
              <a:solidFill>
                <a:srgbClr val="ffffff"/>
              </a:solidFill>
              <a:latin typeface="Arial"/>
            </a:endParaRPr>
          </a:p>
        </p:txBody>
      </p:sp>
      <p:sp>
        <p:nvSpPr>
          <p:cNvPr id="149" name=""/>
          <p:cNvSpPr/>
          <p:nvPr/>
        </p:nvSpPr>
        <p:spPr>
          <a:xfrm>
            <a:off x="1219320" y="3200400"/>
            <a:ext cx="1523880" cy="343080"/>
          </a:xfrm>
          <a:custGeom>
            <a:avLst/>
            <a:gdLst/>
            <a:ahLst/>
            <a:rect l="l" t="t" r="r" b="b"/>
            <a:pathLst>
              <a:path w="960" h="216">
                <a:moveTo>
                  <a:pt x="0" y="0"/>
                </a:moveTo>
                <a:cubicBezTo>
                  <a:pt x="136" y="84"/>
                  <a:pt x="272" y="168"/>
                  <a:pt x="432" y="192"/>
                </a:cubicBezTo>
                <a:cubicBezTo>
                  <a:pt x="592" y="216"/>
                  <a:pt x="776" y="180"/>
                  <a:pt x="960" y="144"/>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042920" y="3208320"/>
            <a:ext cx="1700280" cy="555480"/>
          </a:xfrm>
          <a:custGeom>
            <a:avLst/>
            <a:gdLst/>
            <a:ahLst/>
            <a:rect l="l" t="t" r="r" b="b"/>
            <a:pathLst>
              <a:path w="1071" h="350">
                <a:moveTo>
                  <a:pt x="0" y="0"/>
                </a:moveTo>
                <a:cubicBezTo>
                  <a:pt x="71" y="121"/>
                  <a:pt x="256" y="256"/>
                  <a:pt x="434" y="303"/>
                </a:cubicBezTo>
                <a:cubicBezTo>
                  <a:pt x="621" y="350"/>
                  <a:pt x="938" y="287"/>
                  <a:pt x="1071" y="28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117560" y="44956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Empty Element</a:t>
            </a:r>
            <a:endParaRPr b="0" lang="en-US" sz="1800" spc="-1" strike="noStrike">
              <a:solidFill>
                <a:srgbClr val="ffffff"/>
              </a:solidFill>
              <a:latin typeface="Arial"/>
            </a:endParaRPr>
          </a:p>
        </p:txBody>
      </p:sp>
      <p:sp>
        <p:nvSpPr>
          <p:cNvPr id="152" name=""/>
          <p:cNvSpPr/>
          <p:nvPr/>
        </p:nvSpPr>
        <p:spPr>
          <a:xfrm>
            <a:off x="6400800" y="3978360"/>
            <a:ext cx="785880" cy="641160"/>
          </a:xfrm>
          <a:custGeom>
            <a:avLst/>
            <a:gdLst/>
            <a:ahLst/>
            <a:rect l="l" t="t" r="r" b="b"/>
            <a:pathLst>
              <a:path w="495" h="404">
                <a:moveTo>
                  <a:pt x="495" y="404"/>
                </a:moveTo>
                <a:cubicBezTo>
                  <a:pt x="448" y="387"/>
                  <a:pt x="295" y="360"/>
                  <a:pt x="212" y="293"/>
                </a:cubicBezTo>
                <a:cubicBezTo>
                  <a:pt x="70" y="223"/>
                  <a:pt x="44" y="61"/>
                  <a:pt x="0" y="0"/>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7964EEE-C273-41BC-A419-D3A5E519F537}" type="slidenum">
              <a:t>6</a:t>
            </a:fld>
          </a:p>
        </p:txBody>
      </p:sp>
      <p:sp>
        <p:nvSpPr>
          <p:cNvPr id="6" name="PlaceHolder 5"/>
          <p:cNvSpPr>
            <a:spLocks noGrp="1"/>
          </p:cNvSpPr>
          <p:nvPr>
            <p:ph type="dt" idx="1"/>
          </p:nvPr>
        </p:nvSpPr>
        <p:spPr/>
        <p:txBody>
          <a:bodyPr/>
          <a:p>
            <a:r>
              <a:rPr lang="en-US"/>
              <a:t>September 16-17, 2003</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a:t>
            </a: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API for 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BB1B264-E3F6-4285-A1C3-C92A6246F718}" type="slidenum">
              <a:t>6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 vs. XmlTextReader</a:t>
            </a:r>
            <a:endParaRPr b="1" lang="en-US" sz="4400" spc="-1" strike="noStrike">
              <a:solidFill>
                <a:srgbClr val="eaeaea"/>
              </a:solidFill>
              <a:latin typeface="Tahoma"/>
            </a:endParaRPr>
          </a:p>
        </p:txBody>
      </p:sp>
      <p:sp>
        <p:nvSpPr>
          <p:cNvPr id="3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XmlTextReader</a:t>
            </a: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Read the start of an element</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Skip a node</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Read the current node’s attributes</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and: Skip another node...</a:t>
            </a:r>
            <a:endParaRPr b="0" lang="en-US" sz="20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SAX</a:t>
            </a: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the start of a node</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some text</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lback: I’m reading the end of an eleme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F7DFCF7-0A46-4002-AA2C-1ED01DB59CBA}" type="slidenum">
              <a:t>6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 Interfaces</a:t>
            </a: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BSAXErrorHandler</a:t>
            </a:r>
            <a:endParaRPr b="0" lang="en-US" sz="2800" spc="-1" strike="noStrike">
              <a:solidFill>
                <a:srgbClr val="ffffff"/>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FatalError</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Error)</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IgnorableWarning)</a:t>
            </a:r>
            <a:endParaRPr b="0" lang="en-US" sz="2400" spc="-1" strike="noStrike">
              <a:solidFill>
                <a:srgbClr val="ffffcc"/>
              </a:solidFill>
              <a:latin typeface="Tahoma"/>
            </a:endParaRPr>
          </a:p>
          <a:p>
            <a:pPr marL="603360" indent="-603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BSAXContentHandler</a:t>
            </a:r>
            <a:endParaRPr b="0" lang="en-US" sz="2800" spc="-1" strike="noStrike">
              <a:solidFill>
                <a:srgbClr val="ffffff"/>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StartDocument, CatchEndDocument</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StartElement, CatchEndElement</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tchProcessingInstruction</a:t>
            </a:r>
            <a:endParaRPr b="0" lang="en-US" sz="2400" spc="-1" strike="noStrike">
              <a:solidFill>
                <a:srgbClr val="ffffcc"/>
              </a:solidFill>
              <a:latin typeface="Tahoma"/>
            </a:endParaRPr>
          </a:p>
          <a:p>
            <a:pPr lvl="1" marL="980640" indent="-5281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tc.</a:t>
            </a:r>
            <a:endParaRPr b="0" lang="en-US" sz="2400" spc="-1" strike="noStrike">
              <a:solidFill>
                <a:srgbClr val="ffffcc"/>
              </a:solidFill>
              <a:latin typeface="Tahoma"/>
            </a:endParaRPr>
          </a:p>
          <a:p>
            <a:pPr lvl="1" marL="980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31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5E23F8B-E131-4BF4-8DC5-ADF9EFD5EBC9}" type="slidenum">
              <a:t>6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553080" y="228600"/>
            <a:ext cx="2381400" cy="876240"/>
          </a:xfrm>
          <a:prstGeom prst="rect">
            <a:avLst/>
          </a:prstGeom>
          <a:ln w="0">
            <a:noFill/>
          </a:ln>
        </p:spPr>
      </p:pic>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1)</a:t>
            </a: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standalone="ye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Name&gt;Ulaf&lt;/Name&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Address&gt;9596 Date Ave&lt;/Addres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Cake, Slice" UnitPrice="1.25" Quantity="5"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Danish" UnitPrice="0.65" Quantity="2"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Name&gt;Stephens&lt;/Name&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Address&gt;1467 Lake Ln&lt;/Address&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ustom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 ItemName="Brownie" UnitPrice="0.45" Quantity="9" /&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der&g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s&gt;</a:t>
            </a:r>
            <a:endParaRPr b="0" lang="en-US" sz="1400" spc="-1" strike="noStrike">
              <a:solidFill>
                <a:srgbClr val="ffffff"/>
              </a:solidFill>
              <a:latin typeface="Tahoma"/>
            </a:endParaRPr>
          </a:p>
        </p:txBody>
      </p:sp>
      <p:sp>
        <p:nvSpPr>
          <p:cNvPr id="31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1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FEF95C9-079B-46E6-9824-F64D23B0E082}" type="slidenum">
              <a:t>63</a:t>
            </a:fld>
          </a:p>
        </p:txBody>
      </p:sp>
      <p:sp>
        <p:nvSpPr>
          <p:cNvPr id="6" name="PlaceHolder 5"/>
          <p:cNvSpPr>
            <a:spLocks noGrp="1"/>
          </p:cNvSpPr>
          <p:nvPr>
            <p:ph type="dt" idx="1"/>
          </p:nvPr>
        </p:nvSpPr>
        <p:spPr/>
        <p:txBody>
          <a:bodyPr/>
          <a:p>
            <a:r>
              <a:rPr lang="en-US"/>
              <a:t>September 16-17, 2003</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6553080" y="228600"/>
            <a:ext cx="2381400" cy="876240"/>
          </a:xfrm>
          <a:prstGeom prst="rect">
            <a:avLst/>
          </a:prstGeom>
          <a:ln w="0">
            <a:noFill/>
          </a:ln>
        </p:spPr>
      </p:pic>
      <p:sp>
        <p:nvSpPr>
          <p:cNvPr id="3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2)</a:t>
            </a:r>
            <a:endParaRPr b="1" lang="en-US" sz="4400" spc="-1" strike="noStrike">
              <a:solidFill>
                <a:srgbClr val="eaeaea"/>
              </a:solidFill>
              <a:latin typeface="Tahoma"/>
            </a:endParaRPr>
          </a:p>
        </p:txBody>
      </p:sp>
      <p:sp>
        <p:nvSpPr>
          <p:cNvPr id="3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XML Rea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SaxReader As New SAXXMLRea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reader's error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WithEvents m_ErrorHandler As New OrderError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SAX reader's content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WithEvents m_ContentHandler As New OrderContentHandler()</a:t>
            </a:r>
            <a:endParaRPr b="0" lang="en-US" sz="1400" spc="-1" strike="noStrike">
              <a:solidFill>
                <a:srgbClr val="ffffff"/>
              </a:solidFill>
              <a:latin typeface="Tahoma"/>
            </a:endParaRPr>
          </a:p>
        </p:txBody>
      </p:sp>
      <p:sp>
        <p:nvSpPr>
          <p:cNvPr id="32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2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FDA7F07-B87D-42AB-8B93-F8C22A29AA14}" type="slidenum">
              <a:t>64</a:t>
            </a:fld>
          </a:p>
        </p:txBody>
      </p:sp>
      <p:sp>
        <p:nvSpPr>
          <p:cNvPr id="6" name="PlaceHolder 5"/>
          <p:cNvSpPr>
            <a:spLocks noGrp="1"/>
          </p:cNvSpPr>
          <p:nvPr>
            <p:ph type="dt" idx="1"/>
          </p:nvPr>
        </p:nvSpPr>
        <p:spPr/>
        <p:txBody>
          <a:bodyPr/>
          <a:p>
            <a:r>
              <a:rPr lang="en-US"/>
              <a:t>September 16-17, 2003</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6553080" y="228600"/>
            <a:ext cx="2381400" cy="876240"/>
          </a:xfrm>
          <a:prstGeom prst="rect">
            <a:avLst/>
          </a:prstGeom>
          <a:ln w="0">
            <a:noFill/>
          </a:ln>
        </p:spPr>
      </p:pic>
      <p:sp>
        <p:nvSpPr>
          <p:cNvPr id="3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3)</a:t>
            </a:r>
            <a:endParaRPr b="1" lang="en-US" sz="4400" spc="-1" strike="noStrike">
              <a:solidFill>
                <a:srgbClr val="eaeaea"/>
              </a:solidFill>
              <a:latin typeface="Tahoma"/>
            </a:endParaRPr>
          </a:p>
        </p:txBody>
      </p:sp>
      <p:sp>
        <p:nvSpPr>
          <p:cNvPr id="3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the SAX XML Reader's content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contentHandler = m_Content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the SAX XML Reader's error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errorHandler = m_Error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SAX reader parse the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axReader.parseURL(XmlFileNam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c As Excep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sgBox(exc.Mess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grand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rders.Text &amp;= "--------------------" &amp; vbCrLf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and Total: " &amp; Format(m_GrandTotal, "$#,##0.0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2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2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1EF11E3-7FB7-4AE1-9C20-44FF84559923}" type="slidenum">
              <a:t>65</a:t>
            </a:fld>
          </a:p>
        </p:txBody>
      </p:sp>
      <p:sp>
        <p:nvSpPr>
          <p:cNvPr id="6" name="PlaceHolder 5"/>
          <p:cNvSpPr>
            <a:spLocks noGrp="1"/>
          </p:cNvSpPr>
          <p:nvPr>
            <p:ph type="dt" idx="1"/>
          </p:nvPr>
        </p:nvSpPr>
        <p:spPr/>
        <p:txBody>
          <a:bodyPr/>
          <a:p>
            <a:r>
              <a:rPr lang="en-US"/>
              <a:t>September 16-17, 2003</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6553080" y="228600"/>
            <a:ext cx="2381400" cy="876240"/>
          </a:xfrm>
          <a:prstGeom prst="rect">
            <a:avLst/>
          </a:prstGeom>
          <a:ln w="0">
            <a:noFill/>
          </a:ln>
        </p:spPr>
      </p:pic>
      <p:sp>
        <p:nvSpPr>
          <p:cNvPr id="3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4)</a:t>
            </a:r>
            <a:endParaRPr b="1" lang="en-US" sz="4400" spc="-1" strike="noStrike">
              <a:solidFill>
                <a:srgbClr val="eaeaea"/>
              </a:solidFill>
              <a:latin typeface="Tahoma"/>
            </a:endParaRPr>
          </a:p>
        </p:txBody>
      </p:sp>
      <p:sp>
        <p:nvSpPr>
          <p:cNvPr id="3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verridable Sub CatchStart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NamespaceURI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Local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Q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oAttributes As MSXML2.IVBSAXAttributes)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lements IVBSAXContentHandler.start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what kind of element this i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strLocalName = "Order"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Order. Start a new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OrderTotal = 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If strLocalName = "Item"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tem element. Add to the current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OrderTotal = m_OrderTotal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Dbl(oAttributes.getValueFromName("", "UnitPrice"))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Dbl(oAttributes.getValueFromName("", "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3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3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D50A5BF-623A-42A0-88F5-7E9C28696561}" type="slidenum">
              <a:t>66</a:t>
            </a:fld>
          </a:p>
        </p:txBody>
      </p:sp>
      <p:sp>
        <p:nvSpPr>
          <p:cNvPr id="6" name="PlaceHolder 5"/>
          <p:cNvSpPr>
            <a:spLocks noGrp="1"/>
          </p:cNvSpPr>
          <p:nvPr>
            <p:ph type="dt" idx="1"/>
          </p:nvPr>
        </p:nvSpPr>
        <p:spPr/>
        <p:txBody>
          <a:bodyPr/>
          <a:p>
            <a:r>
              <a:rPr lang="en-US"/>
              <a:t>September 16-17, 2003</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6553080" y="228600"/>
            <a:ext cx="2381400" cy="876240"/>
          </a:xfrm>
          <a:prstGeom prst="rect">
            <a:avLst/>
          </a:prstGeom>
          <a:ln w="0">
            <a:noFill/>
          </a:ln>
        </p:spPr>
      </p:pic>
      <p:sp>
        <p:nvSpPr>
          <p:cNvPr id="3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5)</a:t>
            </a:r>
            <a:endParaRPr b="1" lang="en-US" sz="4400" spc="-1" strike="noStrike">
              <a:solidFill>
                <a:srgbClr val="eaeaea"/>
              </a:solidFill>
              <a:latin typeface="Tahoma"/>
            </a:endParaRPr>
          </a:p>
        </p:txBody>
      </p:sp>
      <p:sp>
        <p:nvSpPr>
          <p:cNvPr id="3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verridable Sub CatchEndElemen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NamespaceURI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Local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Ref strQName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lements IVBSAXContentHandler.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is is the end of an Order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strLocalName = "Order" Th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This is the end of an Order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nd out the accumulated total for the Ord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aiseEvent OrderTotaled(m_Order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35"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3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C68CD2D-5ED7-4F95-AECF-58F07CED9252}" type="slidenum">
              <a:t>67</a:t>
            </a:fld>
          </a:p>
        </p:txBody>
      </p:sp>
      <p:sp>
        <p:nvSpPr>
          <p:cNvPr id="6" name="PlaceHolder 5"/>
          <p:cNvSpPr>
            <a:spLocks noGrp="1"/>
          </p:cNvSpPr>
          <p:nvPr>
            <p:ph type="dt" idx="1"/>
          </p:nvPr>
        </p:nvSpPr>
        <p:spPr/>
        <p:txBody>
          <a:bodyPr/>
          <a:p>
            <a:r>
              <a:rPr lang="en-US"/>
              <a:t>September 16-17, 2003</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6553080" y="228600"/>
            <a:ext cx="2381400" cy="876240"/>
          </a:xfrm>
          <a:prstGeom prst="rect">
            <a:avLst/>
          </a:prstGeom>
          <a:ln w="0">
            <a:noFill/>
          </a:ln>
        </p:spPr>
      </p:pic>
      <p:sp>
        <p:nvSpPr>
          <p:cNvPr id="3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Orders (6)</a:t>
            </a:r>
            <a:endParaRPr b="1" lang="en-US" sz="4400" spc="-1" strike="noStrike">
              <a:solidFill>
                <a:srgbClr val="eaeaea"/>
              </a:solidFill>
              <a:latin typeface="Tahoma"/>
            </a:endParaRPr>
          </a:p>
        </p:txBody>
      </p:sp>
      <p:sp>
        <p:nvSpPr>
          <p:cNvPr id="3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cord an order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_ContentHandler_OrderTotaled(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order_total As Double) Handles m_ContentHandler.OrderTotal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rder total to the output 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rders.Text &amp;= Format(order_total, "$#,##0.00")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rder total to the grand 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ndTotal = m_GrandTotal + order_tot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40" name=""/>
          <p:cNvSpPr/>
          <p:nvPr/>
        </p:nvSpPr>
        <p:spPr>
          <a:xfrm rot="10800000">
            <a:off x="227160" y="3926520"/>
            <a:ext cx="454680" cy="228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XOrders</a:t>
            </a:r>
            <a:endParaRPr b="0" lang="en-US" sz="1800" spc="-1" strike="noStrike">
              <a:solidFill>
                <a:srgbClr val="ffffff"/>
              </a:solidFill>
              <a:latin typeface="Arial"/>
            </a:endParaRPr>
          </a:p>
        </p:txBody>
      </p:sp>
      <p:sp>
        <p:nvSpPr>
          <p:cNvPr id="34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2C1DB12-FCEC-4546-A570-C2AD8C2F7BA4}" type="slidenum">
              <a:t>68</a:t>
            </a:fld>
          </a:p>
        </p:txBody>
      </p:sp>
      <p:sp>
        <p:nvSpPr>
          <p:cNvPr id="6" name="PlaceHolder 5"/>
          <p:cNvSpPr>
            <a:spLocks noGrp="1"/>
          </p:cNvSpPr>
          <p:nvPr>
            <p:ph type="dt" idx="1"/>
          </p:nvPr>
        </p:nvSpPr>
        <p:spPr/>
        <p:txBody>
          <a:bodyPr/>
          <a:p>
            <a:r>
              <a:rPr lang="en-US"/>
              <a:t>September 16-17, 2003</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
          <p:cNvSpPr/>
          <p:nvPr/>
        </p:nvSpPr>
        <p:spPr>
          <a:xfrm>
            <a:off x="685800" y="4800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7E4584C-2CB3-45BA-A6DF-C3669ACE24A1}" type="slidenum">
              <a:t>6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List</a:t>
            </a:r>
            <a:endParaRPr b="0" lang="en-US" sz="3200" spc="-1" strike="noStrike">
              <a:solidFill>
                <a:srgbClr val="ffffff"/>
              </a:solidFill>
              <a:latin typeface="Tahoma"/>
            </a:endParaRPr>
          </a:p>
        </p:txBody>
      </p:sp>
      <p:sp>
        <p:nvSpPr>
          <p:cNvPr id="155" name=""/>
          <p:cNvSpPr/>
          <p:nvPr/>
        </p:nvSpPr>
        <p:spPr>
          <a:xfrm>
            <a:off x="4191120" y="213372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nderson, Andy&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Baker, Beatrice&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Cantu, Charles&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Delacroix, Devon&lt;/Employe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0A47217-AFC6-4341-B50B-7E315ED119AB}" type="slidenum">
              <a:t>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Serializer</a:t>
            </a:r>
            <a:endParaRPr b="1" lang="en-US" sz="4400" spc="-1" strike="noStrike">
              <a:solidFill>
                <a:srgbClr val="eaeaea"/>
              </a:solidFill>
              <a:latin typeface="Tahoma"/>
            </a:endParaRPr>
          </a:p>
        </p:txBody>
      </p:sp>
      <p:sp>
        <p:nvSpPr>
          <p:cNvPr id="3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erialize</a:t>
            </a:r>
            <a:endParaRPr b="0" lang="en-US" sz="3200" spc="-1" strike="noStrike">
              <a:solidFill>
                <a:srgbClr val="ffffff"/>
              </a:solidFill>
              <a:latin typeface="Tahoma"/>
            </a:endParaRPr>
          </a:p>
        </p:txBody>
      </p:sp>
      <p:sp>
        <p:nvSpPr>
          <p:cNvPr id="347"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F2FC6EF-2EC9-4F10-A914-72C1C787E7BA}" type="slidenum">
              <a:t>7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1)</a:t>
            </a:r>
            <a:endParaRPr b="1" lang="en-US" sz="4400" spc="-1" strike="noStrike">
              <a:solidFill>
                <a:srgbClr val="eaeaea"/>
              </a:solidFill>
              <a:latin typeface="Tahoma"/>
            </a:endParaRPr>
          </a:p>
        </p:txBody>
      </p:sp>
      <p:sp>
        <p:nvSpPr>
          <p:cNvPr id="3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Item Cost="1.25" Number="3"&g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tem&gt;Brownies&lt;/Item&g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OrderItem&gt;</a:t>
            </a:r>
            <a:endParaRPr b="0" lang="en-US" sz="1400" spc="-1" strike="noStrike">
              <a:solidFill>
                <a:srgbClr val="ffffff"/>
              </a:solidFill>
              <a:latin typeface="Tahoma"/>
            </a:endParaRPr>
          </a:p>
        </p:txBody>
      </p:sp>
      <p:sp>
        <p:nvSpPr>
          <p:cNvPr id="350"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CC3545E-882A-44F4-97DA-FFBC4DFF8745}" type="slidenum">
              <a:t>7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2)</a:t>
            </a:r>
            <a:endParaRPr b="1" lang="en-US" sz="4400" spc="-1" strike="noStrike">
              <a:solidFill>
                <a:srgbClr val="eaeaea"/>
              </a:solidFill>
              <a:latin typeface="Tahoma"/>
            </a:endParaRPr>
          </a:p>
        </p:txBody>
      </p:sp>
      <p:sp>
        <p:nvSpPr>
          <p:cNvPr id="3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s System.Xml.Serializa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OrderIte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Element(ElementName:="Item")&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Item As String</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AttributeAttribute(AttributeName:="Cost")&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Price As Decima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m_Quantity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XmlAttributeAttribute(AttributeName:="Number")&gt;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Property Quantity()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m_Quantit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G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ByVal Value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Quantity = Valu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e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Property</a:t>
            </a:r>
            <a:endParaRPr b="0" lang="en-US" sz="1400" spc="-1" strike="noStrike">
              <a:solidFill>
                <a:srgbClr val="ffffff"/>
              </a:solidFill>
              <a:latin typeface="Tahoma"/>
            </a:endParaRPr>
          </a:p>
        </p:txBody>
      </p:sp>
      <p:sp>
        <p:nvSpPr>
          <p:cNvPr id="353"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C44F8E0-1410-4D8E-B2EE-448A4351C6FE}" type="slidenum">
              <a:t>7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derItem Class (3)</a:t>
            </a:r>
            <a:endParaRPr b="1" lang="en-US" sz="4400" spc="-1" strike="noStrike">
              <a:solidFill>
                <a:srgbClr val="eaeaea"/>
              </a:solidFill>
              <a:latin typeface="Tahoma"/>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New()</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New(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item As String,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price As Decimal,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quantity As Integ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tem = new_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ce = new_pri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Quantity = new_quantit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Class</a:t>
            </a:r>
            <a:endParaRPr b="0" lang="en-US" sz="1400" spc="-1" strike="noStrike">
              <a:solidFill>
                <a:srgbClr val="ffffff"/>
              </a:solidFill>
              <a:latin typeface="Tahoma"/>
            </a:endParaRPr>
          </a:p>
        </p:txBody>
      </p:sp>
      <p:sp>
        <p:nvSpPr>
          <p:cNvPr id="356"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8E05110-5DC7-4F7B-A311-000D4244ED8C}" type="slidenum">
              <a:t>7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ing</a:t>
            </a:r>
            <a:endParaRPr b="1" lang="en-US" sz="4400" spc="-1" strike="noStrike">
              <a:solidFill>
                <a:srgbClr val="eaeaea"/>
              </a:solidFill>
              <a:latin typeface="Tahoma"/>
            </a:endParaRPr>
          </a:p>
        </p:txBody>
      </p:sp>
      <p:sp>
        <p:nvSpPr>
          <p:cNvPr id="3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n array of OrderItem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rdered_items(2) As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data into OrderItem objec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Serializ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serializer As New XmlSerializer(GetType(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FileStream to write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Cre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erialize the arra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serializer.Serialize(file_stream, ordered_item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59"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3FE6F85-18F5-4DB8-8800-514FF5979633}" type="slidenum">
              <a:t>7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erializing</a:t>
            </a:r>
            <a:endParaRPr b="1" lang="en-US" sz="4400" spc="-1" strike="noStrike">
              <a:solidFill>
                <a:srgbClr val="eaeaea"/>
              </a:solidFill>
              <a:latin typeface="Tahoma"/>
            </a:endParaRPr>
          </a:p>
        </p:txBody>
      </p:sp>
      <p:sp>
        <p:nvSpPr>
          <p:cNvPr id="3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Serializ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serializer As New XmlSerializer(GetType(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TextReader to read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Op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items from the serializ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ordered_items() As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rdered_items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ype(xml_serializer.Deserialize(file_stream), OrderIte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p:txBody>
      </p:sp>
      <p:sp>
        <p:nvSpPr>
          <p:cNvPr id="362" name=""/>
          <p:cNvSpPr/>
          <p:nvPr/>
        </p:nvSpPr>
        <p:spPr>
          <a:xfrm rot="10800000">
            <a:off x="227160" y="3571560"/>
            <a:ext cx="454680" cy="266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AF36F12-A25B-4CE7-8AC7-63B120BB56D1}" type="slidenum">
              <a:t>7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ation Features</a:t>
            </a:r>
            <a:endParaRPr b="1" lang="en-US" sz="4400" spc="-1" strike="noStrike">
              <a:solidFill>
                <a:srgbClr val="eaeaea"/>
              </a:solidFill>
              <a:latin typeface="Tahoma"/>
            </a:endParaRPr>
          </a:p>
        </p:txBody>
      </p:sp>
      <p:sp>
        <p:nvSpPr>
          <p:cNvPr id="3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Formatt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apFormatter</a:t>
            </a:r>
            <a:endParaRPr b="0" lang="en-US" sz="32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 data</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item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arenthood” loop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erializabl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9D82727-ECCB-4DAD-81EE-B12C82704DF6}" type="slidenum">
              <a:t>7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364">
                                            <p:txEl>
                                              <p:pRg st="4" end="4"/>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64">
                                            <p:txEl>
                                              <p:pRg st="5" end="5"/>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685800" y="54100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XmlTextWriter, XmlTextReader</a:t>
            </a:r>
            <a:endParaRPr b="0" lang="en-US" sz="2800" spc="-1" strike="noStrike">
              <a:solidFill>
                <a:srgbClr val="ffffcc"/>
              </a:solidFill>
              <a:latin typeface="Tahoma"/>
            </a:endParaRPr>
          </a:p>
          <a:p>
            <a:pPr lvl="1" marL="990720" indent="-533520">
              <a:spcBef>
                <a:spcPts val="700"/>
              </a:spcBef>
              <a:buClr>
                <a:srgbClr val="ff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AX</a:t>
            </a:r>
            <a:endParaRPr b="0" lang="en-US" sz="2800" spc="-1" strike="noStrike">
              <a:solidFill>
                <a:srgbClr val="ffffcc"/>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8203A0B-BFC0-40DB-A422-86B43FAE5D37}" type="slidenum">
              <a:t>7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369"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636D393-5B70-4923-9B82-46AE165FE8ED}" type="slidenum">
              <a:t>7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nus Section!</a:t>
            </a:r>
            <a:endParaRPr b="1" lang="en-US" sz="44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ing Images</a:t>
            </a:r>
            <a:endParaRPr b="0" lang="en-US" sz="3200" spc="-1" strike="noStrike">
              <a:solidFill>
                <a:srgbClr val="ffffff"/>
              </a:solidFill>
              <a:latin typeface="Tahoma"/>
            </a:endParaRPr>
          </a:p>
        </p:txBody>
      </p:sp>
      <p:pic>
        <p:nvPicPr>
          <p:cNvPr id="372" name="" descr=""/>
          <p:cNvPicPr/>
          <p:nvPr/>
        </p:nvPicPr>
        <p:blipFill>
          <a:blip r:embed="rId1"/>
          <a:stretch/>
        </p:blipFill>
        <p:spPr>
          <a:xfrm>
            <a:off x="1692360" y="3124080"/>
            <a:ext cx="6446880" cy="300060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046A076-DDBA-4EAD-844E-B422D9E4D696}" type="slidenum">
              <a:t>79</a:t>
            </a:fld>
          </a:p>
        </p:txBody>
      </p:sp>
      <p:sp>
        <p:nvSpPr>
          <p:cNvPr id="6" name="PlaceHolder 5"/>
          <p:cNvSpPr>
            <a:spLocks noGrp="1"/>
          </p:cNvSpPr>
          <p:nvPr>
            <p:ph type="dt" idx="1"/>
          </p:nvPr>
        </p:nvSpPr>
        <p:spPr/>
        <p:txBody>
          <a:bodyPr/>
          <a:p>
            <a:r>
              <a:rPr lang="en-US"/>
              <a:t>September 16-17, 2003</a:t>
            </a: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5">
                                  <p:stCondLst>
                                    <p:cond delay="0"/>
                                  </p:stCondLst>
                                  <p:childTnLst>
                                    <p:audio isNarration="0">
                                      <p:cMediaNode showWhenStopped="1">
                                        <p:cTn/>
                                        <p:tgtEl>
                                          <p:sndTgt r:embed="rId2" name="suction.wav"/>
                                        </p:tgtEl>
                                      </p:cMediaNode>
                                    </p:audio>
                                    <p:set>
                                      <p:cBhvr>
                                        <p:cTn id="277" dur="1" fill="hold">
                                          <p:stCondLst>
                                            <p:cond delay="0"/>
                                          </p:stCondLst>
                                        </p:cTn>
                                        <p:tgtEl>
                                          <p:spTgt spid="372"/>
                                        </p:tgtEl>
                                        <p:attrNameLst>
                                          <p:attrName>style.visibility</p:attrName>
                                        </p:attrNameLst>
                                      </p:cBhvr>
                                      <p:to>
                                        <p:strVal val="visible"/>
                                      </p:to>
                                    </p:set>
                                    <p:animEffect filter="fade" transition="in">
                                      <p:cBhvr additive="repl">
                                        <p:cTn id="278" dur="500"/>
                                        <p:tgtEl>
                                          <p:spTgt spid="372"/>
                                        </p:tgtEl>
                                      </p:cBhvr>
                                    </p:animEffect>
                                    <p:anim calcmode="lin" valueType="num">
                                      <p:cBhvr additive="repl">
                                        <p:cTn id="279" dur="500" fill="hold"/>
                                        <p:tgtEl>
                                          <p:spTgt spid="372"/>
                                        </p:tgtEl>
                                        <p:attrNameLst>
                                          <p:attrName>r</p:attrName>
                                        </p:attrNameLst>
                                      </p:cBhvr>
                                      <p:tavLst>
                                        <p:tav tm="0">
                                          <p:val>
                                            <p:strVal val="720"/>
                                          </p:val>
                                        </p:tav>
                                        <p:tav tm="100000">
                                          <p:val>
                                            <p:strVal val="0"/>
                                          </p:val>
                                        </p:tav>
                                      </p:tavLst>
                                    </p:anim>
                                    <p:anim calcmode="lin" valueType="num">
                                      <p:cBhvr additive="repl">
                                        <p:cTn id="280" dur="500" fill="hold"/>
                                        <p:tgtEl>
                                          <p:spTgt spid="372"/>
                                        </p:tgtEl>
                                        <p:attrNameLst>
                                          <p:attrName>ppt_h</p:attrName>
                                        </p:attrNameLst>
                                      </p:cBhvr>
                                      <p:tavLst>
                                        <p:tav tm="0">
                                          <p:val>
                                            <p:fltVal val="0"/>
                                          </p:val>
                                        </p:tav>
                                        <p:tav tm="100000">
                                          <p:val>
                                            <p:strVal val="#ppt_h"/>
                                          </p:val>
                                        </p:tav>
                                      </p:tavLst>
                                    </p:anim>
                                    <p:anim calcmode="lin" valueType="num">
                                      <p:cBhvr additive="repl">
                                        <p:cTn id="281" dur="500" fill="hold"/>
                                        <p:tgtEl>
                                          <p:spTgt spid="3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Hierarchical</a:t>
            </a:r>
            <a:endParaRPr b="0" lang="en-US" sz="3200" spc="-1" strike="noStrike">
              <a:solidFill>
                <a:srgbClr val="ffffff"/>
              </a:solidFill>
              <a:latin typeface="Tahoma"/>
            </a:endParaRPr>
          </a:p>
        </p:txBody>
      </p:sp>
      <p:sp>
        <p:nvSpPr>
          <p:cNvPr id="158" name=""/>
          <p:cNvSpPr/>
          <p:nvPr/>
        </p:nvSpPr>
        <p:spPr>
          <a:xfrm>
            <a:off x="4191120" y="213372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GiagantiCorp&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 Name="Data Servic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 Name=“Op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QUARK"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ADAS"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FIPS"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 Name="Billing"&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ACE"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ject Name="MICK"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part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 Name="Operation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i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GiagantiCorp&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09F482F-5D5D-4EE8-9A01-E3139115A987}" type="slidenum">
              <a:t>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e Image</a:t>
            </a:r>
            <a:endParaRPr b="1" lang="en-US" sz="4400" spc="-1" strike="noStrike">
              <a:solidFill>
                <a:srgbClr val="eaeaea"/>
              </a:solidFill>
              <a:latin typeface="Tahoma"/>
            </a:endParaRPr>
          </a:p>
        </p:txBody>
      </p:sp>
      <p:sp>
        <p:nvSpPr>
          <p:cNvPr id="3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BinaryFormat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inary_formatter As New BinaryFormat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FileStream to write wi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Cre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erialize pic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inary_formatter.Serialize(file_stream, picImage.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75" name=""/>
          <p:cNvSpPr/>
          <p:nvPr/>
        </p:nvSpPr>
        <p:spPr>
          <a:xfrm rot="10800000">
            <a:off x="227160" y="3511440"/>
            <a:ext cx="454680" cy="271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106A232-E4FD-4B9E-BD7B-05748216FC82}" type="slidenum">
              <a:t>8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erialize Image</a:t>
            </a:r>
            <a:endParaRPr b="1" lang="en-US" sz="4400" spc="-1" strike="noStrike">
              <a:solidFill>
                <a:srgbClr val="eaeaea"/>
              </a:solidFill>
              <a:latin typeface="Tahoma"/>
            </a:endParaRPr>
          </a:p>
        </p:txBody>
      </p:sp>
      <p:sp>
        <p:nvSpPr>
          <p:cNvPr id="3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 BinaryFormat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inary_formatter As New BinaryFormat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XmlTextReader to read wi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ile_stream As New FileStream(XmlFileName(), FileMode.Ope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ad the item from the serializa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ype(binary_formatter.Deserialize(file_stream), Imag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the FileStrea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ile_stream.Close()</a:t>
            </a:r>
            <a:endParaRPr b="0" lang="en-US" sz="1400" spc="-1" strike="noStrike">
              <a:solidFill>
                <a:srgbClr val="ffffff"/>
              </a:solidFill>
              <a:latin typeface="Tahoma"/>
            </a:endParaRPr>
          </a:p>
        </p:txBody>
      </p:sp>
      <p:sp>
        <p:nvSpPr>
          <p:cNvPr id="378" name=""/>
          <p:cNvSpPr/>
          <p:nvPr/>
        </p:nvSpPr>
        <p:spPr>
          <a:xfrm rot="10800000">
            <a:off x="227160" y="3511440"/>
            <a:ext cx="454680" cy="271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C216BD1-B721-4DA1-8A58-E7112F87CF7D}" type="slidenum">
              <a:t>8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erialize Image As Text (1)</a:t>
            </a:r>
            <a:endParaRPr b="1" lang="en-US" sz="40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the XmlTextWrit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l_text_writer As New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TextWriter(XmlFileName(), System.Text.Encoding.UTF8)</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Formatting = Formatting.Indent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Document(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Picture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StartElement("Pi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Encoding", "Base6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picture into a memory 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memory_stream As New MemoryStrea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Save(memory_stream, picImage.Image.RawForm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memory stream into a byte arra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ytes(memory_stream.Length - 1) As By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ytes = memory_stream.ToArray()</a:t>
            </a:r>
            <a:endParaRPr b="0" lang="en-US" sz="1400" spc="-1" strike="noStrike">
              <a:solidFill>
                <a:srgbClr val="ffffff"/>
              </a:solidFill>
              <a:latin typeface="Tahoma"/>
            </a:endParaRPr>
          </a:p>
        </p:txBody>
      </p:sp>
      <p:sp>
        <p:nvSpPr>
          <p:cNvPr id="381"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E58C60F-DC9E-4AD3-A2B3-1BB582E3F376}" type="slidenum">
              <a:t>8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erialize Image As Text (2)</a:t>
            </a:r>
            <a:endParaRPr b="1" lang="en-US" sz="4000" spc="-1" strike="noStrike">
              <a:solidFill>
                <a:srgbClr val="eaeaea"/>
              </a:solidFill>
              <a:latin typeface="Tahoma"/>
            </a:endParaRPr>
          </a:p>
        </p:txBody>
      </p:sp>
      <p:sp>
        <p:nvSpPr>
          <p:cNvPr id="3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ave the array's length as an attribu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AttributeString("NumBytes", bytes.Leng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Write the byte data into the XML fi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Base64(bytes, 0, bytes.Leng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nd the Picture 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Ele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nd the XML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WriteEnd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l_text_writer.Close()</a:t>
            </a:r>
            <a:endParaRPr b="0" lang="en-US" sz="1400" spc="-1" strike="noStrike">
              <a:solidFill>
                <a:srgbClr val="ffffff"/>
              </a:solidFill>
              <a:latin typeface="Tahoma"/>
            </a:endParaRPr>
          </a:p>
        </p:txBody>
      </p:sp>
      <p:sp>
        <p:nvSpPr>
          <p:cNvPr id="384"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38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06E0658-4F95-44F6-BDE0-9B11D13113EF}" type="slidenum">
              <a:t>8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age As Text</a:t>
            </a:r>
            <a:endParaRPr b="1" lang="en-US" sz="4000" spc="-1" strike="noStrike">
              <a:solidFill>
                <a:srgbClr val="eaeaea"/>
              </a:solidFill>
              <a:latin typeface="Tahoma"/>
            </a:endParaRPr>
          </a:p>
        </p:txBody>
      </p:sp>
      <p:sp>
        <p:nvSpPr>
          <p:cNvPr id="387"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3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yes"?&gt;</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icture Encoding="Base64" NumBytes="17802"&gt;/9j/4AAQSkZJRgABAgIAAAAAAAD/4QALUElDAAIKCgAA/9sAQwAFAwMEAwMFBAQEBQUFBQcMCAcGBgcPCgsJDBIPExIRDxERFBYcGBQVGxURERkiGRsdHiAgIBMYIyUjHyUcHyAe/9sAQwEFBQUHBgcOCAgOHhQRFB4eHh4eHh4eHh4eHh4eHh4eHh4eHh4eHh4eHh4eHh4eHh4eHh4eHh4eHh4eHh4eHh4e/8AAEQgBEQEwAwERAAIRAQMRAf/EAB8AAAEFAQEBAQEBAAAAAAAAAAABAgMEBQYHCAkKC//EALUQAAIBAwMCBAMFBQQEAAABfQECAwAEEQUSITFBBhNRYQcicRQygZGhCCNCscEVUtHwJDNicoIJChYXGBkaJSYnKCkqNDU2Nzg5OkNERUZHSElKU1RVVldYWVpjZGVmZ2hpanN0dXZ3eHl6g4SFhoeIiYqSk5SVlpeYmZqio6Slpqeoqaqys7S1tre4ubrCw8TFxsfIycrS09TV1tfY2drh4uPk5ebn6Onq8fLz9PX29/j5+v/EAB8BAAMBAQEBAQEBAQEAAAAAAAABAgMEBQYHCAkKC//EALURAAIBAgQEAwQHBQQEAAECdwABAgMRBAUhMQYSQVEHY... &lt;LOTS of text deleted&gt; ...</a:t>
            </a: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KACgAoAKACgCWO8uIVCx3EqKOgVyBUuMXujWNapBWjJr5j/wC0bz/n7n/7+Gjkj2K+s1v5397IGYuxZiSScknvVGLbbuxKBBQAUAFABQAUAFABQAUAFABQAUAFABQAUAFABQAUAFABQAUAFABQAUAFABQAUAFABQAUAFABQAUAFABQAUAFABQAUAFABQAUAFABQAUAFABQAUAFABQAUAFABQAUAFABQAUAFABQAUAFABQAUAFABQAUAf/Z&lt;/Picture&gt;</a:t>
            </a:r>
            <a:endParaRPr b="0" lang="en-US" sz="1400" spc="-1" strike="noStrike">
              <a:solidFill>
                <a:srgbClr val="ffffff"/>
              </a:solidFill>
              <a:latin typeface="Tahoma"/>
            </a:endParaRPr>
          </a:p>
        </p:txBody>
      </p:sp>
      <p:pic>
        <p:nvPicPr>
          <p:cNvPr id="389"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81BA57B-2BBD-400D-BB39-C033FF2D68D6}" type="slidenum">
              <a:t>84</a:t>
            </a:fld>
          </a:p>
        </p:txBody>
      </p:sp>
      <p:sp>
        <p:nvSpPr>
          <p:cNvPr id="6" name="PlaceHolder 5"/>
          <p:cNvSpPr>
            <a:spLocks noGrp="1"/>
          </p:cNvSpPr>
          <p:nvPr>
            <p:ph type="dt" idx="1"/>
          </p:nvPr>
        </p:nvSpPr>
        <p:spPr/>
        <p:txBody>
          <a:bodyPr/>
          <a:p>
            <a:r>
              <a:rPr lang="en-US"/>
              <a:t>September 16-17, 2003</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eserialize Image As Text</a:t>
            </a:r>
            <a:endParaRPr b="1" lang="en-US" sz="4000" spc="-1" strike="noStrike">
              <a:solidFill>
                <a:srgbClr val="eaeaea"/>
              </a:solidFill>
              <a:latin typeface="Tahoma"/>
            </a:endParaRPr>
          </a:p>
        </p:txBody>
      </p:sp>
      <p:sp>
        <p:nvSpPr>
          <p:cNvPr id="3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the Picture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o While xml_text_reader.Rea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is is the Picture elemen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l_text_reader.Name = "Picture"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llocate space for the d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um_bytes As Long =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GetAttribute("Num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ytes(num_bytes - 1) As Byt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ad the d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ml_text_reader.ReadBase64(bytes, 0, num_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llocate a MemoryStream filled with the 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emory_stream As New MemoryStream(byt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Load the picture from the memory strea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Image.Image = Image.FromStream(memory_strea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op</a:t>
            </a:r>
            <a:endParaRPr b="0" lang="en-US" sz="1400" spc="-1" strike="noStrike">
              <a:solidFill>
                <a:srgbClr val="ffffff"/>
              </a:solidFill>
              <a:latin typeface="Tahoma"/>
            </a:endParaRPr>
          </a:p>
        </p:txBody>
      </p:sp>
      <p:sp>
        <p:nvSpPr>
          <p:cNvPr id="392" name=""/>
          <p:cNvSpPr/>
          <p:nvPr/>
        </p:nvSpPr>
        <p:spPr>
          <a:xfrm rot="10800000">
            <a:off x="227160" y="306072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ImageTex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7B6D461-24EA-4A1C-A5FC-0FCF1713A6D1}" type="slidenum">
              <a:t>8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ical Structures</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a:t>
            </a:r>
            <a:r>
              <a:rPr b="0" lang="en-US" sz="3200" spc="-1" strike="noStrike">
                <a:solidFill>
                  <a:srgbClr val="66ccff"/>
                </a:solidFill>
                <a:latin typeface="Tahoma"/>
              </a:rPr>
              <a:t>Junk pile”</a:t>
            </a:r>
            <a:endParaRPr b="0" lang="en-US" sz="3200" spc="-1" strike="noStrike">
              <a:solidFill>
                <a:srgbClr val="ffffff"/>
              </a:solidFill>
              <a:latin typeface="Tahoma"/>
            </a:endParaRPr>
          </a:p>
        </p:txBody>
      </p:sp>
      <p:sp>
        <p:nvSpPr>
          <p:cNvPr id="161" name=""/>
          <p:cNvSpPr/>
          <p:nvPr/>
        </p:nvSpPr>
        <p:spPr>
          <a:xfrm>
            <a:off x="4191120" y="2133720"/>
            <a:ext cx="510516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mso-application progid="Word.Document"?&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w:wordDocument ... &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DocumentProperti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Title&gt;Hello&lt;/o:Title&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Author&gt;Rod Stephens&lt;/o:Autho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LastAuthor&gt;Rod Stephens&lt;/o:LastAutho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Revision&gt;3&lt;/o:Revision&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o:DocumentProperti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fonts&gt;...&lt;/w:font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styles&gt;... &lt;/w:styles&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docPr&gt;...&lt;/w:docPr&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w:body&gt;...&lt;/w:body&gt;</a:t>
            </a:r>
            <a:endParaRPr b="0" lang="en-US" sz="14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w:wordDocument&gt;</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DA43A91-1652-49B7-97D8-F87685F7C510}" type="slidenum">
              <a:t>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3-09-19T16:51:26Z</dcterms:modified>
  <cp:revision>167</cp:revision>
  <dc:subject/>
  <dc:title>Fun with GDI+</dc:title>
</cp:coreProperties>
</file>