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E4C1-20CB-473B-BC62-AD24AEE9C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DisplayXmlNode makes a string that contains an XmlNode’s name and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then loops through the node’s ChildNodes collection, recursively calling itself to return indented representations of the child nodes’ subtre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XML file used by this program on the left. On the right is an image of the running pro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object hierarchy begins with a document node followed by the version processor instruction and the comment. It then contains the data no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lso that the nodes corresponding to tags in the XML file do not have values. The nodes that directly contain text in the XML file contain unnamed text nodes in the object hierarchy. It is those text nodes that contain the tex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keDom builds a DOM hierarchy and saves it into an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Save button, the program makes a new Xml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makes an XmlDeclaration object and adds it to the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makes the root data node named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reates an XmlAttribute named Date with value 4/26/06 and adds it the root no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add three children to the root data node. It uses the document’s CreateElement method to make a data node named XML. It sets the element’s InnerText to “XML Files” so the node contains that text. Finally the code adds the new data nod to the root data node’s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repeats these steps for two other child no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program uses the XML document’s Save method to save the data into a f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earches a DOM hierarchy for nodes named Book and adds their Title values to a List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starts by using the DOM document’s GetELementsByTagName method to loop over a collection containing all of the nodes named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Book node, the program loops through the nodes’ children. When it finds a child named Title, the code adds the Title node’s InnerText value to the ListBox.</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earchDom code isn’t too complicated, it would be more difficult to perform general 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ath is a language for specifying searches more generally. Here’s the code to populate the ListBox written using an XPath qu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ry specifies nodes named Title that have a parent node named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 document’s SelectNodes method returns a collection of nodes matching the XPath qu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loops over this collection, adding each returned node’s InnerText to the List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 simpler, y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 data-description language and nothing else. Anyone who tells you it does something more than just storing data is trying to sell you some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XML’s great benefits is its flexibility. You can define any elements you like nested to any dep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XML files have a single root data element. All other elements must live inside tha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have attributes that provide more information about the element. For instance, an attribute could specify an element’s type. Just as you define the elements, you also define the attributes. You can give attributes just about any names and values you l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 element’s attributes contain all the information you need to define the element. In that case, you can use a special empty element syntax to avoid a few keystrok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can include comments. These may lie outside of the data hierarchy (outside of the data root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include processor instructions. These can also lie outside of the data hierarch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a ListBox entry in program SelectNodes, the code locates the corresponding Book node and displays its contents. Using DOM navigation, you would need to find the selected Title node and then follow its ParentNode link back up to the Book node contain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builds an XPath query of the form shown on the bottom. It looks for a nod named Title with parent named Book. The expression in brackets is a condition that indicates that the found node’s text must equal the indicated string. The final /.. means go to this node’s pa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nd result is that this query finds the Book node that contains the Tile node with the selected title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uses the XML document’s SelectSingleNode method to find this node. It then displays the Book node’s InnerXml value in a message box. It replaces “&gt;&lt;” pairs with carriage returns so the nested XML nods appear on separate l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It shows all of the XML test inside the selected Book no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NET includes routines for reading and writing XML files in a forward-only way. Why would you want to d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f you have a huge DOM, you may not be able to fit it all into memory at once. For example, suppose you need to work with a customer database that contains entries for a few million customers. It’s unlikely that you’ll have enough memory to load i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only need to work with a small part of a large XML document. For example, you might need to find a specific customer in your huge customer database. In that case, loading the while thing into memory would be waste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you may be able to stop processing early. For example, you may want to look through a job database and display only the first 100 entries for the user. In that case, it would be wasteful to load the entire job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ome tasks are naturally forward-only. For example, you might step through an order database printing invoices for each order. You print the invoices one-at-a-time so there’s no reason to have them all loaded at o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 imposes some overhead so it’s worth avoiding in these ca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TextWriter provides methods for writing various pieces of an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TextReader’s methods read items from the current position in the docu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stands for Simple API for X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TextReader is procedural. You tell it what to do and it does it. For example, read an attribute, read an element’s text, skip a nod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 is event-oriented. It processes the file and executes callbacks when it encounters various types of nod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s an example XML file with some of its more important features label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oring the initial comment, the file begins with an XML declaration processing instruction. This tells whatever program is reading the file that it is XML version 1.0 (the only version currently defined), the character set is normal UTF-8, and that the file doesn’t require any external declar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XML declaration is the most common processing instruction and some applications refuse to read an XML file if it doesn’t include a declaration.</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Serializer class provides two methods, Serialize and Deserialize that let you serialize and deserialize objects. It’s almost that simpl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tudio provides several other serialization cap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aryFormatter class serializes and deserializes using a more compact binary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apFormatter class uses a SOAP (Simple Object Access Protocol) envel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ttributes to control how an object is serialized. For example, you can indicate that some properties should be made XML attributes while others are made sub-i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ializer classes provided by Visual Studio can handle binary data (such as images) and can automatically serialize sub-items. Some of the serializer classes can handle “parenthood loops” where an object has a reference to another object that has a reference to the fir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ISerializable interface allows an object to completely control its own serialization and deserializ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s define the types of data an XML file can hold. For example, a schema can indicate that the Address element contains exactly one Street, City, State, and PostalCode element in that order. For example, if you receive an customer order that satisfies the schema, then you have some reason to believe that the data is val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D is highlighted here because Microsoft provides the most support for that kind of sc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rite code to validate XML data against a sch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 stands for Document Object Model. It’s a rather unfortunate, overly generic name that can and has been applied to topics other than XML hierarch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ore useful DOM 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Document: Represents the XML document as a whole. Its ChildNodes collection contains the root data element and any processing instructions or comments that live at the document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Element: Represents a data element. Its GetAttribute method gets an attribute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Attribute: Represents an attribute in an XmlElement. You can use the XmlElement object’s GetAttribute and SetAttribute methods so you often don’t need to work with attributes a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Text: Represents a text value. For example, if a FirstName element contains the text Mike, its XmlElement object actually contains an XmlText object that holds the value M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Comment: Represents a com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A more generic class that can represent an XmlDocument, XmlElement, XmlComment, XmlText, XmlAttribute, or other DOM ob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the XmlDocument object represents the document as a wh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Load and Save methods for loading and saving the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Xml method lets you initialize the document using a text string containing XML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Xml and OuterXml return the object’s XML text. OuterXml includes the object’s tags while InnerXml includes just what’s inside the ta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s DocumentElement property returns a reference to the data root element. This is handy if you want to work with the data and don’t need to look at processing instru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also includes methods for creating new DOM objects. I’ll describe them a bit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ode provides some standard methods that are useful for the objects it can re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returns a child item by name. This is handy if you want to find a particular child e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Text returns the text values contained in the node and its descendants, all concatenated together. If you know an element contains only text, for example a LastName element, this returns the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ives the node’s n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XmlElement’s ChildNodes and Attributes collections return objects representing the element’s child nodes and attributes. You can loop through these to examine the DOM’s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you can use the Item method to go to a child node with a particular na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LoadDom loads a DOM hierarchy from an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Load button, this code creates a new XmlDocument object and calls its Load method to load the XML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calls the DisplayXmlNode function to get a string representation of the DOM hierarch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4479D-FA25-42D3-985C-B9BEFD5A4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DBBD-43A5-438E-A96E-9AD19EBC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248A6-55F5-4F00-8D29-85E20333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78653-E448-4C20-91FB-05956B8C4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24401-BF84-46D2-B939-397F83630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4E2FB-2BC3-410F-A3D5-5016996FF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E16BC-4972-4D53-A805-2FAA2B3D2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71FE0-69A2-4EB1-932E-4ED54CB51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74409-BD7B-43D1-8C6B-455002C47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5AAF7-9A35-41A6-8477-9868EE93E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4C9F7-86DE-4A18-A752-AD7B3983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303D-952D-4D01-971B-543DCE9BB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4EF7-750C-46CE-80CA-3E37669B7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7E47D-7166-402C-820E-0DF68EAF5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37EAC-DE20-4D0A-AB42-4FE371BAA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2A0AA-5714-4BC5-A9DC-D301BBEE1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7A430-5966-42B1-BDB7-F0BA4278B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C9719-9A89-4D19-9A73-FC736201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DC9F-1529-4F1F-95CA-C67A674F3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25F4-723D-47A4-83F1-D9C84824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C8E2-7053-44EF-BCF8-9A8BFB043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65B6-042F-41A2-BFA5-29B98B07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D544-11DE-4D41-A0B7-30E63B32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6FBB-D1F5-4D7B-A3D4-0BC26A20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D206-14B6-4076-AA1A-13E4D5D2D7F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952B-CFF4-4B66-8C45-253D68A16B0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file:///HandyNamespaces.ppt#DOM Object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F9900BA-2D45-486C-A8E7-9B086A57E18A}"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LoadDom (2)</a:t>
            </a: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Make a string listing the node's subtree stru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Function DisplayXmlNode(ByVal xml_node As XmlNod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Optional ByVal indent As Integer = 0) As Str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Start with this node's name and val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result As String = Space(indent) &amp;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xml_node.Name &amp; " (" &amp; xml_node.Value &amp; ")" &amp; vbCrLf</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Recursively add the child 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or Each child As XmlNode In xml_node.ChildNod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sult &amp;= DisplayXmlNode(child, indent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Next chil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Return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turn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Func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Class</a:t>
            </a:r>
            <a:endParaRPr b="0" lang="en-US" sz="1400" spc="-1" strike="noStrike">
              <a:solidFill>
                <a:srgbClr val="ffffff"/>
              </a:solidFill>
              <a:latin typeface="Tahoma"/>
            </a:endParaRPr>
          </a:p>
        </p:txBody>
      </p:sp>
      <p:sp>
        <p:nvSpPr>
          <p:cNvPr id="149" name=""/>
          <p:cNvSpPr/>
          <p:nvPr/>
        </p:nvSpPr>
        <p:spPr>
          <a:xfrm rot="10800000">
            <a:off x="227160" y="403704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5C01F60-FF17-4B60-9BC0-F12F963B8E0E}" type="slidenum">
              <a:t>1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LoadDom (3)</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t;?xml version="1.0" encoding="utf-8" standalone="yes" ?&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t;!-- Book list --&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t;Books&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Book Price="$39.99" Pages="1022" Year="2005"&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Title&gt;Visual Basic 2005 Programmer's Reference&lt;/Title&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ISBN&gt;0-7645-7198-2&lt;/ISBN&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URL&gt;http://www.vb-helper.com/vb_prog_ref.htm&lt;/URL&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Picture&gt;http://www.vb-helper.com/vb_prog_ref.jpg&lt;/Picture&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Author&gt;Rod Stephens&lt;/Author&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Book&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Book Price="$39.99" Pages="503" Year="2002"&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Title&gt;Visual Basic .NET and XML&lt;/Title&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ISBN&gt;0-471-12060-X&lt;/ISBN&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URL&gt;http://www.vb-helper.com/xml.htm&lt;/URL&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Picture&gt;http://www.vb-helper.com/xmls.jpg&lt;/Picture&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Author&gt;Rod Stephens&lt;/Author&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Author&gt;Brian Hochgurtel&lt;/Author&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lt;/Book&g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t;/Books&gt;</a:t>
            </a:r>
            <a:endParaRPr b="0" lang="en-US" sz="1400" spc="-1" strike="noStrike">
              <a:solidFill>
                <a:srgbClr val="ffffff"/>
              </a:solidFill>
              <a:latin typeface="Tahoma"/>
            </a:endParaRPr>
          </a:p>
        </p:txBody>
      </p:sp>
      <p:pic>
        <p:nvPicPr>
          <p:cNvPr id="152" name="" descr=""/>
          <p:cNvPicPr/>
          <p:nvPr/>
        </p:nvPicPr>
        <p:blipFill>
          <a:blip r:embed="rId1"/>
          <a:stretch/>
        </p:blipFill>
        <p:spPr>
          <a:xfrm>
            <a:off x="5410080" y="1600200"/>
            <a:ext cx="3457800" cy="379080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8499B3A-30C0-424E-B61C-CDD80B2549A0}"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MakeDom (1)</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Make and save an XML documen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rivate Sub btnSave_Click(ByVal sender As System.Object, _</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e As System.EventArgs) Handles btnSave.Click</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Start with an empty DOM documen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doc As New XmlDocumen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sz="1400" spc="-1" strike="noStrike">
                <a:solidFill>
                  <a:srgbClr val="99cc00"/>
                </a:solidFill>
                <a:latin typeface="Courier New"/>
              </a:rPr>
              <a:t>' Add the XML declaration.</a:t>
            </a:r>
            <a:endParaRPr b="0" lang="en-US" sz="1400" spc="-1" strike="noStrike">
              <a:solidFill>
                <a:srgbClr val="ffffff"/>
              </a:solidFill>
              <a:latin typeface="Tahoma"/>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Dim xml_declaration As XmlDeclaration = _</a:t>
            </a:r>
            <a:endParaRPr b="0" lang="en-US" sz="1400" spc="-1" strike="noStrike">
              <a:solidFill>
                <a:srgbClr val="ffffff"/>
              </a:solidFill>
              <a:latin typeface="Tahoma"/>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doc.CreateXmlDeclaration("1.0", "UTF-8", "yes")</a:t>
            </a:r>
            <a:endParaRPr b="0" lang="en-US" sz="1400" spc="-1" strike="noStrike">
              <a:solidFill>
                <a:srgbClr val="ffffff"/>
              </a:solidFill>
              <a:latin typeface="Tahoma"/>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doc.AppendChild(xml_declaration)</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Add a root node.</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root As XmlNode = doc.CreateElement("Topics")</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oc.AppendChild(roo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Give the root a Date attribute.</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root_attr As XmlAttribute = doc.CreateAttribute("Date")</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oot_attr.Value = "4/24/06"</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oot.Attributes.Append(root_attr)</a:t>
            </a:r>
            <a:endParaRPr b="0" lang="en-US" sz="1400" spc="-1" strike="noStrike">
              <a:solidFill>
                <a:srgbClr val="ffffff"/>
              </a:solidFill>
              <a:latin typeface="Tahoma"/>
            </a:endParaRPr>
          </a:p>
        </p:txBody>
      </p:sp>
      <p:sp>
        <p:nvSpPr>
          <p:cNvPr id="155" name=""/>
          <p:cNvSpPr/>
          <p:nvPr/>
        </p:nvSpPr>
        <p:spPr>
          <a:xfrm rot="10800000">
            <a:off x="227160" y="3985560"/>
            <a:ext cx="454680" cy="2238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8C4019A-8EC0-4301-9C71-16066201D64A}"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MakeDom (2)</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Add three childr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hild1 As XmlNode = doc.CreateElement("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hild1.InnerText = "XML fil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oot.AppendChild(child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hild2 As XmlNode = doc.CreateElement("Rege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hild2.InnerText = "Regular expression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oot.AppendChild(child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hild3 As XmlNode = doc.CreateElement("Crypt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hild3.InnerText = "Cryptograph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oot.AppendChild(child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urier New"/>
              </a:rPr>
              <a:t>    </a:t>
            </a:r>
            <a:r>
              <a:rPr b="1" lang="en-US" sz="1400" spc="-1" strike="noStrike">
                <a:solidFill>
                  <a:srgbClr val="99cc00"/>
                </a:solidFill>
                <a:latin typeface="Courier New"/>
              </a:rPr>
              <a:t>' Save the DOM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oc.Save(txtXmlFile.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essageBox.Show("D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58" name=""/>
          <p:cNvSpPr/>
          <p:nvPr/>
        </p:nvSpPr>
        <p:spPr>
          <a:xfrm rot="10800000">
            <a:off x="227160" y="3985560"/>
            <a:ext cx="454680" cy="2238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61FF761-EC7B-4039-95C0-2EC631A61A9B}"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MakeDom (3)</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xml version="1.0" encoding="UTF-8" standalone="yes"?&g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Topics Date="4/24/06"&g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t;XML&gt;XML files&lt;/XML&g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t;Regex&gt;Regular expressions&lt;/Regex&g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t;Crypto&gt;Cryptography&lt;/Crypto&gt;</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t;/Topics&gt;</a:t>
            </a:r>
            <a:endParaRPr b="0" lang="en-US" sz="1600" spc="-1" strike="noStrike">
              <a:solidFill>
                <a:srgbClr val="ffffff"/>
              </a:solidFill>
              <a:latin typeface="Tahoma"/>
            </a:endParaRPr>
          </a:p>
        </p:txBody>
      </p:sp>
      <p:sp>
        <p:nvSpPr>
          <p:cNvPr id="161" name=""/>
          <p:cNvSpPr/>
          <p:nvPr/>
        </p:nvSpPr>
        <p:spPr>
          <a:xfrm rot="10800000">
            <a:off x="227160" y="3985560"/>
            <a:ext cx="454680" cy="2238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13B962D-C7A3-440E-B4C6-B9F1A56D6A6E}"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p:nvPr/>
        </p:nvSpPr>
        <p:spPr>
          <a:xfrm>
            <a:off x="609480" y="3200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5C94A8C-C85D-40B4-97D4-57627E9488AD}"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Path</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for specifying nodes in an XML hierarch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for searching and manipulating XML dat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8D126C2-42F2-44BF-A595-A208BD0E1507}"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SearchDom (1)</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Search for Book nodes and add them to the lis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lstBooks.Items.Clea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For Each book_node As XmlNode In _</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oc.GetElementsByTagName("Book")</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a:t>
            </a:r>
            <a:r>
              <a:rPr b="1" lang="en-US" sz="1600" spc="-1" strike="noStrike">
                <a:solidFill>
                  <a:srgbClr val="99cc00"/>
                </a:solidFill>
                <a:latin typeface="Courier New"/>
              </a:rPr>
              <a:t>' Get a child named Tit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For Each title_node As XmlNode In book_node.ChildNod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a:t>
            </a:r>
            <a:r>
              <a:rPr b="1" lang="en-US" sz="1600" spc="-1" strike="noStrike">
                <a:solidFill>
                  <a:srgbClr val="99cc00"/>
                </a:solidFill>
                <a:latin typeface="Courier New"/>
              </a:rPr>
              <a:t>' See if this is a Tit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f title_node.Name = "Title" The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a:t>
            </a:r>
            <a:r>
              <a:rPr b="1" lang="en-US" sz="1600" spc="-1" strike="noStrike">
                <a:solidFill>
                  <a:srgbClr val="99cc00"/>
                </a:solidFill>
                <a:latin typeface="Courier New"/>
              </a:rPr>
              <a:t>' Add the Title node's inner text to the lis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lstBooks.Items.Add(title_node.InnerTex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Exit Fo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End If</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Next title_nod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ext book_node</a:t>
            </a:r>
            <a:endParaRPr b="0" lang="en-US" sz="1600" spc="-1" strike="noStrike">
              <a:solidFill>
                <a:srgbClr val="ffffff"/>
              </a:solidFill>
              <a:latin typeface="Tahoma"/>
            </a:endParaRPr>
          </a:p>
        </p:txBody>
      </p:sp>
      <p:sp>
        <p:nvSpPr>
          <p:cNvPr id="169" name=""/>
          <p:cNvSpPr/>
          <p:nvPr/>
        </p:nvSpPr>
        <p:spPr>
          <a:xfrm rot="10800000">
            <a:off x="227160" y="3839400"/>
            <a:ext cx="454680" cy="238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arch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6CC780C-1A39-4185-8024-3B57EAFFF97D}"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SearchDom (2)</a:t>
            </a:r>
            <a:endParaRPr b="1" lang="en-US" sz="4400" spc="-1" strike="noStrike">
              <a:solidFill>
                <a:srgbClr val="eaeaea"/>
              </a:solidFill>
              <a:latin typeface="Tahoma"/>
            </a:endParaRPr>
          </a:p>
        </p:txBody>
      </p:sp>
      <p:sp>
        <p:nvSpPr>
          <p:cNvPr id="171" name=""/>
          <p:cNvSpPr/>
          <p:nvPr/>
        </p:nvSpPr>
        <p:spPr>
          <a:xfrm rot="10800000">
            <a:off x="227160" y="3839400"/>
            <a:ext cx="454680" cy="238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archDom</a:t>
            </a:r>
            <a:endParaRPr b="0" lang="en-US" sz="1800" spc="-1" strike="noStrike">
              <a:solidFill>
                <a:srgbClr val="ffffff"/>
              </a:solidFill>
              <a:latin typeface="Arial"/>
            </a:endParaRPr>
          </a:p>
        </p:txBody>
      </p:sp>
      <p:pic>
        <p:nvPicPr>
          <p:cNvPr id="172" name="" descr=""/>
          <p:cNvPicPr/>
          <p:nvPr/>
        </p:nvPicPr>
        <p:blipFill>
          <a:blip r:embed="rId1"/>
          <a:stretch/>
        </p:blipFill>
        <p:spPr>
          <a:xfrm>
            <a:off x="2286000" y="2057400"/>
            <a:ext cx="5315040" cy="408456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8F6A2087-0F24-458B-92F3-F771B6E5A29E}" type="slidenum">
              <a:t>18</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SelectNodes (1)</a:t>
            </a:r>
            <a:endParaRPr b="1" lang="en-US" sz="4400" spc="-1" strike="noStrike">
              <a:solidFill>
                <a:srgbClr val="eaeaea"/>
              </a:solidFill>
              <a:latin typeface="Tahoma"/>
            </a:endParaRPr>
          </a:p>
        </p:txBody>
      </p:sp>
      <p:sp>
        <p:nvSpPr>
          <p:cNvPr id="174" name=""/>
          <p:cNvSpPr/>
          <p:nvPr/>
        </p:nvSpPr>
        <p:spPr>
          <a:xfrm rot="10800000">
            <a:off x="227160" y="376524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99cc00"/>
                </a:solidFill>
                <a:latin typeface="Courier New"/>
              </a:rPr>
              <a:t>' Find Title nodes contained in Book nod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99cc00"/>
                </a:solidFill>
                <a:latin typeface="Courier New"/>
              </a:rPr>
              <a:t>' and add them to the lis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lstBooks.Items.Clea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For Each title_node As XmlNode In</a:t>
            </a:r>
            <a:r>
              <a:rPr b="1" lang="en-US" sz="1400" spc="-1" strike="noStrike">
                <a:solidFill>
                  <a:srgbClr val="ffffff"/>
                </a:solidFill>
                <a:latin typeface="Courier New"/>
              </a:rPr>
              <a:t> </a:t>
            </a:r>
            <a:r>
              <a:rPr b="1" sz="1400" spc="-1" strike="noStrike">
                <a:solidFill>
                  <a:srgbClr val="ffffff"/>
                </a:solidFill>
                <a:latin typeface="Courier New"/>
              </a:rPr>
              <a:t>doc.SelectNodes("//Book/Titl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lstBooks.Items.Add(title_node.InnerTex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Next title_node</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AFB98C3-B1CE-4C84-B743-A5206148B93F}"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XML?</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description language</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sted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root element</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ty ele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ent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or instru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FF12BB4-4899-4117-B710-AFABD2B72A90}" type="slidenum">
              <a:t>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 calcmode="lin" valueType="num">
                                      <p:cBhvr additive="base">
                                        <p:cTn id="7"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xEl>
                                              <p:pRg st="1" end="1"/>
                                            </p:txEl>
                                          </p:spTgt>
                                        </p:tgtEl>
                                        <p:attrNameLst>
                                          <p:attrName>style.visibility</p:attrName>
                                        </p:attrNameLst>
                                      </p:cBhvr>
                                      <p:to>
                                        <p:strVal val="visible"/>
                                      </p:to>
                                    </p:set>
                                    <p:anim calcmode="lin" valueType="num">
                                      <p:cBhvr additive="base">
                                        <p:cTn id="13"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9">
                                            <p:txEl>
                                              <p:pRg st="2" end="2"/>
                                            </p:txEl>
                                          </p:spTgt>
                                        </p:tgtEl>
                                        <p:attrNameLst>
                                          <p:attrName>style.visibility</p:attrName>
                                        </p:attrNameLst>
                                      </p:cBhvr>
                                      <p:to>
                                        <p:strVal val="visible"/>
                                      </p:to>
                                    </p:set>
                                    <p:anim calcmode="lin" valueType="num">
                                      <p:cBhvr additive="base">
                                        <p:cTn id="19"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19">
                                            <p:txEl>
                                              <p:pRg st="3" end="3"/>
                                            </p:txEl>
                                          </p:spTgt>
                                        </p:tgtEl>
                                        <p:attrNameLst>
                                          <p:attrName>style.visibility</p:attrName>
                                        </p:attrNameLst>
                                      </p:cBhvr>
                                      <p:to>
                                        <p:strVal val="visible"/>
                                      </p:to>
                                    </p:set>
                                    <p:anim calcmode="lin" valueType="num">
                                      <p:cBhvr additive="base">
                                        <p:cTn id="25"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19">
                                            <p:txEl>
                                              <p:pRg st="4" end="4"/>
                                            </p:txEl>
                                          </p:spTgt>
                                        </p:tgtEl>
                                        <p:attrNameLst>
                                          <p:attrName>style.visibility</p:attrName>
                                        </p:attrNameLst>
                                      </p:cBhvr>
                                      <p:to>
                                        <p:strVal val="visible"/>
                                      </p:to>
                                    </p:set>
                                    <p:anim calcmode="lin" valueType="num">
                                      <p:cBhvr additive="base">
                                        <p:cTn id="31"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9">
                                            <p:txEl>
                                              <p:pRg st="5" end="5"/>
                                            </p:txEl>
                                          </p:spTgt>
                                        </p:tgtEl>
                                        <p:attrNameLst>
                                          <p:attrName>style.visibility</p:attrName>
                                        </p:attrNameLst>
                                      </p:cBhvr>
                                      <p:to>
                                        <p:strVal val="visible"/>
                                      </p:to>
                                    </p:set>
                                    <p:anim calcmode="lin" valueType="num">
                                      <p:cBhvr additive="base">
                                        <p:cTn id="37"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19">
                                            <p:txEl>
                                              <p:pRg st="6" end="6"/>
                                            </p:txEl>
                                          </p:spTgt>
                                        </p:tgtEl>
                                        <p:attrNameLst>
                                          <p:attrName>style.visibility</p:attrName>
                                        </p:attrNameLst>
                                      </p:cBhvr>
                                      <p:to>
                                        <p:strVal val="visible"/>
                                      </p:to>
                                    </p:set>
                                    <p:anim calcmode="lin" valueType="num">
                                      <p:cBhvr additive="base">
                                        <p:cTn id="43"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SelectNodes (2)</a:t>
            </a:r>
            <a:endParaRPr b="1" lang="en-US" sz="4400" spc="-1" strike="noStrike">
              <a:solidFill>
                <a:srgbClr val="eaeaea"/>
              </a:solidFill>
              <a:latin typeface="Tahoma"/>
            </a:endParaRPr>
          </a:p>
        </p:txBody>
      </p:sp>
      <p:sp>
        <p:nvSpPr>
          <p:cNvPr id="177" name=""/>
          <p:cNvSpPr/>
          <p:nvPr/>
        </p:nvSpPr>
        <p:spPr>
          <a:xfrm rot="10800000">
            <a:off x="227160" y="376524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sp>
        <p:nvSpPr>
          <p:cNvPr id="178" name="PlaceHolder 2"/>
          <p:cNvSpPr>
            <a:spLocks noGrp="1"/>
          </p:cNvSpPr>
          <p:nvPr>
            <p:ph/>
          </p:nvPr>
        </p:nvSpPr>
        <p:spPr>
          <a:xfrm>
            <a:off x="1066320" y="1980720"/>
            <a:ext cx="7543800" cy="21337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99cc00"/>
                </a:solidFill>
                <a:latin typeface="Courier New"/>
              </a:rPr>
              <a:t>' Find the Book nod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Dim book_title As String = lstBooks.Tex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Dim query As String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ook/Title[. = """ &amp; lstBooks.Text &amp; """]/.."</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Dim book_node As XmlNode = doc.SelectSingleNode(quer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MessageBox.Show(book_node.InnerXml.Replace("&gt;&lt;", "&gt;" &amp; vbCrLf &amp; "&lt;"))</a:t>
            </a:r>
            <a:endParaRPr b="0" lang="en-US" sz="1400" spc="-1" strike="noStrike">
              <a:solidFill>
                <a:srgbClr val="ffffff"/>
              </a:solidFill>
              <a:latin typeface="Tahoma"/>
            </a:endParaRPr>
          </a:p>
        </p:txBody>
      </p:sp>
      <p:sp>
        <p:nvSpPr>
          <p:cNvPr id="179" name=""/>
          <p:cNvSpPr/>
          <p:nvPr/>
        </p:nvSpPr>
        <p:spPr>
          <a:xfrm>
            <a:off x="1066680" y="4724280"/>
            <a:ext cx="75438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00"/>
                </a:solidFill>
                <a:latin typeface="Courier New"/>
              </a:rPr>
              <a:t>//Book/Title[. = </a:t>
            </a:r>
            <a:r>
              <a:rPr b="1" lang="en-US" sz="1400" spc="-1" strike="noStrike">
                <a:solidFill>
                  <a:srgbClr val="ffff00"/>
                </a:solidFill>
                <a:latin typeface="Courier New"/>
              </a:rPr>
              <a:t>"Visual Basic 2005 Programmer’s Reference"]/..</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CBEC5F6-60A0-46DB-A4D7-3F528D86BE54}"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SelectNodes (3)</a:t>
            </a:r>
            <a:endParaRPr b="1" lang="en-US" sz="4400" spc="-1" strike="noStrike">
              <a:solidFill>
                <a:srgbClr val="eaeaea"/>
              </a:solidFill>
              <a:latin typeface="Tahoma"/>
            </a:endParaRPr>
          </a:p>
        </p:txBody>
      </p:sp>
      <p:sp>
        <p:nvSpPr>
          <p:cNvPr id="181" name=""/>
          <p:cNvSpPr/>
          <p:nvPr/>
        </p:nvSpPr>
        <p:spPr>
          <a:xfrm rot="10800000">
            <a:off x="227160" y="376524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lectNodes</a:t>
            </a:r>
            <a:endParaRPr b="0" lang="en-US" sz="1800" spc="-1" strike="noStrike">
              <a:solidFill>
                <a:srgbClr val="ffffff"/>
              </a:solidFill>
              <a:latin typeface="Arial"/>
            </a:endParaRPr>
          </a:p>
        </p:txBody>
      </p:sp>
      <p:pic>
        <p:nvPicPr>
          <p:cNvPr id="182" name="" descr=""/>
          <p:cNvPicPr/>
          <p:nvPr/>
        </p:nvPicPr>
        <p:blipFill>
          <a:blip r:embed="rId1"/>
          <a:stretch/>
        </p:blipFill>
        <p:spPr>
          <a:xfrm>
            <a:off x="1905120" y="2362320"/>
            <a:ext cx="6305400" cy="266688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000ED2A2-7A1A-4A4A-A4C9-A5654E7907EC}" type="slidenum">
              <a:t>21</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609480" y="3809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8043B09-F349-40B6-B5B4-119D246AB2C5}" type="slidenum">
              <a:t>2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Forward-Only XML?</a:t>
            </a: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ge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ny part of a big DO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ping earl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processing</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B8FD736-062A-4030-A59D-592364CA5E15}" type="slidenum">
              <a:t>2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6">
                                  <p:stCondLst>
                                    <p:cond delay="0"/>
                                  </p:stCondLst>
                                  <p:childTnLst>
                                    <p:set>
                                      <p:cBhvr>
                                        <p:cTn id="76" dur="1" fill="hold">
                                          <p:stCondLst>
                                            <p:cond delay="0"/>
                                          </p:stCondLst>
                                        </p:cTn>
                                        <p:tgtEl>
                                          <p:spTgt spid="187">
                                            <p:txEl>
                                              <p:pRg st="0" end="0"/>
                                            </p:txEl>
                                          </p:spTgt>
                                        </p:tgtEl>
                                        <p:attrNameLst>
                                          <p:attrName>style.visibility</p:attrName>
                                        </p:attrNameLst>
                                      </p:cBhvr>
                                      <p:to>
                                        <p:strVal val="visible"/>
                                      </p:to>
                                    </p:set>
                                    <p:anim calcmode="lin" valueType="num">
                                      <p:cBhvr additive="base">
                                        <p:cTn id="77"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6">
                                  <p:stCondLst>
                                    <p:cond delay="0"/>
                                  </p:stCondLst>
                                  <p:childTnLst>
                                    <p:set>
                                      <p:cBhvr>
                                        <p:cTn id="82" dur="1" fill="hold">
                                          <p:stCondLst>
                                            <p:cond delay="0"/>
                                          </p:stCondLst>
                                        </p:cTn>
                                        <p:tgtEl>
                                          <p:spTgt spid="187">
                                            <p:txEl>
                                              <p:pRg st="1" end="1"/>
                                            </p:txEl>
                                          </p:spTgt>
                                        </p:tgtEl>
                                        <p:attrNameLst>
                                          <p:attrName>style.visibility</p:attrName>
                                        </p:attrNameLst>
                                      </p:cBhvr>
                                      <p:to>
                                        <p:strVal val="visible"/>
                                      </p:to>
                                    </p:set>
                                    <p:anim calcmode="lin" valueType="num">
                                      <p:cBhvr additive="base">
                                        <p:cTn id="83"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6">
                                  <p:stCondLst>
                                    <p:cond delay="0"/>
                                  </p:stCondLst>
                                  <p:childTnLst>
                                    <p:set>
                                      <p:cBhvr>
                                        <p:cTn id="88" dur="1" fill="hold">
                                          <p:stCondLst>
                                            <p:cond delay="0"/>
                                          </p:stCondLst>
                                        </p:cTn>
                                        <p:tgtEl>
                                          <p:spTgt spid="187">
                                            <p:txEl>
                                              <p:pRg st="2" end="2"/>
                                            </p:txEl>
                                          </p:spTgt>
                                        </p:tgtEl>
                                        <p:attrNameLst>
                                          <p:attrName>style.visibility</p:attrName>
                                        </p:attrNameLst>
                                      </p:cBhvr>
                                      <p:to>
                                        <p:strVal val="visible"/>
                                      </p:to>
                                    </p:set>
                                    <p:anim calcmode="lin" valueType="num">
                                      <p:cBhvr additive="base">
                                        <p:cTn id="89" dur="500" fill="hold"/>
                                        <p:tgtEl>
                                          <p:spTgt spid="187">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187">
                                            <p:txEl>
                                              <p:pRg st="3" end="3"/>
                                            </p:txEl>
                                          </p:spTgt>
                                        </p:tgtEl>
                                        <p:attrNameLst>
                                          <p:attrName>style.visibility</p:attrName>
                                        </p:attrNameLst>
                                      </p:cBhvr>
                                      <p:to>
                                        <p:strVal val="visible"/>
                                      </p:to>
                                    </p:set>
                                    <p:anim calcmode="lin" valueType="num">
                                      <p:cBhvr additive="base">
                                        <p:cTn id="95" dur="500" fill="hold"/>
                                        <p:tgtEl>
                                          <p:spTgt spid="187">
                                            <p:txEl>
                                              <p:pRg st="3" end="3"/>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TextReader and</a:t>
            </a:r>
            <a:br>
              <a:rPr sz="4400"/>
            </a:br>
            <a:r>
              <a:rPr b="1" lang="en-US" sz="4400" spc="-1" strike="noStrike">
                <a:solidFill>
                  <a:srgbClr val="eaeaea"/>
                </a:solidFill>
                <a:latin typeface="Tahoma"/>
              </a:rPr>
              <a:t>XmlTextWriter</a:t>
            </a:r>
            <a:endParaRPr b="1" lang="en-US" sz="4400" spc="-1" strike="noStrike">
              <a:solidFill>
                <a:srgbClr val="eaeaea"/>
              </a:solidFill>
              <a:latin typeface="Tahoma"/>
            </a:endParaRPr>
          </a:p>
        </p:txBody>
      </p:sp>
      <p:sp>
        <p:nvSpPr>
          <p:cNvPr id="189" name="PlaceHolder 2"/>
          <p:cNvSpPr>
            <a:spLocks noGrp="1"/>
          </p:cNvSpPr>
          <p:nvPr>
            <p:ph/>
          </p:nvPr>
        </p:nvSpPr>
        <p:spPr>
          <a:xfrm>
            <a:off x="1066680" y="3580920"/>
            <a:ext cx="3695760" cy="25146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StartDocumen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Commen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ElementStr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AttributeStr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
        <p:nvSpPr>
          <p:cNvPr id="190" name="PlaceHolder 3"/>
          <p:cNvSpPr>
            <a:spLocks noGrp="1"/>
          </p:cNvSpPr>
          <p:nvPr>
            <p:ph/>
          </p:nvPr>
        </p:nvSpPr>
        <p:spPr>
          <a:xfrm>
            <a:off x="4914720" y="3580920"/>
            <a:ext cx="3695400" cy="25146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ToConten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Attribut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
        <p:nvSpPr>
          <p:cNvPr id="191" name=""/>
          <p:cNvSpPr/>
          <p:nvPr/>
        </p:nvSpPr>
        <p:spPr>
          <a:xfrm>
            <a:off x="1066680" y="1981080"/>
            <a:ext cx="7543800" cy="11430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classes provide methods for reading and writing XML in pieces</a:t>
            </a: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Denver Visual Studio User's Group</a:t>
            </a:r>
          </a:p>
        </p:txBody>
      </p:sp>
      <p:sp>
        <p:nvSpPr>
          <p:cNvPr id="6" name="PlaceHolder 5"/>
          <p:cNvSpPr>
            <a:spLocks noGrp="1"/>
          </p:cNvSpPr>
          <p:nvPr>
            <p:ph type="sldNum" idx="3"/>
          </p:nvPr>
        </p:nvSpPr>
        <p:spPr/>
        <p:txBody>
          <a:bodyPr/>
          <a:p>
            <a:fld id="{F793C7D6-6ED9-4ABA-9CFD-9E3841262BC7}" type="slidenum">
              <a:t>24</a:t>
            </a:fld>
          </a:p>
        </p:txBody>
      </p:sp>
      <p:sp>
        <p:nvSpPr>
          <p:cNvPr id="7" name="PlaceHolder 6"/>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6">
                                  <p:stCondLst>
                                    <p:cond delay="0"/>
                                  </p:stCondLst>
                                  <p:childTnLst>
                                    <p:set>
                                      <p:cBhvr>
                                        <p:cTn id="102" dur="1" fill="hold">
                                          <p:stCondLst>
                                            <p:cond delay="0"/>
                                          </p:stCondLst>
                                        </p:cTn>
                                        <p:tgtEl>
                                          <p:spTgt spid="191">
                                            <p:txEl>
                                              <p:pRg st="0" end="0"/>
                                            </p:txEl>
                                          </p:spTgt>
                                        </p:tgtEl>
                                        <p:attrNameLst>
                                          <p:attrName>style.visibility</p:attrName>
                                        </p:attrNameLst>
                                      </p:cBhvr>
                                      <p:to>
                                        <p:strVal val="visible"/>
                                      </p:to>
                                    </p:set>
                                    <p:anim calcmode="lin" valueType="num">
                                      <p:cBhvr additive="base">
                                        <p:cTn id="103"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X</a:t>
            </a: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API for 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3DF692D-A726-4A10-AA2E-6A52C4EC4744}" type="slidenum">
              <a:t>2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685800" y="44197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B67F415-F307-41F6-8CF1-200BE6DDCBA7}" type="slidenum">
              <a:t>2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Serializer</a:t>
            </a: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erializ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EBDAF03-B545-434E-8451-1F77886FC1F6}" type="slidenum">
              <a:t>2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ation</a:t>
            </a:r>
            <a:endParaRPr b="1" lang="en-US" sz="4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Serialize the Person.</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m xml_serializer As New XmlSerializer(GetType(Person))</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m string_writer As New StringWriter()</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xml_serializer.Serialize(string_writer, person1)</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txtSerialization.Text = string_writer.ToString()</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txtSerialization.Select(0, 0)</a:t>
            </a:r>
            <a:endParaRPr b="0" lang="en-US" sz="1600" spc="-1" strike="noStrike">
              <a:solidFill>
                <a:srgbClr val="ffffff"/>
              </a:solidFill>
              <a:latin typeface="Tahoma"/>
            </a:endParaRPr>
          </a:p>
        </p:txBody>
      </p:sp>
      <p:sp>
        <p:nvSpPr>
          <p:cNvPr id="201" name=""/>
          <p:cNvSpPr/>
          <p:nvPr/>
        </p:nvSpPr>
        <p:spPr>
          <a:xfrm rot="10800000">
            <a:off x="227160" y="3462120"/>
            <a:ext cx="454680" cy="277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Pers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7411557-E824-45B2-B2F1-8ABD6D9E556C}" type="slidenum">
              <a:t>2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serialization</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urier New"/>
              </a:rPr>
              <a:t>' Deserialize into a new Person.</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m string_reader As New StringReader(txtSerialization.Text)</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m person2 As Person =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irectCast(xml_serializer.Deserialize(string_reader), _</a:t>
            </a:r>
            <a:endParaRPr b="0" lang="en-US" sz="1600" spc="-1" strike="noStrike">
              <a:solidFill>
                <a:srgbClr val="ffffff"/>
              </a:solidFill>
              <a:latin typeface="Tahoma"/>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erson)</a:t>
            </a:r>
            <a:endParaRPr b="0" lang="en-US" sz="1600" spc="-1" strike="noStrike">
              <a:solidFill>
                <a:srgbClr val="ffffff"/>
              </a:solidFill>
              <a:latin typeface="Tahoma"/>
            </a:endParaRPr>
          </a:p>
        </p:txBody>
      </p:sp>
      <p:sp>
        <p:nvSpPr>
          <p:cNvPr id="204" name=""/>
          <p:cNvSpPr/>
          <p:nvPr/>
        </p:nvSpPr>
        <p:spPr>
          <a:xfrm rot="10800000">
            <a:off x="227160" y="3462120"/>
            <a:ext cx="454680" cy="277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Pers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A58CA4D-D0B0-460B-BE0A-129615CB11D7}" type="slidenum">
              <a:t>2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lt;!– This is a comment. --&gt;</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t;?xml version="1.0" encoding="UTF-8" standalone="yes"?&gt;</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Stephens&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Rod&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home"&gt;234-567-8901&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345-678-9012&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HomePage URL="http://www.vb-helper.com" /&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astName&gt;Pratchett&lt;/La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irstName&gt;Terry&lt;/FirstNam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work"&gt;678-901-2345&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hone type="cell"&gt;901-234-5678&lt;/Phon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mployee&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Employees&gt;</a:t>
            </a:r>
            <a:endParaRPr b="0" lang="en-US" sz="1400" spc="-1" strike="noStrike">
              <a:solidFill>
                <a:srgbClr val="ffffff"/>
              </a:solidFill>
              <a:latin typeface="Tahoma"/>
            </a:endParaRPr>
          </a:p>
        </p:txBody>
      </p:sp>
      <p:sp>
        <p:nvSpPr>
          <p:cNvPr id="122" name=""/>
          <p:cNvSpPr/>
          <p:nvPr/>
        </p:nvSpPr>
        <p:spPr>
          <a:xfrm>
            <a:off x="4891320" y="132732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Comment</a:t>
            </a:r>
            <a:endParaRPr b="0" lang="en-US" sz="1800" spc="-1" strike="noStrike">
              <a:solidFill>
                <a:srgbClr val="ffffff"/>
              </a:solidFill>
              <a:latin typeface="Arial"/>
            </a:endParaRPr>
          </a:p>
        </p:txBody>
      </p:sp>
      <p:sp>
        <p:nvSpPr>
          <p:cNvPr id="123" name=""/>
          <p:cNvSpPr/>
          <p:nvPr/>
        </p:nvSpPr>
        <p:spPr>
          <a:xfrm>
            <a:off x="4114800" y="1700280"/>
            <a:ext cx="1339920" cy="498240"/>
          </a:xfrm>
          <a:custGeom>
            <a:avLst/>
            <a:gdLst/>
            <a:ahLst/>
            <a:rect l="l" t="t" r="r" b="b"/>
            <a:pathLst>
              <a:path w="844" h="314">
                <a:moveTo>
                  <a:pt x="844" y="0"/>
                </a:moveTo>
                <a:cubicBezTo>
                  <a:pt x="785" y="40"/>
                  <a:pt x="672" y="172"/>
                  <a:pt x="490" y="243"/>
                </a:cubicBezTo>
                <a:cubicBezTo>
                  <a:pt x="308" y="314"/>
                  <a:pt x="102" y="267"/>
                  <a:pt x="0" y="27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683480" y="1492200"/>
            <a:ext cx="627120" cy="738360"/>
          </a:xfrm>
          <a:custGeom>
            <a:avLst/>
            <a:gdLst/>
            <a:ahLst/>
            <a:rect l="l" t="t" r="r" b="b"/>
            <a:pathLst>
              <a:path w="395" h="465">
                <a:moveTo>
                  <a:pt x="0" y="0"/>
                </a:moveTo>
                <a:cubicBezTo>
                  <a:pt x="62" y="37"/>
                  <a:pt x="337" y="145"/>
                  <a:pt x="364" y="222"/>
                </a:cubicBezTo>
                <a:cubicBezTo>
                  <a:pt x="395" y="333"/>
                  <a:pt x="204" y="414"/>
                  <a:pt x="162" y="46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388560" y="1143000"/>
            <a:ext cx="248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Processor Instruction</a:t>
            </a:r>
            <a:endParaRPr b="0" lang="en-US" sz="1800" spc="-1" strike="noStrike">
              <a:solidFill>
                <a:srgbClr val="ffffff"/>
              </a:solidFill>
              <a:latin typeface="Arial"/>
            </a:endParaRPr>
          </a:p>
        </p:txBody>
      </p:sp>
      <p:sp>
        <p:nvSpPr>
          <p:cNvPr id="126" name=""/>
          <p:cNvSpPr/>
          <p:nvPr/>
        </p:nvSpPr>
        <p:spPr>
          <a:xfrm flipV="1">
            <a:off x="2438280" y="2437200"/>
            <a:ext cx="4235400" cy="381240"/>
          </a:xfrm>
          <a:custGeom>
            <a:avLst/>
            <a:gdLst/>
            <a:ahLst/>
            <a:rect l="l" t="t" r="r" b="b"/>
            <a:pathLst>
              <a:path w="2668" h="226">
                <a:moveTo>
                  <a:pt x="2668" y="0"/>
                </a:moveTo>
                <a:cubicBezTo>
                  <a:pt x="2477" y="26"/>
                  <a:pt x="1978" y="124"/>
                  <a:pt x="1533" y="155"/>
                </a:cubicBezTo>
                <a:cubicBezTo>
                  <a:pt x="963" y="226"/>
                  <a:pt x="319" y="179"/>
                  <a:pt x="0" y="185"/>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586560" y="2666880"/>
            <a:ext cx="162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Root Element</a:t>
            </a:r>
            <a:endParaRPr b="0" lang="en-US" sz="1800" spc="-1" strike="noStrike">
              <a:solidFill>
                <a:srgbClr val="ffffff"/>
              </a:solidFill>
              <a:latin typeface="Arial"/>
            </a:endParaRPr>
          </a:p>
        </p:txBody>
      </p:sp>
      <p:sp>
        <p:nvSpPr>
          <p:cNvPr id="128" name=""/>
          <p:cNvSpPr/>
          <p:nvPr/>
        </p:nvSpPr>
        <p:spPr>
          <a:xfrm>
            <a:off x="336600" y="28195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Attributes</a:t>
            </a:r>
            <a:endParaRPr b="0" lang="en-US" sz="1800" spc="-1" strike="noStrike">
              <a:solidFill>
                <a:srgbClr val="ffffff"/>
              </a:solidFill>
              <a:latin typeface="Arial"/>
            </a:endParaRPr>
          </a:p>
        </p:txBody>
      </p:sp>
      <p:sp>
        <p:nvSpPr>
          <p:cNvPr id="129" name=""/>
          <p:cNvSpPr/>
          <p:nvPr/>
        </p:nvSpPr>
        <p:spPr>
          <a:xfrm>
            <a:off x="1219320" y="3200400"/>
            <a:ext cx="1523880" cy="343080"/>
          </a:xfrm>
          <a:custGeom>
            <a:avLst/>
            <a:gdLst/>
            <a:ahLst/>
            <a:rect l="l" t="t" r="r" b="b"/>
            <a:pathLst>
              <a:path w="960" h="216">
                <a:moveTo>
                  <a:pt x="0" y="0"/>
                </a:moveTo>
                <a:cubicBezTo>
                  <a:pt x="136" y="84"/>
                  <a:pt x="272" y="168"/>
                  <a:pt x="432" y="192"/>
                </a:cubicBezTo>
                <a:cubicBezTo>
                  <a:pt x="592" y="216"/>
                  <a:pt x="776" y="180"/>
                  <a:pt x="960" y="144"/>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1042920" y="3208320"/>
            <a:ext cx="1700280" cy="555480"/>
          </a:xfrm>
          <a:custGeom>
            <a:avLst/>
            <a:gdLst/>
            <a:ahLst/>
            <a:rect l="l" t="t" r="r" b="b"/>
            <a:pathLst>
              <a:path w="1071" h="350">
                <a:moveTo>
                  <a:pt x="0" y="0"/>
                </a:moveTo>
                <a:cubicBezTo>
                  <a:pt x="71" y="121"/>
                  <a:pt x="256" y="256"/>
                  <a:pt x="434" y="303"/>
                </a:cubicBezTo>
                <a:cubicBezTo>
                  <a:pt x="621" y="350"/>
                  <a:pt x="938" y="287"/>
                  <a:pt x="1071" y="283"/>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117560" y="44956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Tahoma"/>
              </a:rPr>
              <a:t>Empty Element</a:t>
            </a:r>
            <a:endParaRPr b="0" lang="en-US" sz="1800" spc="-1" strike="noStrike">
              <a:solidFill>
                <a:srgbClr val="ffffff"/>
              </a:solidFill>
              <a:latin typeface="Arial"/>
            </a:endParaRPr>
          </a:p>
        </p:txBody>
      </p:sp>
      <p:sp>
        <p:nvSpPr>
          <p:cNvPr id="132" name=""/>
          <p:cNvSpPr/>
          <p:nvPr/>
        </p:nvSpPr>
        <p:spPr>
          <a:xfrm>
            <a:off x="6400800" y="3978360"/>
            <a:ext cx="785880" cy="641160"/>
          </a:xfrm>
          <a:custGeom>
            <a:avLst/>
            <a:gdLst/>
            <a:ahLst/>
            <a:rect l="l" t="t" r="r" b="b"/>
            <a:pathLst>
              <a:path w="495" h="404">
                <a:moveTo>
                  <a:pt x="495" y="404"/>
                </a:moveTo>
                <a:cubicBezTo>
                  <a:pt x="448" y="387"/>
                  <a:pt x="295" y="360"/>
                  <a:pt x="212" y="293"/>
                </a:cubicBezTo>
                <a:cubicBezTo>
                  <a:pt x="70" y="223"/>
                  <a:pt x="44" y="61"/>
                  <a:pt x="0" y="0"/>
                </a:cubicBezTo>
              </a:path>
            </a:pathLst>
          </a:custGeom>
          <a:noFill/>
          <a:ln w="9360">
            <a:solidFill>
              <a:srgbClr val="66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E67C02A-2C59-4FA5-A3A6-BD4F475BC61E}" type="slidenum">
              <a:t>3</a:t>
            </a:fld>
          </a:p>
        </p:txBody>
      </p:sp>
      <p:sp>
        <p:nvSpPr>
          <p:cNvPr id="6" name="PlaceHolder 5"/>
          <p:cNvSpPr>
            <a:spLocks noGrp="1"/>
          </p:cNvSpPr>
          <p:nvPr>
            <p:ph type="dt" idx="1"/>
          </p:nvPr>
        </p:nvSpPr>
        <p:spPr/>
        <p:txBody>
          <a:bodyPr/>
          <a:p>
            <a:r>
              <a:rPr lang="en-US"/>
              <a:t>April 24, 200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rializePerson</a:t>
            </a:r>
            <a:endParaRPr b="1" lang="en-US" sz="4400" spc="-1" strike="noStrike">
              <a:solidFill>
                <a:srgbClr val="eaeaea"/>
              </a:solidFill>
              <a:latin typeface="Tahoma"/>
            </a:endParaRPr>
          </a:p>
        </p:txBody>
      </p:sp>
      <p:sp>
        <p:nvSpPr>
          <p:cNvPr id="206" name=""/>
          <p:cNvSpPr/>
          <p:nvPr/>
        </p:nvSpPr>
        <p:spPr>
          <a:xfrm rot="10800000">
            <a:off x="227160" y="3462120"/>
            <a:ext cx="454680" cy="277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erializePerson</a:t>
            </a:r>
            <a:endParaRPr b="0" lang="en-US" sz="1800" spc="-1" strike="noStrike">
              <a:solidFill>
                <a:srgbClr val="ffffff"/>
              </a:solidFill>
              <a:latin typeface="Arial"/>
            </a:endParaRPr>
          </a:p>
        </p:txBody>
      </p:sp>
      <p:pic>
        <p:nvPicPr>
          <p:cNvPr id="207" name="" descr=""/>
          <p:cNvPicPr/>
          <p:nvPr/>
        </p:nvPicPr>
        <p:blipFill>
          <a:blip r:embed="rId1"/>
          <a:stretch/>
        </p:blipFill>
        <p:spPr>
          <a:xfrm>
            <a:off x="2209680" y="1523880"/>
            <a:ext cx="5791320" cy="468324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BE663F0-A04D-42BA-853E-B17FFD0FB288}" type="slidenum">
              <a:t>30</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rialization Features</a:t>
            </a: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Formatter</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apFormatter</a:t>
            </a:r>
            <a:endParaRPr b="0" lang="en-US" sz="3200" spc="-1" strike="noStrike">
              <a:solidFill>
                <a:srgbClr val="ffffff"/>
              </a:solidFill>
              <a:latin typeface="Tahoma"/>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 control serialization</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nary data</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items</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arenthood” loops</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erializabl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40016AFA-C094-46C4-87CA-B7EA6E24AF53}" type="slidenum">
              <a:t>3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685800" y="4989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D3504C0-44A0-4051-953B-82A5224A14B8}" type="slidenum">
              <a:t>3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hemas</a:t>
            </a: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the types of data an XML file can hol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 types: </a:t>
            </a:r>
            <a:r>
              <a:rPr b="0" lang="en-US" sz="3200" spc="-1" strike="noStrike">
                <a:solidFill>
                  <a:srgbClr val="66ccff"/>
                </a:solidFill>
                <a:latin typeface="Tahoma"/>
              </a:rPr>
              <a:t>DTD</a:t>
            </a:r>
            <a:r>
              <a:rPr b="0" lang="en-US" sz="3200" spc="-1" strike="noStrike">
                <a:solidFill>
                  <a:srgbClr val="ffffff"/>
                </a:solidFill>
                <a:latin typeface="Tahoma"/>
              </a:rPr>
              <a:t>, XDR, XS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064EACF-C4B5-46DD-A17C-7DAE7983C0A4}" type="slidenum">
              <a:t>3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685800" y="55627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E592F615-E1AD-4EC8-996E-C8E1906DB5D0}" type="slidenum">
              <a:t>3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SL</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sible Stylesheet Language</a:t>
            </a:r>
            <a:endParaRPr b="0" lang="en-US" sz="3200" spc="-1" strike="noStrike">
              <a:solidFill>
                <a:srgbClr val="ffffff"/>
              </a:solidFill>
              <a:latin typeface="Tahoma"/>
            </a:endParaRPr>
          </a:p>
          <a:p>
            <a:pPr marL="609480" indent="-60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orms XML documents into other kinds of documents:</a:t>
            </a:r>
            <a:endParaRPr b="0" lang="en-US" sz="3200" spc="-1" strike="noStrike">
              <a:solidFill>
                <a:srgbClr val="ffffff"/>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xt file</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formatted XML</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SS</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TML</a:t>
            </a:r>
            <a:endParaRPr b="0" lang="en-US" sz="2800" spc="-1" strike="noStrike">
              <a:solidFill>
                <a:srgbClr val="ffffcc"/>
              </a:solidFill>
              <a:latin typeface="Tahoma"/>
            </a:endParaRPr>
          </a:p>
          <a:p>
            <a:pPr lvl="1" marL="990720" indent="-533520">
              <a:lnSpc>
                <a:spcPct val="90000"/>
              </a:lnSpc>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Etc.</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74059AC-0269-4EFB-9B81-7D2A9CAEA019}" type="slidenum">
              <a:t>3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19">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19">
                                            <p:txEl>
                                              <p:pRg st="2" end="2"/>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19">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9">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19">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SLT</a:t>
            </a:r>
            <a:endParaRPr b="1" lang="en-US" sz="4400" spc="-1" strike="noStrike">
              <a:solidFill>
                <a:srgbClr val="eaeaea"/>
              </a:solidFill>
              <a:latin typeface="Tahoma"/>
            </a:endParaRPr>
          </a:p>
        </p:txBody>
      </p:sp>
      <p:sp>
        <p:nvSpPr>
          <p:cNvPr id="2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 Transformation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 statements match 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put commands send results to the output strea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for-each, if, sort, and other command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ck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4B35BC5-7D05-45A6-A88B-3E88F1169D27}" type="slidenum">
              <a:t>3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21">
                                            <p:txEl>
                                              <p:pRg st="0" end="0"/>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cc"/>
                </a:solidFill>
                <a:uFillTx/>
                <a:latin typeface="Tahoma"/>
                <a:hlinkClick r:id="rId1"/>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B67C1821-BD3E-40DB-8CF2-ECE3441ADABF}" type="slidenum">
              <a:t>37</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21">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685800" y="26478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 Roadmap</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M</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Path</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ward-Only XML</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ization</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emas</a:t>
            </a:r>
            <a:endParaRPr b="0" lang="en-US" sz="3200" spc="-1" strike="noStrike">
              <a:solidFill>
                <a:srgbClr val="ffffff"/>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S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C50FA4B-381E-44AB-8103-03A5E6B6CA34}"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Objects</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Docu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Attribut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Com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Nod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C36ABA8-6335-4B93-AEA1-716150422E13}"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Document</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the document as a who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 Sav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ad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Xml, OuterXm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umentEleme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e creation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064BE48-0CE2-4215-9567-5D2198BBE116}" type="slidenum">
              <a:t>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XmlNode</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Tex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D297C3A-E3EF-4D67-9BA4-E9DC88297F0C}"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M Navigati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Nod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0A54D86-F3F2-40B6-8A1A-1194C3FB692C}"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LoadDom (1)</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mports System.X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ublic Class Form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btnLoad_Click(ByVal sender As System.Objec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e As System.EventArgs) Handles btnLoad.Cl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99cc00"/>
                </a:solidFill>
                <a:latin typeface="Courier New"/>
              </a:rPr>
              <a:t>' Load the DOM 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doc As New XmlDocum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oc.Load(txtXmlFile.Tex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99cc00"/>
                </a:solidFill>
                <a:latin typeface="Courier New"/>
              </a:rPr>
              <a:t>' Display the tree's stru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Result.Text = DisplayXmlNode(doc)</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46" name=""/>
          <p:cNvSpPr/>
          <p:nvPr/>
        </p:nvSpPr>
        <p:spPr>
          <a:xfrm rot="10800000">
            <a:off x="227160" y="4037040"/>
            <a:ext cx="454680" cy="2179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Do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B23D7DE-2863-40FD-B322-A67917F7D0BA}" type="slidenum">
              <a:t>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6-04-24T20:43:17Z</dcterms:modified>
  <cp:revision>124</cp:revision>
  <dc:subject/>
  <dc:title>Fun with GDI+</dc:title>
</cp:coreProperties>
</file>