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87B3-F140-4B06-A5B8-2AF81189E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come to my talk “Three Cool Namespaces.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m Rod Stephens, a software consultant and auth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shows my contact information. If you have questions about this talk, send me a note. Be sure to put the word VBUG in the subject line so my spam filters don't throw it a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'll post this talk at the address shown here in a few d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've written about a dozen books (mostly about Visual Basic) and more than 200 magazine artic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book most relevant to this discussion is Visual Basic Graphics Programming. It was written for VB 6 so it covers practically nothing from this talk, although some of its more advanced topics will still be useful in VB .NET (with some transla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learn more about my books and read more than a thousand tips, tricks, and examples at my Web site www.vb-helper.c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e hyperlinks on these book images to go to the books’ Web p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alk covers three handy namespaces that you can use to add some interesting features to your applic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ml namespace contains classes that let you manipulate XML files and data structures. XML itself is a data storage language and nothing more but this namespace defines some tools that let you use XML in some pretty interesting ways such as serializing and deserializing ob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gex namespace includes regular expression classes that let you search for patterns and possibly make replacements in str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ypto namespace contains classes that perform cryptographic tasks such as encrypting and decrypting files, and calculating hash values for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ation’s download includes lots of other stuff that I won’t have time to cover here. It includes presentations and articles that go into greater depth, and other VB .NET code exam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9DD5-0A68-49E5-A38F-471D96C2A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A742-8060-4521-B96A-F90036CC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CB58-5CB6-4FA1-93EC-BEA92F2F8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8A0F-E15A-4041-8665-DF3DB4245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915350-5121-405B-B554-05BE00B6F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0477FF-1F4B-428E-97AA-9428D7B8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8DF03-8E82-43BE-BD67-EA924AA3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2CF857-BB51-4E9E-A00C-7CAB46D8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1EB10-A46A-4E25-9E8D-68A1C9D4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1C1848-80C7-45C9-9AB7-AF7AAED3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54974-2AE0-4022-97C3-67AFA468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57EF-DEF3-4DB2-8086-8AC4001D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066B50-1EF6-49AF-AC27-B9C6F785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D0A80-4C2D-43A4-9A9F-8994B9A5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0F07D4-4324-47A6-AE69-A27C419A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99BF2-1E46-447E-96B1-5AE7C21B9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C7C208-A9C4-4015-BFFC-93872B533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B508-2D04-40C4-952A-2D819828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E23F-6C64-4A10-859B-C3EC3961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22DE-3E30-4FCD-995B-E6D46618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416B-0342-4C33-ACCC-E4C8427C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94A0-FCBD-4BD7-A894-5699F282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6EC6-4114-4888-9F6A-818E8888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7B95-4221-4CE7-9139-E5D5E1C4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EE7F-CC02-4C73-803F-F263A4550B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681E-ABE1-4A80-A114-2A696B21C0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RodStephens@vb-helper.com" TargetMode="External"/><Relationship Id="rId3" Type="http://schemas.openxmlformats.org/officeDocument/2006/relationships/hyperlink" Target="http://www.vb-helper.com/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www.vb-helper.com/ccl.htm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www.vb-helper.com/err.htm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www.vb-helper.com/avbt.htm" TargetMode="External"/><Relationship Id="rId9" Type="http://schemas.openxmlformats.org/officeDocument/2006/relationships/image" Target="../media/image6.jpeg"/><Relationship Id="rId10" Type="http://schemas.openxmlformats.org/officeDocument/2006/relationships/hyperlink" Target="http://www.vb-helper.com/vbcl.htm" TargetMode="External"/><Relationship Id="rId11" Type="http://schemas.openxmlformats.org/officeDocument/2006/relationships/image" Target="../media/image7.jpeg"/><Relationship Id="rId12" Type="http://schemas.openxmlformats.org/officeDocument/2006/relationships/hyperlink" Target="http://www.vb-helper.com/proto.htm" TargetMode="External"/><Relationship Id="rId13" Type="http://schemas.openxmlformats.org/officeDocument/2006/relationships/image" Target="../media/image8.jpeg"/><Relationship Id="rId14" Type="http://schemas.openxmlformats.org/officeDocument/2006/relationships/hyperlink" Target="http://www.vb-helper.com/da.htm" TargetMode="External"/><Relationship Id="rId15" Type="http://schemas.openxmlformats.org/officeDocument/2006/relationships/image" Target="../media/image9.jpeg"/><Relationship Id="rId16" Type="http://schemas.openxmlformats.org/officeDocument/2006/relationships/hyperlink" Target="http://www.vb-helper.com/vbdb.htm" TargetMode="External"/><Relationship Id="rId17" Type="http://schemas.openxmlformats.org/officeDocument/2006/relationships/image" Target="../media/image10.jpeg"/><Relationship Id="rId18" Type="http://schemas.openxmlformats.org/officeDocument/2006/relationships/hyperlink" Target="http://www.vb-helper.com/office.htm" TargetMode="External"/><Relationship Id="rId19" Type="http://schemas.openxmlformats.org/officeDocument/2006/relationships/image" Target="../media/image11.jpeg"/><Relationship Id="rId20" Type="http://schemas.openxmlformats.org/officeDocument/2006/relationships/image" Target="../media/image12.jpeg"/><Relationship Id="rId21" Type="http://schemas.openxmlformats.org/officeDocument/2006/relationships/image" Target="../media/image13.jpeg"/><Relationship Id="rId22" Type="http://schemas.openxmlformats.org/officeDocument/2006/relationships/slideLayout" Target="../slideLayouts/slideLayout3.xml"/><Relationship Id="rId2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HandyNamespaces%20XML.ppt" TargetMode="External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HandyNamespaces%20Regex.ppt" TargetMode="External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RodStephens@vb-helper.com" TargetMode="External"/><Relationship Id="rId3" Type="http://schemas.openxmlformats.org/officeDocument/2006/relationships/hyperlink" Target="http://www.vb-helper.com/" TargetMode="External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620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ree Cool Namespaces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XML, Regex, and Crypt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4800600"/>
            <a:ext cx="5791320" cy="12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od Stephe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RodStephens@vb-helper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http://www.vb-helper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vb-helper.com/handy_namespaces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Denver Visual Studio User's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0655C-52B5-44B8-B488-E5301B8ACE6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>April 24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95280" y="2133720"/>
            <a:ext cx="7162920" cy="327636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0101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bright="-36000"/>
          </a:blip>
          <a:stretch/>
        </p:blipFill>
        <p:spPr>
          <a:xfrm>
            <a:off x="4419720" y="1600200"/>
            <a:ext cx="812520" cy="1015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>
            <a:lum bright="-36000"/>
          </a:blip>
          <a:stretch/>
        </p:blipFill>
        <p:spPr>
          <a:xfrm>
            <a:off x="2362320" y="1801800"/>
            <a:ext cx="812520" cy="10159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ook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>
            <a:hlinkClick r:id="rId4"/>
          </p:cNvPr>
          <p:cNvPicPr/>
          <p:nvPr/>
        </p:nvPicPr>
        <p:blipFill>
          <a:blip r:embed="rId5">
            <a:lum bright="-36000"/>
          </a:blip>
          <a:stretch/>
        </p:blipFill>
        <p:spPr>
          <a:xfrm>
            <a:off x="6400800" y="4876920"/>
            <a:ext cx="822240" cy="1028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6"/>
          </p:cNvPr>
          <p:cNvPicPr/>
          <p:nvPr/>
        </p:nvPicPr>
        <p:blipFill>
          <a:blip r:embed="rId7">
            <a:lum bright="-36000"/>
          </a:blip>
          <a:stretch/>
        </p:blipFill>
        <p:spPr>
          <a:xfrm>
            <a:off x="6400800" y="1828800"/>
            <a:ext cx="822240" cy="1028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rId8"/>
          </p:cNvPr>
          <p:cNvPicPr/>
          <p:nvPr/>
        </p:nvPicPr>
        <p:blipFill>
          <a:blip r:embed="rId9">
            <a:lum bright="-36000"/>
          </a:blip>
          <a:stretch/>
        </p:blipFill>
        <p:spPr>
          <a:xfrm>
            <a:off x="2362320" y="4876920"/>
            <a:ext cx="822240" cy="1028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rId10"/>
          </p:cNvPr>
          <p:cNvPicPr/>
          <p:nvPr/>
        </p:nvPicPr>
        <p:blipFill>
          <a:blip r:embed="rId11">
            <a:lum bright="-36000"/>
          </a:blip>
          <a:stretch/>
        </p:blipFill>
        <p:spPr>
          <a:xfrm>
            <a:off x="1230480" y="2666880"/>
            <a:ext cx="822240" cy="1028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12"/>
          </p:cNvPr>
          <p:cNvPicPr/>
          <p:nvPr/>
        </p:nvPicPr>
        <p:blipFill>
          <a:blip r:embed="rId13">
            <a:lum bright="-36000"/>
          </a:blip>
          <a:stretch/>
        </p:blipFill>
        <p:spPr>
          <a:xfrm>
            <a:off x="1219320" y="3886200"/>
            <a:ext cx="846000" cy="1028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14"/>
          </p:cNvPr>
          <p:cNvPicPr/>
          <p:nvPr/>
        </p:nvPicPr>
        <p:blipFill>
          <a:blip r:embed="rId15">
            <a:lum bright="-36000"/>
          </a:blip>
          <a:stretch/>
        </p:blipFill>
        <p:spPr>
          <a:xfrm>
            <a:off x="4419720" y="5029200"/>
            <a:ext cx="822240" cy="1028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7620120" y="3886200"/>
            <a:ext cx="868320" cy="1028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rId18"/>
          </p:cNvPr>
          <p:cNvPicPr/>
          <p:nvPr/>
        </p:nvPicPr>
        <p:blipFill>
          <a:blip r:embed="rId19">
            <a:lum bright="-36000"/>
          </a:blip>
          <a:stretch/>
        </p:blipFill>
        <p:spPr>
          <a:xfrm>
            <a:off x="7670880" y="2671920"/>
            <a:ext cx="768240" cy="1020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590920" y="2438280"/>
            <a:ext cx="2130480" cy="261936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2438280"/>
            <a:ext cx="2075040" cy="261936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0"/>
          <a:srcRect l="10000" t="0" r="10803" b="0"/>
          <a:stretch/>
        </p:blipFill>
        <p:spPr>
          <a:xfrm>
            <a:off x="4952880" y="2362320"/>
            <a:ext cx="2075040" cy="2619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1"/>
          <a:stretch/>
        </p:blipFill>
        <p:spPr>
          <a:xfrm>
            <a:off x="2514600" y="2362320"/>
            <a:ext cx="2130480" cy="262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nver Visual Studio User's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5D44-0E49-40E4-B12E-EF504F19ACC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4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oadma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ge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yp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nver Visual Studio User's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8B95-0DA0-4D3E-AECA-96C5D8F0087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4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xtra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er Present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ld Artic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ld VB .NET examp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nver Visual Studio User's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12EA-9AF1-4A6F-8BB4-1FB32D146C8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4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620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XM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Denver Visual Studio User's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1691D-E65C-45D6-954B-9C35E4078C3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>April 24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620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Regex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Denver Visual Studio User's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9A0719-978A-4A33-B173-CA2267A5C2A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>April 24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620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rypt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Denver Visual Studio User's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00EFA-B673-482B-87A9-CFD53C90AB7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>April 24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620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4800600"/>
            <a:ext cx="5791320" cy="12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od Stephe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RodStephens@vb-helper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http://www.vb-helper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vb-helper.com/handy_namespaces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Denver Visual Studio User's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B46A3A-42FF-4196-AC7B-0335C85EAA8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>April 24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4T18:03:26Z</dcterms:created>
  <dc:creator>Rod</dc:creator>
  <dc:description/>
  <dc:language>en-US</dc:language>
  <cp:lastModifiedBy>Rod Stephens</cp:lastModifiedBy>
  <dcterms:modified xsi:type="dcterms:W3CDTF">2006-04-24T19:51:18Z</dcterms:modified>
  <cp:revision>129</cp:revision>
  <dc:subject/>
  <dc:title>Fun with GDI+</dc:title>
</cp:coreProperties>
</file>