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91.xml.rels" ContentType="application/vnd.openxmlformats-package.relationships+xml"/>
  <Override PartName="/ppt/notesSlides/_rels/notesSlide28.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28.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6.jpeg" ContentType="image/jpeg"/>
  <Override PartName="/ppt/media/image5.jpeg" ContentType="image/jpeg"/>
  <Override PartName="/ppt/media/image4.jpeg" ContentType="image/jpeg"/>
  <Override PartName="/ppt/media/image25.jpeg" ContentType="image/jpeg"/>
  <Override PartName="/ppt/media/suction.wav" ContentType="audio/x-wav"/>
  <Override PartName="/ppt/media/image3.jpeg" ContentType="image/jpeg"/>
  <Override PartName="/ppt/media/image27.png" ContentType="image/png"/>
  <Override PartName="/ppt/media/image24.png" ContentType="image/png"/>
  <Override PartName="/ppt/media/image18.jpeg" ContentType="image/jpeg"/>
  <Override PartName="/ppt/media/image23.png" ContentType="image/png"/>
  <Override PartName="/ppt/media/image21.jpeg" ContentType="image/jpeg"/>
  <Override PartName="/ppt/media/image16.png" ContentType="image/png"/>
  <Override PartName="/ppt/media/image26.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BAB0-D4C2-44A5-B50D-8DB125ED4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my talk "Introduction to GD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Rod Stephens, a software consultant and aut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my contact information. If you have questions about this talk, send me a note. Be sure to put the word VBUG in the subject line so my spam filters don't throw it a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post this talk at the address shown here in a few day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going to say too much about fonts in this talk. I may add some font material l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FontCollection class defines an object that lists the installed fonts. (Yes, it’s a little odd that this class is defined just for one collection listing the installed fonts. It would probably have made more sense to just give the FontCollection class a method that loads a list of installed fonts, but whate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FontCollection is a class that represents font families installed by the application from font files. (This class provides more methods than the InstalledFontCollection. The InstalledFontCollection class basically just provides a Families method that lists the installed fonts. This class also provides AddFontFile and AddMemoryFont methods for loading fo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lists the system’s installed fonts. It creates a new InstalledFontsCollection object. This object provides the single property Families which returns an array of FontFamily objects. It loops through the FontFamilys and displays their names in a TextBox.</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you create a PrintDocument object, set its properties to define how you want to print, and then call its Print method. As it prints, the PrintDocument generates PrintPage events that let you draw on the printout’s p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lasses essentially define properties of the Print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going to say any more about these classes in this tal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contains classes that you can use to extend the development environment. I’m not going to say much about the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boxItem provides a base implementation of a toolbox item. You can inherit from this class to create your own toolbox it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also includes several property editors. For example, the BitmapEditor class provides an interface that allows the user to select a bitmap for a property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going to say any more about these classes in this talk.</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a little about the System.Drawing namespace, I’ll talk a bit about drawing. The examples should clarify the basics of using Graphics, Brush, and Pen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iscussing drawing in VB .NET, however, let me remind you how things work in previous versions of Visual Basic. Then you can contrast that with the approach used by VB .NE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briefly review how drawing works in VB 6 and compare that to the way it works in VB .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explain how you specify colors in VB .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move into more detailed drawing topics. Whenever you draw, you do so on a Graphics object so I’ll explain a couple ways you can get a Graphics object to use. Then we’ll look at a bunch of examples demonstrating different pens, brushes, and drawing method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next one are included here so you can contrast the VB 6 approach to drawing with the VB .NET approa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proach for drawing in VB 6 is to use an object that displays graphics, such as a PictureBox or Form. The program sets the object’s properties to define drawing characteristics such as line color, fill style, and font. The code then calls the drawing object’s methods to draw things such as lines, circles, text, and so fort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 object (referred to as Me in this code) manages the drawing’s properties. The code sets the drawing line width, fill color, and fill style. It then calls the form’s Circle method, passing it (admittedly obscure) parameters to draw the ellips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raw in VB .NET, you need to give the system the same information you do in VB 6. You need to tell the system what drawing properties you want to use and then you need to use them. The way you give this information to VB .NET is different, however. In VB 6, you use properties to define the drawing properties. In VB .NET, you create objects to define the drawing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egin drawing by creating a new object to represent the surface on which to draw. This is a Graphics object. There are a couple ways to create a Graphics object and I’ll discuss them a bit l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ou create objects that represent the drawing properties you want to use. Generally Pen objects define line drawing parameters and Brushes define area filling parame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you call the Graphics object’s drawing and filling methods, passing them these property objects as parame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ny program that uses the drawing objects, you'll probably want to use an Imports statement like this one to make using the graphics namespaces easi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code shows a Click event handler for a button. When the event executes, the code creates a Graphics object to represent the form's drawing surface. In this case, it's using the form's CreateGraphics function to make the objec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the code creates a HatchBrush object to represent the fill style it wants to use. Notice that the constructor requires parameters taken from enumerations (</a:t>
            </a:r>
            <a:r>
              <a:rPr b="0" lang="en-US" sz="900" spc="-1" strike="noStrike">
                <a:solidFill>
                  <a:srgbClr val="000000"/>
                </a:solidFill>
                <a:latin typeface="Courier New"/>
              </a:rPr>
              <a:t>HatchStyle.BackwardDiagonal</a:t>
            </a:r>
            <a:r>
              <a:rPr b="0" lang="en-US" sz="1000" spc="-1" strike="noStrike">
                <a:solidFill>
                  <a:srgbClr val="000000"/>
                </a:solidFill>
                <a:latin typeface="Arial"/>
              </a:rPr>
              <a:t>) and objects (Me.BackCol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de then calls the Graphics object’s FillEllipse method to draw a filled ellipse. This method takes parameters giving the brush to use in filling the ellipse, the coordinate of the ellipse’s upper left corner, and the ellipse’s width and height. (I give Microsoft high marks for making these parameters more intuitive than those used by VB 6’s Circle metho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code must draw the ellipse’s outline. It starts by creating a Pen object to represent the outline’s drawing properties. The constructor’s parameters indicate a red line 5 pixels wide. (GDI+ measurements are in pixels. In fact, so are measurements in the GDI API that you can use in VB 6 programs. Hardly coinciden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code calls the Graphics object’s DrawEllipse method to draw the ellipse’s outline. (Microsoft also gets credit for making the FillEllipse and DrawEllipse methods take almost the same parameters. The only difference is that FillEllipse takes a Brush while DrawEllipse takes a Pe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written about a dozen books (mostly about Visual Basic) and more than 200 magazine artic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ook most relevant to this discussion is Visual Basic Graphics Programming. It was written for VB 6 so it covers practically nothing from this talk, although some of its more advanced topics will still be useful in VB .NET (with some trans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more about my books and read more than a thousand tips, tricks, and examples at my Web site www.vb-helper.c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hyperlinks on these book images to go to the books’ Web pag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my favorite topics is computer graphics so building this presentation was great fun. However, GDI+ represents a major break from graphics in previous versions of Visual Basic so there's lots of material to cover. To squeeze everything into one talk, I'm going to have to skim a bit. The full presentation contains a few hidden slides that you can use to fill in some of the ga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s object provided by the Paint event handler is clipped to the areas that need to be redrawn. It leaves unchanged areas completely alone, neither erasing them nor allowing your code to draw on th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B .NET represents colors with Color structures and it provides several ways to specify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 class provides a about </a:t>
            </a:r>
            <a:r>
              <a:rPr b="1" lang="en-US" sz="2000" spc="-1" strike="noStrike">
                <a:solidFill>
                  <a:srgbClr val="000000"/>
                </a:solidFill>
                <a:latin typeface="Arial"/>
              </a:rPr>
              <a:t>140 </a:t>
            </a:r>
            <a:r>
              <a:rPr b="0" lang="en-US" sz="1200" spc="-1" strike="noStrike">
                <a:solidFill>
                  <a:srgbClr val="000000"/>
                </a:solidFill>
                <a:latin typeface="Arial"/>
              </a:rPr>
              <a:t>properties that return standard colors. Its FromName method takes the name of a color as a parameter and returns a standard Color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omArgb method is somewhat similar to VB 6’s RGB method. It takes as parameters an alpha value, and the color’s red, green, and blue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pha value determines the color’s transparency where 0 means transparent and 255 means opaque. (It might have made sense to call this Opaqueness or Opacity as Microsoft did for the Form proper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erform almost all graphics operations using a Graphics object. There are a couple ways you can create Graphics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int event handler includes a parameter that contains a Graphics object. Many programs draw during the Paint event handler and they can simply use tha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use an object’s CreateGraphics method to make a Graphics object. For example, when the user clicks a button you could use the form’s CreateGraphics method to make a Graphics object and draw something on the form without waiting for a Paint event. (The drawing won’t stay on the form if it is resized or hidden and exposed, but that’s another top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that uses the Paint event handler. The parameter e contains the Graphics object. This code creates a Pen and then uses the Graphics object’s drawing methods to draw a rectangle and a couple lin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s object provided by the Paint event handler is clipped to the areas that need to be redrawn. It leaves unchanged areas completely alone, neither erasing them nor allowing your code to draw on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get different results on different systems. For example, some systems generate a Paint event as the mouse moves not just when you release 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a Form is a type of Control so it inherits the Invalidate metho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CreateGraphics instead of using the Graphics object provided by the event handler’s e parameter. Otherwise it is the same as the previous examp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s object covers the entire form so it draws on top of any existing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rase the form before drawing, use this co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CreateGraphics instead of using the Graphics object provided by the event handler’s e parameter. Otherwise it is the same as the previous exampl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s object covers the entire form so it draws on top of any existing are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rase the form before drawing, use this cod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presentation contains a lot more material than I can cover in this talk so I have hidden a bunch of the more optional slides. If you look at the presentation at home, unhide the slides to see the extra mater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s objects provides all of the methods you need to draw on a surface. These include methods for filling and drawing shapes, and working with ima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shows the basic drawing methods. Those in pink have corresponding Fill methods. For example, DrawClosedCurve has a corresponding FillClosedCurve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draw a filled and outlined shape, you should use the Fill method first to draw its interior. Then use the corresponding Draw method to draw the outl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l and Draw methods take exactly the same parameters so they’re easy to use together. The one difference in parameters is that the Fill method needs a Brush to define the fill style and the Draw method needs a Pen to define the line style. I’ll talk a lot more about Brushes and Pens in a couple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Region is the odd method because there is no DrawReg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shes determine how areas are filled. Pens determine the appearance of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ways you can get a brush or pen. Stock brush and pen classes give you objects for drawing common fills and lines. Other classes provide more interesting variations.</a:t>
            </a:r>
            <a:endParaRPr b="0" lang="en-US" sz="12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create a new Brush object. Instead you can create a new instance of a child class </a:t>
            </a:r>
            <a:r>
              <a:rPr b="0" lang="en-US" sz="1800" spc="-1" strike="noStrike">
                <a:solidFill>
                  <a:srgbClr val="000000"/>
                </a:solidFill>
                <a:latin typeface="Arial"/>
              </a:rPr>
              <a:t>SolidBrush, TextureBrush, HatchBrush, LinearGradientBrush, or PathGradientBrush.</a:t>
            </a:r>
            <a:endParaRPr b="0" lang="en-US" sz="1800" spc="-1" strike="noStrike">
              <a:solidFill>
                <a:srgbClr val="000000"/>
              </a:solidFill>
              <a:latin typeface="Arial"/>
            </a:endParaRPr>
          </a:p>
          <a:p>
            <a:pPr>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examples demonstrate some of the Graphics object’s drawing methods as well as various brush and pen objects.</a:t>
            </a: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ushes class contains methods that return solid brushes in various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the Pens class has methods that return pens representing 1-pixel wide lines in different col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ow this code defines a Rectangle object which it then uses twice to fill and draw a rectangle. Using the same Rectangle ensures that the outline fits the filled interio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idBrush class represents a solid brus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 class represents a brush. Its constructor takes parameters indicating color and width (in pix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 code uses the Color class to specify standard colors. More on colors in a few slid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tchBrush class represents a brush filled with a hatch pattern. These patterns include lines, crosses, grids, diamonds, checkerboards, plaids, weaves, and m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 class represents a brush. Its constructor takes parameters indicating color and width (in pixe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 the code uses the Color class to specify standard col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ureBrush class represents a fill using an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n class provides properties such as DashStyle to modify its appearance. Other properties specify end caps, dash caps, and miter limit (how pointy a mitered corner can b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builds a font. Then it creates a StringFormat object and sets its Alignment and LineAlignment properties. Alignment determines the text’s horizontal alignment. LineAlignment determines its vertical alig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uses the DrawString method to draw the text using a TextureBrush defined by a picture containing a large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parameter is a formatting rectangle that tells DrawString where to position the text using the StringForma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text that allows the image to show throug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builds a font and StringFormat object as before, although the font is small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t creates a TextureBrush defined by the same image. It translates the brush so the image’s origin lies in the upper-left corner of the text’s position. In the previous example, it’s hard to tell that the image doesn’t line up exactly with the text. In this example, it is more obvious because the text fills the formatting rectangle more completely. Without making the origin line up, the image repeats so letters near the right and bottom edges are filled with a noticeable repeat of the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uses DrawString to draw the text as before, except using the new brush.</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nearGradientBrush represents a smooth shading of color from one point to another. Horizontal and vertical shadings are fairly standard but you can also shade between two arbitrary points as in this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builds a GraphicsPath object representing a string outline. It starts by using the GraphicsPath object’s AddString to add the string to the path. Next it uses the Graphics object’s MeasureString method to figure out how big the string will b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calls the GraphicsObject’s FillPath method to fill the GraphicsPath. It uses a LinearGradientBrush that shades from red to blue between the string’s upper left corner at (5, 5) and its lower left cor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code uses DrawPath to outline the text using a black p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lk covers three very large top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ll talk a bit about GDI+. I’ll explain what it is and what namespaces it involves. I’ll also mention some of the more important classes in those namesp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ll talk about basic drawing—how to draw lines, ellipses,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talk about image processing. This includes how to load and save picture files, how to manipulate an image’s pixels, and how to work with transparen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I’ll summarize in case you fall asleep somewhere in the middl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lists the system’s installed fonts. It creates a new InstalledFontsCollection object. This object provides the single property Families which returns an array of FontFamily objects. It loops through the FontFamilys and displays their names in a TextBox.</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GradientBrush represents a fill inside a path. The color varies from a center point to the edges of the path.</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fine the PathGradientBrush’s center point.</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refills an ellipse to position the fill’s center point under the mous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GradientBrush’s SurroundColors property is an array that defines the colors used at each point in the pa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rray doesn’t hold enough colors for every point, the fill repeats the last col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SurroundColor is difficult for a shape drawn with FillClosedCurve because thet method generates many points that you do not specify explicitly.</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m going to turn to image processing. That generally means working with bitmaps and their pixel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have plenty of complaints about VB .NET but its image processing tools are awesome. If you like image processing as much as I do, you’ll love these new featur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three things that are a major pain in previous versions of Visual Bas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work with memory bitmaps in VB 6, you need to use an arcane series of finicky API calls that are a real pain to get working correctly. In VB .NET, the Bitmap and Graphics classes make this trivia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VB 6, you can use Point and PSet to work with an image pixel-by-pixel but it’s a horribly slow process. To get better performance, you can use API functions to shovel pixel values in and out of arrays. That gives good performance and isn’t as tricky as using memory bitmaps but is still fairly tricky. In VB .NET, the GetPixel and SetPixel methods are as easy to use as Point and PSet but they are much fast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VB 6, you can pretty much only save an image in bitmap format unless you buy a third party library. VB .NET lets you easily save images in 10 different formats (which I’ll list lat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rotate an image in VB 6, you need to grab the pixels (using API functions for speed), perform some non-trivial mathematics on them, and stuff the results back into the picture (again, using API functions). VB .NET provides some transformation tools that are not trivial but are faster and easier than doing this by han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pha blending is a fancy term for a simple technique that lets you combine the pixel values of one image with those of another. By setting alpha values for pixels, you can make them partially or completely transparent. VB .NET also includes a couple other tools for transparency that are less flexible but easier to use. I’ll describe both alpha blending and some of these other tools.</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pictures in VB 6 is easy enough using the LoadPicture statement. This is also easy in VB .NET after you can figure out how to do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ick is to create a new Bitmap object directly from the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uses the Bitmap’s overloaded constructor to directly build a Bitmap from an image file. The Bitmap class also provides a method that can create a new Bitmap from a file, stream, bitmap or icon handle, or a Windows resourc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how to draw directly on a bitmap. The code creates a new Bitmap object with some desired dimensions. In this example, the Bitmap is sized to fit the program’s PictureBox but you could use whatever dimensions you wan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code makes a Graphics object. It uses the Graphics class’s FromImage method to make a new Graphics object attached to the Bitmap. Now whatever drawing commands the code gives the Graphics object apply to the Bitm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t has finished drawing, this example sets the picImage control’s Image property to the Bitmap to display the res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ed to work with the Bitmap purely in memory, however, you wouldn’t need to do this. For example, you could call the Bitmap’s Save method to save the results into a file without ever displaying them. That’s the subject of the next slide.</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 an image is as easy as loading one once you figure out how to do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reates a Bitmap object and sets it equal to the image displayed in a PictureBox. It then simply calls the Bitmap’s Save method passing it the name of the output file and the format it should use to save the image. This example saves the picture as a bitmap, JPEG, and GI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I = Graphic Device Interface. These are the routines that sit between your high-level program and the lower-level graphic control systems. In previous versions of VC++, you needed to create and manage GDI objects explicitly. This involved calling a bunch of API functions that create objects and return numeric handles. Managing those objects and ensuring they were freed appropriately when the program no longer needed them was a cumbersome ch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Visual Basic 6 handles most of that for you, encapsulating the GDI inside classes such as PictureBox and Form that provided drawing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I+ is the .NET version of GDI. It simplifies many of the tasks a VC++ programmer needs to manage graphics. It’s not a great help to VB programmers. In fact, some things that were encapsulated in a drawing object (such as PictureBox or Form) you must now manage explicitly. In particular, you need to create Pen and Brush objects to do just about any drawing. These objects manage the appearance of the drawing. In VB 6, properties such as ForeColor, DrawWidth, and FillColor handled this. More on these objects in a bi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e method has a couple of overloaded versions. One of the most useful takes two parameters: a destination and an image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tination can be a string giving a file name, or it can be a Stream. The stream can be useful if you want write the image into part of a file or convert it into text, for example in an XML docu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age format can be one of the 10 values shown her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creates a Bitmap object representing a PictureBox’s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loops through the Bitmap‘s pixels. For each pixel, it calculates a weighted average of the pixel’s red, green, and blue components. It then sets the pixel’s color so its components all have that weighted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t has converted all of the pixels, the code displays the result in the PictureBox.</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program PixelByPixel saves and restores the original color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first, you might be tempted to set picHidden.Image = picImage.Image to save a color copy of the image. Unfortunately that makes the two PictureBoxes use the same Image object so any changes to one are also displayed by the o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makes a new Bitmap object holding a copy of the original image and then sets picHidden.Image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the code that restores the color picture cannot simply set picImage.Image = picHidden.Image so it uses the same trick.</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mage method is roughly analogous to VB 6’s PaintPicture method. It also plays the role of the BitBlt and StretchBlt API fun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30 overloaded (and rather confusing) versions that let you copy part6s of one image onto parts of another.</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descriptions of the different overloaded versions of DrawImage aren’t great. IntelliSense gives about the same information for each version so it’s not as helpful as it should be, either. (It’s too bad because VB 6’s PaintPicture method has the same problem. It takes a bunch of parameters with names such as X0 and Y1. They don’t really tell you what they’re for so you end up reading the documentation every time you want to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way, this code uses a version of DrawImage that takes as a parameter a Rectangle specifying the output location where an image should be drawn. It starts by making two Bitmap objects representing the image, one for the source image and one for the destination. It must use two different Bitmaps. Using the same Bitmap as the source and destination doesn’t seem to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reates a Graphics object attached to the output Bitmap (because that’s where we want to draw). It creates a Rectangle representing part of the image’s upper left quadrant and uses DrawImage to copy the source bitmap into that area. It then uses DrawRectangle to draw a box around the area and it displays the resul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program specifies the destination area for the picture using a Rectangle object. Another version of DrawImage lets you specify the area’s upper left corner, width, and height. I used the rectangle version here because I can then use the same Rectangle with the DrawRectangle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thue width and height of the Rectangle are the same multiple of the picture’s total width and height. In this case, they are 0.4 times the image’s original size. Because they use the same multiple, the picture keep the same aspect ratio so it shrinks without being distorte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uses a version of DrawImage that takes two Rectangles as parameters. The first tells DrawImage where to draw the result. The second tells it which part of the source image to cop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ource and destination Rectangles have the same width and height. That means the copied part of the image is the same size as it was in the original source image.</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is the same as the previous one except it makes the output rectangle twice as large as the input rectang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ics object’s InterpolationMode property determines how DrawImage resizes images. These values set the interpolation mode to increasingly more precise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larging, a weak interpolation mode makes the result blocky. When shrinking, a weak interpolation mode can make thin elements disapp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bilinear interpolation causes edge effect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creates a source Bitmap and a destination Bitmap that has the same size. As usual, it make a Graphics object connected to the destination Bitm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ills the destination with a background color (</a:t>
            </a:r>
            <a:r>
              <a:rPr b="0" lang="en-US" sz="1200" spc="-1" strike="noStrike">
                <a:solidFill>
                  <a:srgbClr val="000000"/>
                </a:solidFill>
                <a:latin typeface="Courier New"/>
              </a:rPr>
              <a:t>PapayaWhip).</a:t>
            </a:r>
            <a:endParaRPr b="0" lang="en-US" sz="1200" spc="-1" strike="noStrike">
              <a:solidFill>
                <a:srgbClr val="000000"/>
              </a:solidFill>
              <a:latin typeface="Arial"/>
            </a:endParaRPr>
          </a:p>
          <a:p>
            <a:pPr>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xt the code makes an array containing three Point objects that define three points on a parallelogram. When it calls DrawImage, the method maps the image’s upper left, upper right, and lower left corners to these points.</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witch the corners around appropriately, this version of DrawImage can flip the picture either vertically or horizontally. This version moves the original picture’s upper left and lower left corners to the right side. That slips it horizontally (in addition to warping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is image warping using a parallelogram would be just a moderately amusing trick except for one thing: If you position the corners correctly, you can make it perform image ro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z: What happens if you press the button repeated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ng classes are contained in the System.Drawing namespa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 contains many objects you will need to perform graphics operations. For example, it includes the classes: Graphics, Bitmap, Icon, Image (an abstract base class from which Bitmap, Icon, and Metafile inherit), Brush, Font, FontFamily, Pen,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Drawing2D contains most of the other objects you’ll use to draw stuff. It contains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Imag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Tex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Print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Drawing.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want to rotate an image by a multiple of 90 degrees, and/or flip it vertically or horizontally. You could use DrawImage to do that by mapping the corners correctly. However, there’s an easie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tmap object has a RotateFlip method that can perform just these kinds of rotations and flips. It’s parameter includes every possible combination including 180 degree rotation plus Horizontal and Vertical flip, which leaves the image unchanged.</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 explain how to rotate an image using DrawImage, let me show you the res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wImage routine maps the image’s three corners as before. In this picture, I’ve added labels so you can see which corners are mapped where. The trick is in figuring out how to map the corners so you get a rotation that doesn’t distort the image.</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erform the rotation, this program makes an array of Point objects representing the image’s cor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tation around an arbitrary point is hard so the program translates the corners so they are centered around the origin. In the next slide, it will rotate the points around the origin (which is much easier than arbitrary ro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give the desired destination positions of the corners to DrawImage, the challenge is to find where the corners should go when you rotate the imag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code rotates the corners around the origin. If you are unfamiliar with the equations for rotation, here they are. See my book or another graphics or geometry book for a proof of these equation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corners are rotated but they are still centered around the origin. This code finds the smallest X and Y coordinates and then translates the corners so they all have coordinates greater than or equal to zero. That moves them out into the visible part of the output imag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code calls DrawImage. First it resizes the output Bitmap so it has room to display all four cor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mage expects exactly three corners in its inputs so the code must remove the fourth corner before calling Draw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have been better if Microsoft let us specify the fourth corner, too. Then you could have easily built other kinds of shape-distorting transformations that mapped a rectangle into a quadrilateral rather than just a parallelogram. Those kinds of transformations would make three-dimensional graphics a lot easier. I doubt Microsoft will gives us this, th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at’s left is to display the results.</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is very fast. Try changing the angle by a little bit and clicking the but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ast enough that you could reasonably animate a rotating image using a Timer.</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code calls DrawImage. First it resizes the output Bitmap so it has room to display all four cor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mage expects exactly three corners in its inputs so the code must remove the fourth corner before calling Draw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ould have been better if Microsoft let us specify the fourth corner, too. Then you could have easily built other kinds of shape-distorting transformations that mapped a rectangle into a quadrilateral rather than just a parallelogram. Those kinds of transformations would make three-dimensional graphics a lot easier. I doubt Microsoft will gives us this, th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at’s left is to display the result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uses a Timer to rotate an image just as before every 100 milliseco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and stops are probably caused by system memory issues.</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VB .NET’s strangest omissions is AutoRedraw. As you know, in previous versions you could set AutoRedraw to True on a form or PictureBox and VB would automatically maintain its contents. VB .NET doesn’t provide this. If you want to redisplay graphics when a form is resized or uncovered, you need to draw them yoursel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includes fundamental drawing classes and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s is without doubt the most important object you’ll use when creating graphics. A Graphics object represents the surface you’re going to draw on. That could be a PictureBox, form, bitmap in memory, or whatever. The Graphics object provides the methods for drawing lines, rectangles, ellipses,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n importance come Pen and Brush. A Pen represents the drawing characteristics of a line. That generally includes the line’s color, thickness, dash style,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ush represents how a solid area is filled. It determines whether the area is solidly colored, hatched, filled with a pattern, and so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an abstract base class from which Bitmap, Icon, and Metafile inher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guess, Font and FontFamily deal with drawing text. I’m not going to say a whole lot about them in this tal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 defines a shape created from rectangles and paths. You can fill a region, use it to perform hit-testing, or clip drawing to a region (for example, to make shaped for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 includes a value’s red, green, and blue components, plus an “Alpha” value that indicates the color’s transparency. 0 = transparent, 255 = op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Rectangle, and Size each work in integral positions and sizes (because GDI+ measures in pixels so it doesn’t need fractional pixels). Each of these classes has a corresponding class that works with floating point values. The classes are PointF, RectangleF, and SizeF.</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a simple way to implement AutoRedraw in VB .NET. When the form loads, the code resizes a PictureBox so it fills the form. It creates a Bitmap big enough to fill the PictureBox and draws on it. It then sets the PictureBox’s Image property to this Bitmap to display the result. The PictureBox automatically updates its display when necess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the program could have created the Bitmap and Graphics objects as module-level variables and kept them around for later use. Then the program could draw more on the Bitmap and display the results relatively easily.</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a more complicated method to provide AutoRedraw and to allow the user to click and draw using rubberband lines. (In previous versions of Visual Basic, you can use the DrawMode property to draw lines that you can later erase. VB .NET doesn’t have anything like DrawMode so you need a different method for drawing rubberband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declares module-level Bitmap and Graphics objects. It also declares some variables for rubberband dra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s Load event handler initializes the Bitmap object so it fits the form. It attaches a Graphics object and uses it to clear the Bitmap with the form’s background color.</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s Paint event handler is simple. It takes as a parameter a </a:t>
            </a:r>
            <a:r>
              <a:rPr b="0" lang="en-US" sz="1200" spc="-1" strike="noStrike">
                <a:solidFill>
                  <a:srgbClr val="000000"/>
                </a:solidFill>
                <a:latin typeface="Courier New"/>
              </a:rPr>
              <a:t>PaintEventArgs object that contains a Graphics object to use for drawing. </a:t>
            </a:r>
            <a:r>
              <a:rPr b="0" lang="en-US" sz="1200" spc="-1" strike="noStrike">
                <a:solidFill>
                  <a:srgbClr val="000000"/>
                </a:solidFill>
                <a:latin typeface="Arial"/>
              </a:rPr>
              <a:t>It calls that Graphics object’s DrawImage method to copy the Bitmap’s current contents onto the form.</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behind the Resize event handler is simple, although the details are a bit involved. The idea is to create a new Bitmap object that is big enough for the form’s new s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ogram, I only grow the Bitmap I never shrink it. That means any drawing you do is preserved even if you later shrink and then enlarge the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 handler first compares the form’s current dimensions to the module-level Bitmap’s dimensions. If the Bitmap is already big enough, the routine doesn’t need to do anything so it exi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form is bigger, the routine creates a new Bitmap object that is big enough to hold both the form and the current Bitmap.</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ize event handler then attaches a Graphics object to the new Bitmap. It clears the Bitmap with the form’s background color and draws the existing Bitmap onto the new 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t saves the new Bitmap and Graphics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ogram deals with drawing rubberband lines. The MouseDown event handler sets the m_Drawing variable to True to indicate that a draw is in progress. It also saves the mouse’s current position.</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useMove event handler continues drawing. It checks the m_Drawing variable to make sure a draw is in prog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makes a copy of the module-level Bitmap and draws the new rubberband line on it. It then displays the result. This draws over any previous rubberband line.</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iece is the MouseUp event handler. It also verifies that a draw is in progr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draws the final line on the module-level Bitmap object and displays the resul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is similar to the previous one except it allows the user to click and draw scribbles instead of 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s MouseDown and MouseUp event handlers are simple. MouseDown sets the variable m_Drawing to True to indicate that a drawing is in progress. It also saves the mouse’s current pos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useUp event handler simply sets m_Drawing to False.</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useMove event handler is a little more interesting. It verifies that a draw is in progress. It draws a line from the previously saved point to the mouse’s current position on the module-level Bitmap object. It saves the current position and displays the Bitm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modify these programs to provide other tools for drawing circles, ellipses, rectangles, splines, and so forth. You can define line colors, styles, and thicknesses, and fill colors, hatches, and patterns.</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s in VB .NET have four components: red, green, blue, and alpha. The first three are values between 0 and 255 as they are in VB 6 using 24-bit color. A values of 0 means the color is missing while a value of 255 means the color holds as much of the component as possi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pha value determines the color’s transparency. A value of 0 means the color is transparent; a value of 255 means the color is completely solid. (It would have better to call this “opacity” instead of “alph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includes fundamental drawing classes and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is an abstract base class from which Bitmap, Icon, and Metafile inher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on defines a shape created from rectangles and paths. You can fill a region, use it to perform hit-testing, or clip drawing to a region (for example, to make shaped for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idBrushes and Pens classes define standard brushes and pe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 includes a value’s red, green, and blue components, plus an “Alpha” value that indicates the color’s transparency. 0 = transparent, 255 = op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Rectangle, and Size each work in integral positions and sizes (because GDI+ measures in pixels so it doesn’t need fractional pixels). Each of these classes has a corresponding class that works with floating point values. The classes are PointF, RectangleF, and SizeF.</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makes a Bitmap object representing a picture containing green text on a red background. It sets the alpha value for each pixel. It makes alpha for the red pixels start at 255 (opaque) on the left and move to 0 (transparent) on the right. It sets alpha for green pixels the opposite way: so they start off at 0 (transparent) on the left and move to 255 (opaque) on the right.</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displays the result in the picLabel PictureBox. I’ll show you what it looks like on the next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makes a Bitmap representing the picDog control’s image and uses DrawImage to copy the alpha-coded label image onto it. It displays the results in the picDog PictureBox.</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overlay one image on another, you can easily examine its pixels and set alpha to 0 for the pixels you don’t want to display. For example, in the previous program you could you could set alpha to 0 for the red pixels to drop the text on top of the main im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common enough need that VB .NET provides a special method to make it easi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makes a Bitmap representing the label image. It calls the Bitmap’s MakeTransparent method to mark the red pixels as transparent. (Note: The color red is called the picture’s </a:t>
            </a:r>
            <a:r>
              <a:rPr b="0" i="1" lang="en-US" sz="1200" spc="-1" strike="noStrike">
                <a:solidFill>
                  <a:srgbClr val="000000"/>
                </a:solidFill>
                <a:latin typeface="Arial"/>
              </a:rPr>
              <a:t>transparent</a:t>
            </a:r>
            <a:r>
              <a:rPr b="0" lang="en-US" sz="1200" spc="-1" strike="noStrike">
                <a:solidFill>
                  <a:srgbClr val="000000"/>
                </a:solidFill>
                <a:latin typeface="Arial"/>
              </a:rPr>
              <a:t> or </a:t>
            </a:r>
            <a:r>
              <a:rPr b="0" i="1" lang="en-US" sz="1200" spc="-1" strike="noStrike">
                <a:solidFill>
                  <a:srgbClr val="000000"/>
                </a:solidFill>
                <a:latin typeface="Arial"/>
              </a:rPr>
              <a:t>alpha</a:t>
            </a:r>
            <a:r>
              <a:rPr b="0" lang="en-US" sz="1200" spc="-1" strike="noStrike">
                <a:solidFill>
                  <a:srgbClr val="000000"/>
                </a:solidFill>
                <a:latin typeface="Arial"/>
              </a:rPr>
              <a:t> col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the same thing you would do by looping through the pixels setting alpha to 0 for the red pixels. This appears to have the side effect, however, that it sets the transparent color to black. It won’t matter now because it also sets alpha to 0 so the pixel is transparent. It might matter later, however, if you change alpha to some other value. This doesn’t seem to be documented so it would probably be wise not to depend on this behavi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alling MakeTransparent, the code displays the result as before.</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s TransparencyKey property tells Visual Basic what color to make transparent. If you don’t just want a hole in the form, you’ll want to hide the form’s control box, caption, and borders so they don’t float over the form. If you do hide the control box, be sure to give the form a button or something that lets the user close the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relatively easy way to make interesting splash screen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m’s Opacity property determines how opaque it is. A value of 1 means the form is completely opaque. A value of 0 means the form is completely transpar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uses Opacity in two ways. First, when you drag the hbarOpacity scroll bar, the program changes the form’s Opacity. Second, when you click the Close button, the program enables a timer. When the timer fires, it decreases the form’s Opacity. When Opacity reaches 0, the form clo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Opacity is a value between 0 and 1 but the Property window in the Visual Basic development environment shows it as a value between 0% and 1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Opacity doesn’t work with the TransparencyKey property. Of Opacity isn’t 1, it overrides TransparencyK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Use semi-transparent forms for search dialogs and other popups so the user can see what’s on the main form. This would be useful, for example, in Wo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If all forms are about 75% or 80% opaque, you can see everything that’s going on without too much distraction.</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is done by a PrintDocument object. You can create one in code as is done here or you can add a PrintDocument control to your 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t Preview button’s event handler shown here creates a new PrintDocument object, sets the PrintPreviewDialog’s Document property to point to this object, and then calls the dialog’s ShowDialog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t button’s event handler also creates a PrintDocument object. It then calls that object’s Print method directly.</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is handled by the PrintDocument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Print event occurs before any pages are printed. The event handler should prepare to print. It can open files, build fonts, allocate other resources, and do other things that will affect the whole printing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Print event occurs after all of the pages are printed. The event handler should perform general clean up, release resources, set variables to Nothing,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BeginPrint creates a font for printing and sets the page number to 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amespace defines advanced imaging classes. The ImageFormat class is particularly useful for saving images in different forma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Map, ColorMatrix, and ColorPalette deal with manipulating the image’s col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classes listed here deal with metafiles. These can be very useful if you want to export line drawings for use in CAD programs such as CorelDRAW!</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rogram needs to generate a page, it raises the PrintDocument object’s PrintPage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creates a layout rectangle that covers the area inside the document’s margins. It also creates a StringFormat object and sets its properties to indicate text that is centered both vertically and horizontally in the layout rectang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increments the page number so it knows which page it is supposed to draw.</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program checks the page number to see what it should do. If this is the first page, the code draws an ellipse filling the are inside the margins. Then it draws text inside the same are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tine finishes by setting the event handler’s parameter HasMorePages value. It sets this to True if the program has not yet printed three page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print preview dialog in action.</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afile class inherits from the Image class much as the Bitmap class does. You draw on a Metafile object the same way you draw on a Bitmap object. You create a Graphics object attached to the Metafile and use its methods to produce graphics.</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creates a Graphics object and uses its GetHdc method to get a handle to a device context. It uses this when creating the metafile to give the metafile information about the screen’s color proper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code creates a metafile, specifying a bounding rectangle and indicating the units used by the rectangle. The program creates a Graphics object attached to the meta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uses this Graphics object to draw stuff.</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rogram is finished drawing, it disposes of the objects is has created. It must dispose of the Metafile object to close the metafile on disk.</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broutine displays a metafile saved to disk. It creates a new Metafile object passing the metafile file name into its construc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reates a new Bitmap object sized to fit the metafile and makes an attached Graphics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lears the Graphics object and uses its DrawImage method to copy the metafile’s contents onto the Bitmap. Note that the routine explicitly specifies that the entire metafile contents should be copied onto the entire Bitmap area. The final parameter tells DrawImage that the source rectangle’s units are pixels.</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t copies the metafile onto the Bitmap, the program displays the Bitmap in a PictureBox’s Image property.</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t copies the metafile onto the Bitmap, the program displays the Bitmap in a PictureBox’s Image proper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BFE83-5338-4AC5-95B0-AED67F73C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EE6EE-DFBA-4DB6-A8DE-E51E2D323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89938-CAF7-4F98-940A-86C4C50A3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0F9EA-0C51-44C5-861F-9A10F1EA0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C6C69-37E8-4C30-A9E5-204A28557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7E68F-8DC2-43AF-BE76-4BC7F8E40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9417F-B31B-42DB-8AE4-D6383C70D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57FE1-7CCB-40FC-BF0D-7EA8902192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B3A08-FC12-4A8F-A08C-209B262B7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B0AA4-9179-4E40-93C6-A3DA7F5A0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F91A8-CE17-44F2-B95B-534D4B8D8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B5ADF-AE3F-47CA-A8E1-514F88D9C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9D3AD-1604-41FE-8108-2F5F70919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EC1C2-5E50-46AE-8BD0-948999FE2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F77B5-A472-4785-A5E6-86467A1C5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0D69D-37F8-46BD-B361-4E14129A2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52A67-BC26-404F-BE9C-FB1720609E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0A4BF-A5B6-4417-B932-925E06F05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C77B0-80D1-4B37-9F3E-AED98A701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35E33-4396-423A-9DE2-9FF6088BF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31C98-A11F-4EB6-85AF-D266861EA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3F9E7-F17F-4A16-B75D-D480313DC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CF6A5-28E8-4CDC-A494-F8BA6B0F9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9343-D0F2-48BC-B222-B6499E786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F2C9-F420-4CED-823D-B8A7264FE3E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64FC-B46C-4196-A9E2-0598DF238B9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cond Outline Level</a:t>
            </a:r>
            <a:endParaRPr b="0" lang="en-US" sz="2800" spc="-1" strike="noStrike">
              <a:solidFill>
                <a:srgbClr val="ffffcc"/>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Third Outline Level</a:t>
            </a:r>
            <a:endParaRPr b="0" lang="en-US" sz="2400" spc="-1" strike="noStrike">
              <a:solidFill>
                <a:srgbClr val="ffcc99"/>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Tahoma"/>
              </a:rPr>
              <a:t>Fourth Outline Level</a:t>
            </a:r>
            <a:endParaRPr b="0" lang="en-US" sz="2000" spc="-1" strike="noStrike">
              <a:solidFill>
                <a:srgbClr val="ff9999"/>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Fifth Outline Level</a:t>
            </a:r>
            <a:endParaRPr b="0" lang="en-US" sz="2000" spc="-1" strike="noStrike">
              <a:solidFill>
                <a:srgbClr val="ff6699"/>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ixth Outline Level</a:t>
            </a:r>
            <a:endParaRPr b="0" lang="en-US" sz="2000" spc="-1" strike="noStrike">
              <a:solidFill>
                <a:srgbClr val="ff6699"/>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eventh Outline Level</a:t>
            </a:r>
            <a:endParaRPr b="0" lang="en-US" sz="2000" spc="-1" strike="noStrike">
              <a:solidFill>
                <a:srgbClr val="ff66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odStephens@vb-helper.com" TargetMode="External"/><Relationship Id="rId2" Type="http://schemas.openxmlformats.org/officeDocument/2006/relationships/hyperlink" Target="http://www.vb-helper.com/" TargetMode="External"/><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vb-helper.com/ccl.htm" TargetMode="External"/><Relationship Id="rId2" Type="http://schemas.openxmlformats.org/officeDocument/2006/relationships/image" Target="../media/image1.jpeg"/><Relationship Id="rId3" Type="http://schemas.openxmlformats.org/officeDocument/2006/relationships/hyperlink" Target="http://www.vb-helper.com/err.htm" TargetMode="External"/><Relationship Id="rId4" Type="http://schemas.openxmlformats.org/officeDocument/2006/relationships/image" Target="../media/image2.jpeg"/><Relationship Id="rId5" Type="http://schemas.openxmlformats.org/officeDocument/2006/relationships/hyperlink" Target="http://www.vb-helper.com/avbt.htm" TargetMode="External"/><Relationship Id="rId6" Type="http://schemas.openxmlformats.org/officeDocument/2006/relationships/image" Target="../media/image3.jpeg"/><Relationship Id="rId7" Type="http://schemas.openxmlformats.org/officeDocument/2006/relationships/hyperlink" Target="http://www.vb-helper.com/vbcl.htm" TargetMode="External"/><Relationship Id="rId8" Type="http://schemas.openxmlformats.org/officeDocument/2006/relationships/image" Target="../media/image4.jpeg"/><Relationship Id="rId9" Type="http://schemas.openxmlformats.org/officeDocument/2006/relationships/hyperlink" Target="http://www.vb-helper.com/proto.htm" TargetMode="External"/><Relationship Id="rId10" Type="http://schemas.openxmlformats.org/officeDocument/2006/relationships/image" Target="../media/image5.jpeg"/><Relationship Id="rId11" Type="http://schemas.openxmlformats.org/officeDocument/2006/relationships/hyperlink" Target="http://www.vb-helper.com/da.htm" TargetMode="External"/><Relationship Id="rId12" Type="http://schemas.openxmlformats.org/officeDocument/2006/relationships/image" Target="../media/image6.jpeg"/><Relationship Id="rId13" Type="http://schemas.openxmlformats.org/officeDocument/2006/relationships/hyperlink" Target="http://www.vb-helper.com/vbdb.htm" TargetMode="External"/><Relationship Id="rId14" Type="http://schemas.openxmlformats.org/officeDocument/2006/relationships/image" Target="../media/image7.jpeg"/><Relationship Id="rId15" Type="http://schemas.openxmlformats.org/officeDocument/2006/relationships/hyperlink" Target="http://www.vb-helper.com/office.htm" TargetMode="External"/><Relationship Id="rId16" Type="http://schemas.openxmlformats.org/officeDocument/2006/relationships/image" Target="../media/image8.jpeg"/><Relationship Id="rId17" Type="http://schemas.openxmlformats.org/officeDocument/2006/relationships/hyperlink" Target="http://www.vb-helper.com/xml.htm" TargetMode="External"/><Relationship Id="rId18" Type="http://schemas.openxmlformats.org/officeDocument/2006/relationships/image" Target="../media/image9.jpeg"/><Relationship Id="rId19" Type="http://schemas.openxmlformats.org/officeDocument/2006/relationships/hyperlink" Target="http://www.vb-helper.com/xml.htm" TargetMode="External"/><Relationship Id="rId20" Type="http://schemas.openxmlformats.org/officeDocument/2006/relationships/image" Target="../media/image9.jpeg"/><Relationship Id="rId21" Type="http://schemas.openxmlformats.org/officeDocument/2006/relationships/hyperlink" Target="http://www.vb-helper.com/vbgp.htm" TargetMode="External"/><Relationship Id="rId22" Type="http://schemas.openxmlformats.org/officeDocument/2006/relationships/image" Target="../media/image10.jpeg"/><Relationship Id="rId23" Type="http://schemas.openxmlformats.org/officeDocument/2006/relationships/slideLayout" Target="../slideLayouts/slideLayout3.xml"/><Relationship Id="rId2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suction.wav"/><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9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DI+</a:t>
            </a:r>
            <a:endParaRPr b="1" lang="en-US" sz="4400" spc="-1" strike="noStrike">
              <a:solidFill>
                <a:srgbClr val="eaeaea"/>
              </a:solidFill>
              <a:latin typeface="Tahoma"/>
            </a:endParaRPr>
          </a:p>
        </p:txBody>
      </p:sp>
      <p:sp>
        <p:nvSpPr>
          <p:cNvPr id="117" name=""/>
          <p:cNvSpPr/>
          <p:nvPr/>
        </p:nvSpPr>
        <p:spPr>
          <a:xfrm>
            <a:off x="1066680" y="4800600"/>
            <a:ext cx="5791320" cy="12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d Stephe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1"/>
              </a:rPr>
              <a:t>RodStephens@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2"/>
              </a:rPr>
              <a:t>http://www.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vb-helper.com/gdi_plus.html</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UK VBUG 2003 Annual Conference</a:t>
            </a:r>
          </a:p>
        </p:txBody>
      </p:sp>
      <p:sp>
        <p:nvSpPr>
          <p:cNvPr id="4" name="PlaceHolder 3"/>
          <p:cNvSpPr>
            <a:spLocks noGrp="1"/>
          </p:cNvSpPr>
          <p:nvPr>
            <p:ph type="sldNum" idx="6"/>
          </p:nvPr>
        </p:nvSpPr>
        <p:spPr/>
        <p:txBody>
          <a:bodyPr/>
          <a:p>
            <a:fld id="{06CA141C-588A-4EF1-8AC4-FC1DBD259E54}" type="slidenum">
              <a:t>1</a:t>
            </a:fld>
          </a:p>
        </p:txBody>
      </p:sp>
      <p:sp>
        <p:nvSpPr>
          <p:cNvPr id="5" name="PlaceHolder 4"/>
          <p:cNvSpPr>
            <a:spLocks noGrp="1"/>
          </p:cNvSpPr>
          <p:nvPr>
            <p:ph type="dt" idx="4"/>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Text</a:t>
            </a:r>
            <a:endParaRPr b="1" lang="en-US" sz="40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ntCollec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alledFontCollec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vateFontCollection</a:t>
            </a:r>
            <a:endParaRPr b="0" lang="en-US" sz="3200" spc="-1" strike="noStrike">
              <a:solidFill>
                <a:srgbClr val="ffffff"/>
              </a:solidFill>
              <a:latin typeface="Tahoma"/>
            </a:endParaRPr>
          </a:p>
        </p:txBody>
      </p:sp>
      <p:sp>
        <p:nvSpPr>
          <p:cNvPr id="157"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39FC31F-DF22-467F-B393-D7E7E44BC509}" type="slidenum">
              <a:t>1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6553080" y="228600"/>
            <a:ext cx="2381400" cy="876240"/>
          </a:xfrm>
          <a:prstGeom prst="rect">
            <a:avLst/>
          </a:prstGeom>
          <a:ln w="0">
            <a:noFill/>
          </a:ln>
        </p:spPr>
      </p:pic>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stalledFontCollection</a:t>
            </a:r>
            <a:endParaRPr b="1" lang="en-US" sz="4400" spc="-1" strike="noStrike">
              <a:solidFill>
                <a:srgbClr val="eaeaea"/>
              </a:solidFill>
              <a:latin typeface="Tahoma"/>
            </a:endParaRPr>
          </a:p>
        </p:txBody>
      </p:sp>
      <p:sp>
        <p:nvSpPr>
          <p:cNvPr id="160"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installed fonts collectio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installed_fonts As New InstalledFontCollectio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font familiie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ont_families() As FontFamily = installed_fonts.Familie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font familie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xt As Str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i As Integer</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 = 0 To font_families.Length - 1</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font_families(i).Name &amp; vbCrLf</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i</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extBox1.Text = txt</a:t>
            </a:r>
            <a:endParaRPr b="0" lang="en-US" sz="1400" spc="-1" strike="noStrike">
              <a:solidFill>
                <a:srgbClr val="ffffff"/>
              </a:solidFill>
              <a:latin typeface="Tahoma"/>
            </a:endParaRPr>
          </a:p>
        </p:txBody>
      </p:sp>
      <p:sp>
        <p:nvSpPr>
          <p:cNvPr id="161" name=""/>
          <p:cNvSpPr/>
          <p:nvPr/>
        </p:nvSpPr>
        <p:spPr>
          <a:xfrm rot="10800000">
            <a:off x="228600" y="4108680"/>
            <a:ext cx="454680" cy="2095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stFont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165C737-21E1-4447-8939-FA3B465D023B}" type="slidenum">
              <a:t>11</a:t>
            </a:fld>
          </a:p>
        </p:txBody>
      </p:sp>
      <p:sp>
        <p:nvSpPr>
          <p:cNvPr id="6" name="PlaceHolder 5"/>
          <p:cNvSpPr>
            <a:spLocks noGrp="1"/>
          </p:cNvSpPr>
          <p:nvPr>
            <p:ph type="dt" idx="1"/>
          </p:nvPr>
        </p:nvSpPr>
        <p:spPr/>
        <p:txBody>
          <a:bodyPr/>
          <a:p>
            <a:r>
              <a:rPr lang="en-US"/>
              <a:t>September 16-17, 2003</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Printing</a:t>
            </a:r>
            <a:endParaRPr b="1" lang="en-US" sz="4000" spc="-1" strike="noStrike">
              <a:solidFill>
                <a:srgbClr val="eaeaea"/>
              </a:solidFill>
              <a:latin typeface="Tahoma"/>
            </a:endParaRPr>
          </a:p>
        </p:txBody>
      </p:sp>
      <p:sp>
        <p:nvSpPr>
          <p:cNvPr id="1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tDocument</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classe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argins</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ageSettings</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aperSize</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aperSource</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interResolution</a:t>
            </a:r>
            <a:endParaRPr b="0" lang="en-US" sz="2800" spc="-1" strike="noStrike">
              <a:solidFill>
                <a:srgbClr val="ffffcc"/>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interSetting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F51095F-283C-4E1D-A74F-F61A71FAC137}" type="slidenum">
              <a:t>1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Design</a:t>
            </a:r>
            <a:endParaRPr b="1" lang="en-US" sz="4000" spc="-1" strike="noStrike">
              <a:solidFill>
                <a:srgbClr val="eaeaea"/>
              </a:solidFill>
              <a:latin typeface="Tahoma"/>
            </a:endParaRPr>
          </a:p>
        </p:txBody>
      </p:sp>
      <p:sp>
        <p:nvSpPr>
          <p:cNvPr id="1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olboxItem</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editor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itmapEditor</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ontEditor</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mageEditor</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67A6392-9C32-4A7E-A838-567A7D8E6E3B}" type="slidenum">
              <a:t>1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685800" y="26668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DI+?</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Process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16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8763120" y="6095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CA4D8F9-4ECD-4E28-8E3F-4FF283A40BE1}" type="slidenum">
              <a:t>1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ng</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ing in VB .NET</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cifying color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ting Graphics Object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ns and Brushes</a:t>
            </a:r>
            <a:endParaRPr b="0" lang="en-US" sz="3200" spc="-1" strike="noStrike">
              <a:solidFill>
                <a:srgbClr val="ffffff"/>
              </a:solidFill>
              <a:latin typeface="Tahoma"/>
            </a:endParaRPr>
          </a:p>
        </p:txBody>
      </p:sp>
      <p:pic>
        <p:nvPicPr>
          <p:cNvPr id="173" name="" descr=""/>
          <p:cNvPicPr/>
          <p:nvPr/>
        </p:nvPicPr>
        <p:blipFill>
          <a:blip r:embed="rId1"/>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979F24C-01A8-4C97-B038-CAFB14DBB712}" type="slidenum">
              <a:t>15</a:t>
            </a:fld>
          </a:p>
        </p:txBody>
      </p:sp>
      <p:sp>
        <p:nvSpPr>
          <p:cNvPr id="6" name="PlaceHolder 5"/>
          <p:cNvSpPr>
            <a:spLocks noGrp="1"/>
          </p:cNvSpPr>
          <p:nvPr>
            <p:ph type="dt" idx="1"/>
          </p:nvPr>
        </p:nvSpPr>
        <p:spPr/>
        <p:txBody>
          <a:bodyPr/>
          <a:p>
            <a:r>
              <a:rPr lang="en-US"/>
              <a:t>September 16-17, 2003</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ng in VB 6</a:t>
            </a: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propertie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l a drawing method</a:t>
            </a:r>
            <a:endParaRPr b="0" lang="en-US" sz="3200" spc="-1" strike="noStrike">
              <a:solidFill>
                <a:srgbClr val="ffffff"/>
              </a:solidFill>
              <a:latin typeface="Tahoma"/>
            </a:endParaRPr>
          </a:p>
        </p:txBody>
      </p:sp>
      <p:pic>
        <p:nvPicPr>
          <p:cNvPr id="176" name="" descr=""/>
          <p:cNvPicPr/>
          <p:nvPr/>
        </p:nvPicPr>
        <p:blipFill>
          <a:blip r:embed="rId1"/>
          <a:stretch/>
        </p:blipFill>
        <p:spPr>
          <a:xfrm>
            <a:off x="6553080" y="228600"/>
            <a:ext cx="2381400" cy="876240"/>
          </a:xfrm>
          <a:prstGeom prst="rect">
            <a:avLst/>
          </a:prstGeom>
          <a:ln w="0">
            <a:noFill/>
          </a:ln>
        </p:spPr>
      </p:pic>
      <p:sp>
        <p:nvSpPr>
          <p:cNvPr id="177"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6D65AFA-F067-4C24-AA9E-D87489494975}" type="slidenum">
              <a:t>16</a:t>
            </a:fld>
          </a:p>
        </p:txBody>
      </p:sp>
      <p:sp>
        <p:nvSpPr>
          <p:cNvPr id="6" name="PlaceHolder 5"/>
          <p:cNvSpPr>
            <a:spLocks noGrp="1"/>
          </p:cNvSpPr>
          <p:nvPr>
            <p:ph type="dt" idx="1"/>
          </p:nvPr>
        </p:nvSpPr>
        <p:spPr/>
        <p:txBody>
          <a:bodyPr/>
          <a:p>
            <a:r>
              <a:rPr lang="en-US"/>
              <a:t>September 16-17, 2003</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llipse in VB6</a:t>
            </a: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cmdDrawEllipse_Click()</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DrawWidth = 3</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FillColor = vbBlu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FillStyle = vbDownwardDiagonal</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ircle (ScaleWidth / 2, ScaleHeight / 2),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caleWidth * 0.45, vbRed, , ,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caleHeight / ScaleWidt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180" name=""/>
          <p:cNvSpPr/>
          <p:nvPr/>
        </p:nvSpPr>
        <p:spPr>
          <a:xfrm>
            <a:off x="5715000" y="4191120"/>
            <a:ext cx="2971800" cy="1828800"/>
          </a:xfrm>
          <a:prstGeom prst="ellipse">
            <a:avLst/>
          </a:prstGeom>
          <a:blipFill rotWithShape="0">
            <a:blip r:embed="rId1"/>
            <a:srcRect/>
            <a:tile tx="0" ty="0" sx="100000" sy="100000" algn="ctr"/>
          </a:blip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1" name="" descr=""/>
          <p:cNvPicPr/>
          <p:nvPr/>
        </p:nvPicPr>
        <p:blipFill>
          <a:blip r:embed="rId2"/>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201D5E7-0526-4304-9365-E5CF20B0A0A4}" type="slidenum">
              <a:t>17</a:t>
            </a:fld>
          </a:p>
        </p:txBody>
      </p:sp>
      <p:sp>
        <p:nvSpPr>
          <p:cNvPr id="6" name="PlaceHolder 5"/>
          <p:cNvSpPr>
            <a:spLocks noGrp="1"/>
          </p:cNvSpPr>
          <p:nvPr>
            <p:ph type="dt" idx="1"/>
          </p:nvPr>
        </p:nvSpPr>
        <p:spPr/>
        <p:txBody>
          <a:bodyPr/>
          <a:p>
            <a:r>
              <a:rPr lang="en-US"/>
              <a:t>September 16-17, 2003</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ng in VB .NET</a:t>
            </a: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drawing object (Graphic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drawing property objects (Pen and Brush)</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ll drawing object method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4C9E754-41D1-4097-AE9E-D115910D2A3C}" type="slidenum">
              <a:t>1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llipse in VB .NET</a:t>
            </a: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Imports System.Drawing.Drawing2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Private Sub btnDrawEllipse_Click(...) Handles btnDrawEllipse.Click</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Dim gr As Graphics = Me.CreateGraphics()  ' Make Graphics objec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Dim ellipse_brush As New HatchBrush(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HatchStyle.BackwardDiagonal,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Color.Blu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Me.BackColor)                         ' Make a brus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gr.FillEllipse(ellipse_brush, 0, 0,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Me.ClientSize.Width,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Me.ClientSize.Height)                 ' Fill the ellips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Dim ellipse_pen As New Pen(Color.Red, 5)  ' Make a p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gr.DrawEllipse(ellipse_pen, 0, 0,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Me.ClientSize.Width,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        </a:t>
            </a:r>
            <a:r>
              <a:rPr b="0" lang="en-US" sz="1400" spc="-1" strike="noStrike">
                <a:solidFill>
                  <a:srgbClr val="ffffff"/>
                </a:solidFill>
                <a:latin typeface="Courier New"/>
                <a:ea typeface="Courier New"/>
              </a:rPr>
              <a:t>Me.ClientSize.Height)                 ' Draw the outlin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ea typeface="Courier New"/>
              </a:rPr>
              <a:t>End Sub</a:t>
            </a:r>
            <a:endParaRPr b="0" lang="en-US" sz="1400" spc="-1" strike="noStrike">
              <a:solidFill>
                <a:srgbClr val="ffffff"/>
              </a:solidFill>
              <a:latin typeface="Tahoma"/>
            </a:endParaRPr>
          </a:p>
        </p:txBody>
      </p:sp>
      <p:sp>
        <p:nvSpPr>
          <p:cNvPr id="186" name=""/>
          <p:cNvSpPr/>
          <p:nvPr/>
        </p:nvSpPr>
        <p:spPr>
          <a:xfrm rot="10800000">
            <a:off x="227160" y="3888360"/>
            <a:ext cx="454680" cy="2302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Ellipse NET</a:t>
            </a:r>
            <a:endParaRPr b="0" lang="en-US" sz="1800" spc="-1" strike="noStrike">
              <a:solidFill>
                <a:srgbClr val="ffffff"/>
              </a:solidFill>
              <a:latin typeface="Arial"/>
            </a:endParaRPr>
          </a:p>
        </p:txBody>
      </p:sp>
      <p:sp>
        <p:nvSpPr>
          <p:cNvPr id="187"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738DC52-E40A-4906-8F5A-CBB578A01118}" type="slidenum">
              <a:t>19</a:t>
            </a:fld>
          </a:p>
        </p:txBody>
      </p:sp>
      <p:sp>
        <p:nvSpPr>
          <p:cNvPr id="6" name="PlaceHolder 5"/>
          <p:cNvSpPr>
            <a:spLocks noGrp="1"/>
          </p:cNvSpPr>
          <p:nvPr>
            <p:ph type="dt" idx="1"/>
          </p:nvPr>
        </p:nvSpPr>
        <p:spPr/>
        <p:txBody>
          <a:bodyPr/>
          <a:p>
            <a:r>
              <a:rPr lang="en-US"/>
              <a:t>September 16-17, 2003</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1295280" y="2133720"/>
            <a:ext cx="7162920" cy="3276360"/>
          </a:xfrm>
          <a:prstGeom prst="ellipse">
            <a:avLst/>
          </a:prstGeom>
          <a:gradFill rotWithShape="0">
            <a:gsLst>
              <a:gs pos="0">
                <a:srgbClr val="66ccff"/>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oks</a:t>
            </a:r>
            <a:endParaRPr b="1" lang="en-US" sz="4400" spc="-1" strike="noStrike">
              <a:solidFill>
                <a:srgbClr val="eaeaea"/>
              </a:solidFill>
              <a:latin typeface="Tahoma"/>
            </a:endParaRPr>
          </a:p>
        </p:txBody>
      </p:sp>
      <p:pic>
        <p:nvPicPr>
          <p:cNvPr id="120" name="" descr="">
            <a:hlinkClick r:id="rId1"/>
          </p:cNvPr>
          <p:cNvPicPr/>
          <p:nvPr/>
        </p:nvPicPr>
        <p:blipFill>
          <a:blip r:embed="rId2"/>
          <a:stretch/>
        </p:blipFill>
        <p:spPr>
          <a:xfrm>
            <a:off x="6400800" y="4583160"/>
            <a:ext cx="822240" cy="1028520"/>
          </a:xfrm>
          <a:prstGeom prst="rect">
            <a:avLst/>
          </a:prstGeom>
          <a:ln w="0">
            <a:noFill/>
          </a:ln>
        </p:spPr>
      </p:pic>
      <p:pic>
        <p:nvPicPr>
          <p:cNvPr id="121" name="" descr="">
            <a:hlinkClick r:id="rId3"/>
          </p:cNvPr>
          <p:cNvPicPr/>
          <p:nvPr/>
        </p:nvPicPr>
        <p:blipFill>
          <a:blip r:embed="rId4"/>
          <a:stretch/>
        </p:blipFill>
        <p:spPr>
          <a:xfrm>
            <a:off x="6400800" y="1932120"/>
            <a:ext cx="822240" cy="1028520"/>
          </a:xfrm>
          <a:prstGeom prst="rect">
            <a:avLst/>
          </a:prstGeom>
          <a:ln w="0">
            <a:noFill/>
          </a:ln>
        </p:spPr>
      </p:pic>
      <p:pic>
        <p:nvPicPr>
          <p:cNvPr id="122" name="" descr="">
            <a:hlinkClick r:id="rId5"/>
          </p:cNvPr>
          <p:cNvPicPr/>
          <p:nvPr/>
        </p:nvPicPr>
        <p:blipFill>
          <a:blip r:embed="rId6"/>
          <a:stretch/>
        </p:blipFill>
        <p:spPr>
          <a:xfrm>
            <a:off x="2514600" y="4572000"/>
            <a:ext cx="822240" cy="1028880"/>
          </a:xfrm>
          <a:prstGeom prst="rect">
            <a:avLst/>
          </a:prstGeom>
          <a:ln w="0">
            <a:noFill/>
          </a:ln>
        </p:spPr>
      </p:pic>
      <p:pic>
        <p:nvPicPr>
          <p:cNvPr id="123" name="" descr="">
            <a:hlinkClick r:id="rId7"/>
          </p:cNvPr>
          <p:cNvPicPr/>
          <p:nvPr/>
        </p:nvPicPr>
        <p:blipFill>
          <a:blip r:embed="rId8"/>
          <a:stretch/>
        </p:blipFill>
        <p:spPr>
          <a:xfrm>
            <a:off x="1230480" y="2666880"/>
            <a:ext cx="822240" cy="1028880"/>
          </a:xfrm>
          <a:prstGeom prst="rect">
            <a:avLst/>
          </a:prstGeom>
          <a:ln w="0">
            <a:noFill/>
          </a:ln>
        </p:spPr>
      </p:pic>
      <p:pic>
        <p:nvPicPr>
          <p:cNvPr id="124" name="" descr="">
            <a:hlinkClick r:id="rId9"/>
          </p:cNvPr>
          <p:cNvPicPr/>
          <p:nvPr/>
        </p:nvPicPr>
        <p:blipFill>
          <a:blip r:embed="rId10"/>
          <a:stretch/>
        </p:blipFill>
        <p:spPr>
          <a:xfrm>
            <a:off x="1219320" y="3886200"/>
            <a:ext cx="846000" cy="1028880"/>
          </a:xfrm>
          <a:prstGeom prst="rect">
            <a:avLst/>
          </a:prstGeom>
          <a:ln w="0">
            <a:noFill/>
          </a:ln>
        </p:spPr>
      </p:pic>
      <p:pic>
        <p:nvPicPr>
          <p:cNvPr id="125" name="" descr="">
            <a:hlinkClick r:id="rId11"/>
          </p:cNvPr>
          <p:cNvPicPr/>
          <p:nvPr/>
        </p:nvPicPr>
        <p:blipFill>
          <a:blip r:embed="rId12"/>
          <a:stretch/>
        </p:blipFill>
        <p:spPr>
          <a:xfrm>
            <a:off x="4465800" y="4896000"/>
            <a:ext cx="822240" cy="1028520"/>
          </a:xfrm>
          <a:prstGeom prst="rect">
            <a:avLst/>
          </a:prstGeom>
          <a:ln w="0">
            <a:noFill/>
          </a:ln>
        </p:spPr>
      </p:pic>
      <p:pic>
        <p:nvPicPr>
          <p:cNvPr id="126" name="" descr="">
            <a:hlinkClick r:id="rId13"/>
          </p:cNvPr>
          <p:cNvPicPr/>
          <p:nvPr/>
        </p:nvPicPr>
        <p:blipFill>
          <a:blip r:embed="rId14"/>
          <a:stretch/>
        </p:blipFill>
        <p:spPr>
          <a:xfrm>
            <a:off x="7696080" y="3886200"/>
            <a:ext cx="868320" cy="1028880"/>
          </a:xfrm>
          <a:prstGeom prst="rect">
            <a:avLst/>
          </a:prstGeom>
          <a:ln w="0">
            <a:noFill/>
          </a:ln>
        </p:spPr>
      </p:pic>
      <p:pic>
        <p:nvPicPr>
          <p:cNvPr id="127" name="" descr="">
            <a:hlinkClick r:id="rId15"/>
          </p:cNvPr>
          <p:cNvPicPr/>
          <p:nvPr/>
        </p:nvPicPr>
        <p:blipFill>
          <a:blip r:embed="rId16"/>
          <a:stretch/>
        </p:blipFill>
        <p:spPr>
          <a:xfrm>
            <a:off x="7746840" y="2671920"/>
            <a:ext cx="768600" cy="1020600"/>
          </a:xfrm>
          <a:prstGeom prst="rect">
            <a:avLst/>
          </a:prstGeom>
          <a:ln w="0">
            <a:noFill/>
          </a:ln>
        </p:spPr>
      </p:pic>
      <p:pic>
        <p:nvPicPr>
          <p:cNvPr id="128" name="" descr="">
            <a:hlinkClick r:id="rId17"/>
          </p:cNvPr>
          <p:cNvPicPr/>
          <p:nvPr/>
        </p:nvPicPr>
        <p:blipFill>
          <a:blip r:embed="rId18"/>
          <a:stretch/>
        </p:blipFill>
        <p:spPr>
          <a:xfrm>
            <a:off x="2513160" y="1919160"/>
            <a:ext cx="822240" cy="1017720"/>
          </a:xfrm>
          <a:prstGeom prst="rect">
            <a:avLst/>
          </a:prstGeom>
          <a:ln w="0">
            <a:noFill/>
          </a:ln>
        </p:spPr>
      </p:pic>
      <p:pic>
        <p:nvPicPr>
          <p:cNvPr id="129" name="" descr="">
            <a:hlinkClick r:id="rId19"/>
          </p:cNvPr>
          <p:cNvPicPr/>
          <p:nvPr/>
        </p:nvPicPr>
        <p:blipFill>
          <a:blip r:embed="rId20"/>
          <a:stretch/>
        </p:blipFill>
        <p:spPr>
          <a:xfrm>
            <a:off x="4468680" y="1617840"/>
            <a:ext cx="822600" cy="1017360"/>
          </a:xfrm>
          <a:prstGeom prst="rect">
            <a:avLst/>
          </a:prstGeom>
          <a:ln w="0">
            <a:noFill/>
          </a:ln>
        </p:spPr>
      </p:pic>
      <p:sp>
        <p:nvSpPr>
          <p:cNvPr id="130" name=""/>
          <p:cNvSpPr/>
          <p:nvPr/>
        </p:nvSpPr>
        <p:spPr>
          <a:xfrm>
            <a:off x="3924360" y="2543040"/>
            <a:ext cx="2104920" cy="2619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1" name="" descr="">
            <a:hlinkClick r:id="rId21"/>
          </p:cNvPr>
          <p:cNvPicPr/>
          <p:nvPr/>
        </p:nvPicPr>
        <p:blipFill>
          <a:blip r:embed="rId22"/>
          <a:stretch/>
        </p:blipFill>
        <p:spPr>
          <a:xfrm>
            <a:off x="3809880" y="2438280"/>
            <a:ext cx="2114640" cy="261936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2BB8C16E-D739-4769-BB52-98F792F1F3D6}" type="slidenum">
              <a:t>2</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s</a:t>
            </a:r>
            <a:endParaRPr b="1" lang="en-US" sz="4400" spc="-1" strike="noStrike">
              <a:solidFill>
                <a:srgbClr val="eaeaea"/>
              </a:solidFill>
              <a:latin typeface="Tahoma"/>
            </a:endParaRPr>
          </a:p>
        </p:txBody>
      </p:sp>
      <p:pic>
        <p:nvPicPr>
          <p:cNvPr id="189" name="" descr=""/>
          <p:cNvPicPr/>
          <p:nvPr/>
        </p:nvPicPr>
        <p:blipFill>
          <a:blip r:embed="rId1"/>
          <a:stretch/>
        </p:blipFill>
        <p:spPr>
          <a:xfrm>
            <a:off x="3429000" y="2895480"/>
            <a:ext cx="2971800" cy="2362320"/>
          </a:xfrm>
          <a:prstGeom prst="rect">
            <a:avLst/>
          </a:prstGeom>
          <a:ln w="0">
            <a:noFill/>
          </a:ln>
        </p:spPr>
      </p:pic>
      <p:pic>
        <p:nvPicPr>
          <p:cNvPr id="190" name="" descr=""/>
          <p:cNvPicPr/>
          <p:nvPr/>
        </p:nvPicPr>
        <p:blipFill>
          <a:blip r:embed="rId2"/>
          <a:stretch/>
        </p:blipFill>
        <p:spPr>
          <a:xfrm>
            <a:off x="6553080" y="228600"/>
            <a:ext cx="2381400" cy="87624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EF5D36AA-AAF3-4FAF-ACA3-8F5D503ED9B6}" type="slidenum">
              <a:t>20</a:t>
            </a:fld>
          </a:p>
        </p:txBody>
      </p:sp>
      <p:sp>
        <p:nvSpPr>
          <p:cNvPr id="5" name="PlaceHolder 4"/>
          <p:cNvSpPr>
            <a:spLocks noGrp="1"/>
          </p:cNvSpPr>
          <p:nvPr>
            <p:ph type="dt" idx="1"/>
          </p:nvPr>
        </p:nvSpPr>
        <p:spPr/>
        <p:txBody>
          <a:bodyPr/>
          <a:p>
            <a:r>
              <a:rPr lang="en-US"/>
              <a:t>September 16-17, 2003</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ecifying Colors</a:t>
            </a:r>
            <a:endParaRPr b="1" lang="en-US" sz="44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d colors</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urier New"/>
              </a:rPr>
              <a:t>Color.Red</a:t>
            </a:r>
            <a:endParaRPr b="0" lang="en-US" sz="2800" spc="-1" strike="noStrike">
              <a:solidFill>
                <a:srgbClr val="ffffcc"/>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name</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urier New"/>
              </a:rPr>
              <a:t>Color.FromName("DarkMagenta")</a:t>
            </a:r>
            <a:endParaRPr b="0" lang="en-US" sz="2800" spc="-1" strike="noStrike">
              <a:solidFill>
                <a:srgbClr val="ffffcc"/>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ARGB values</a:t>
            </a:r>
            <a:endParaRPr b="0" lang="en-US" sz="3200" spc="-1" strike="noStrike">
              <a:solidFill>
                <a:srgbClr val="ffffff"/>
              </a:solidFill>
              <a:latin typeface="Tahoma"/>
            </a:endParaRPr>
          </a:p>
          <a:p>
            <a:pPr lvl="1" marL="743040" indent="-285840">
              <a:lnSpc>
                <a:spcPct val="100000"/>
              </a:lnSpc>
              <a:spcBef>
                <a:spcPts val="700"/>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Courier New"/>
              </a:rPr>
              <a:t>Color.FromArgb(a, r, g, b)</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0ADFA7B-F23F-4FD9-B936-5D854B84F142}" type="slidenum">
              <a:t>2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tting Graphics Objects</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int event handler</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Graphic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6967147-FDE9-4A72-BE60-59E0C5F77F2F}" type="slidenum">
              <a:t>2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int Event Handler</a:t>
            </a:r>
            <a:endParaRPr b="1" lang="en-US" sz="4400" spc="-1" strike="noStrike">
              <a:solidFill>
                <a:srgbClr val="eaeaea"/>
              </a:solidFill>
              <a:latin typeface="Tahoma"/>
            </a:endParaRPr>
          </a:p>
        </p:txBody>
      </p:sp>
      <p:sp>
        <p:nvSpPr>
          <p:cNvPr id="19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aw lines using the Graphics objec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provided by the event handle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Paint(ByVal sender As Objec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e As System.Windows.Forms.PaintEventArgs)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andles MyBase.Pai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Create a P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orange_pen As New Pen(Color.Orange, 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Draw lin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DrawLine(orange_pe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0, 0, ClientSize.Width, ClientSize.Heigh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DrawLine(orange_pe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0, ClientSize.Height, ClientSize.Width, 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DrawRectangle(orange_pe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1, 1, ClientSize.Width - 3, ClientSize.Height - 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197" name=""/>
          <p:cNvSpPr/>
          <p:nvPr/>
        </p:nvSpPr>
        <p:spPr>
          <a:xfrm rot="10800000">
            <a:off x="228600" y="4505040"/>
            <a:ext cx="454680" cy="1682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int</a:t>
            </a:r>
            <a:endParaRPr b="0" lang="en-US" sz="1800" spc="-1" strike="noStrike">
              <a:solidFill>
                <a:srgbClr val="ffffff"/>
              </a:solidFill>
              <a:latin typeface="Arial"/>
            </a:endParaRPr>
          </a:p>
        </p:txBody>
      </p:sp>
      <p:sp>
        <p:nvSpPr>
          <p:cNvPr id="198"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E18A93C-9916-4BD8-9A00-EB15C97BFB12}" type="slidenum">
              <a:t>2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s</a:t>
            </a:r>
            <a:endParaRPr b="1" lang="en-US" sz="4400" spc="-1" strike="noStrike">
              <a:solidFill>
                <a:srgbClr val="eaeaea"/>
              </a:solidFill>
              <a:latin typeface="Tahoma"/>
            </a:endParaRPr>
          </a:p>
        </p:txBody>
      </p:sp>
      <p:pic>
        <p:nvPicPr>
          <p:cNvPr id="200" name="" descr=""/>
          <p:cNvPicPr/>
          <p:nvPr/>
        </p:nvPicPr>
        <p:blipFill>
          <a:blip r:embed="rId1"/>
          <a:stretch/>
        </p:blipFill>
        <p:spPr>
          <a:xfrm>
            <a:off x="3548160" y="2533680"/>
            <a:ext cx="2733480" cy="3085920"/>
          </a:xfrm>
          <a:prstGeom prst="rect">
            <a:avLst/>
          </a:prstGeom>
          <a:ln w="0">
            <a:noFill/>
          </a:ln>
        </p:spPr>
      </p:pic>
      <p:pic>
        <p:nvPicPr>
          <p:cNvPr id="201" name="" descr=""/>
          <p:cNvPicPr/>
          <p:nvPr/>
        </p:nvPicPr>
        <p:blipFill>
          <a:blip r:embed="rId2"/>
          <a:stretch/>
        </p:blipFill>
        <p:spPr>
          <a:xfrm>
            <a:off x="6553080" y="228600"/>
            <a:ext cx="2381400" cy="87624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245147E3-D1AF-4F95-A76D-8C253AFBDE24}" type="slidenum">
              <a:t>24</a:t>
            </a:fld>
          </a:p>
        </p:txBody>
      </p:sp>
      <p:sp>
        <p:nvSpPr>
          <p:cNvPr id="5" name="PlaceHolder 4"/>
          <p:cNvSpPr>
            <a:spLocks noGrp="1"/>
          </p:cNvSpPr>
          <p:nvPr>
            <p:ph type="dt" idx="1"/>
          </p:nvPr>
        </p:nvSpPr>
        <p:spPr/>
        <p:txBody>
          <a:bodyPr/>
          <a:p>
            <a:r>
              <a:rPr lang="en-US"/>
              <a:t>September 16-17, 2003</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validate</a:t>
            </a: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ontrol’s Invalidate method sends a Paint event covering the entire contro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D39F943-7633-4ADA-A211-B379AF48BAFB}" type="slidenum">
              <a:t>2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eateGraphics</a:t>
            </a:r>
            <a:endParaRPr b="1" lang="en-US" sz="4400" spc="-1" strike="noStrike">
              <a:solidFill>
                <a:srgbClr val="eaeaea"/>
              </a:solidFill>
              <a:latin typeface="Tahoma"/>
            </a:endParaRPr>
          </a:p>
        </p:txBody>
      </p:sp>
      <p:sp>
        <p:nvSpPr>
          <p:cNvPr id="20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Paint(ByVal sender As Objec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e As System.Windows.Forms.PaintEventArgs)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andles MyBase.Pai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Create a Pe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orange_pen As New Pen(Color.Orange, 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Create a Graphics objec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gr As Graphics = CreateGraphic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Draw lin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DrawLine(orange_pe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0, 0, ClientSize.Width, ClientSize.Heigh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DrawLine(orange_pe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0, ClientSize.Height, ClientSize.Width, 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DrawRectangle(orange_pen,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1, 1, ClientSize.Width - 3, ClientSize.Height - 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06" name=""/>
          <p:cNvSpPr/>
          <p:nvPr/>
        </p:nvSpPr>
        <p:spPr>
          <a:xfrm rot="10800000">
            <a:off x="228600" y="3439080"/>
            <a:ext cx="454680" cy="279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CreateGraphics</a:t>
            </a:r>
            <a:endParaRPr b="0" lang="en-US" sz="1800" spc="-1" strike="noStrike">
              <a:solidFill>
                <a:srgbClr val="ffffff"/>
              </a:solidFill>
              <a:latin typeface="Arial"/>
            </a:endParaRPr>
          </a:p>
        </p:txBody>
      </p:sp>
      <p:sp>
        <p:nvSpPr>
          <p:cNvPr id="207"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6DA1DD7-7246-4C83-AFBE-165E239FC0DB}" type="slidenum">
              <a:t>2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s</a:t>
            </a:r>
            <a:endParaRPr b="1" lang="en-US" sz="4400" spc="-1" strike="noStrike">
              <a:solidFill>
                <a:srgbClr val="eaeaea"/>
              </a:solidFill>
              <a:latin typeface="Tahoma"/>
            </a:endParaRPr>
          </a:p>
        </p:txBody>
      </p:sp>
      <p:pic>
        <p:nvPicPr>
          <p:cNvPr id="209" name="" descr=""/>
          <p:cNvPicPr/>
          <p:nvPr/>
        </p:nvPicPr>
        <p:blipFill>
          <a:blip r:embed="rId1"/>
          <a:stretch/>
        </p:blipFill>
        <p:spPr>
          <a:xfrm>
            <a:off x="3595680" y="2533680"/>
            <a:ext cx="2638440" cy="3085920"/>
          </a:xfrm>
          <a:prstGeom prst="rect">
            <a:avLst/>
          </a:prstGeom>
          <a:ln w="0">
            <a:noFill/>
          </a:ln>
        </p:spPr>
      </p:pic>
      <p:pic>
        <p:nvPicPr>
          <p:cNvPr id="210" name="" descr=""/>
          <p:cNvPicPr/>
          <p:nvPr/>
        </p:nvPicPr>
        <p:blipFill>
          <a:blip r:embed="rId2"/>
          <a:stretch/>
        </p:blipFill>
        <p:spPr>
          <a:xfrm>
            <a:off x="6553080" y="228600"/>
            <a:ext cx="2381400" cy="87624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0D2AE8A2-ED38-47EC-B24A-9F76729A9130}" type="slidenum">
              <a:t>27</a:t>
            </a:fld>
          </a:p>
        </p:txBody>
      </p:sp>
      <p:sp>
        <p:nvSpPr>
          <p:cNvPr id="5" name="PlaceHolder 4"/>
          <p:cNvSpPr>
            <a:spLocks noGrp="1"/>
          </p:cNvSpPr>
          <p:nvPr>
            <p:ph type="dt" idx="1"/>
          </p:nvPr>
        </p:nvSpPr>
        <p:spPr/>
        <p:txBody>
          <a:bodyPr/>
          <a:p>
            <a:r>
              <a:rPr lang="en-US"/>
              <a:t>September 16-17, 2003</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reateGraphics w/Erase</a:t>
            </a:r>
            <a:endParaRPr b="1" lang="en-US" sz="4400" spc="-1" strike="noStrike">
              <a:solidFill>
                <a:srgbClr val="eaeaea"/>
              </a:solidFill>
              <a:latin typeface="Tahoma"/>
            </a:endParaRPr>
          </a:p>
        </p:txBody>
      </p:sp>
      <p:sp>
        <p:nvSpPr>
          <p:cNvPr id="21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Erase before drawin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Clear(Me.BackColor)</a:t>
            </a:r>
            <a:endParaRPr b="0" lang="en-US" sz="1400" spc="-1" strike="noStrike">
              <a:solidFill>
                <a:srgbClr val="ffffff"/>
              </a:solidFill>
              <a:latin typeface="Tahoma"/>
            </a:endParaRPr>
          </a:p>
        </p:txBody>
      </p:sp>
      <p:sp>
        <p:nvSpPr>
          <p:cNvPr id="213" name=""/>
          <p:cNvSpPr/>
          <p:nvPr/>
        </p:nvSpPr>
        <p:spPr>
          <a:xfrm rot="10800000">
            <a:off x="228600" y="2869920"/>
            <a:ext cx="454680" cy="3378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CreateGraphicsErase</a:t>
            </a:r>
            <a:endParaRPr b="0" lang="en-US" sz="1800" spc="-1" strike="noStrike">
              <a:solidFill>
                <a:srgbClr val="ffffff"/>
              </a:solidFill>
              <a:latin typeface="Arial"/>
            </a:endParaRPr>
          </a:p>
        </p:txBody>
      </p:sp>
      <p:sp>
        <p:nvSpPr>
          <p:cNvPr id="21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0895F43-7285-476E-9F27-BFA0BF9E88A7}" type="slidenum">
              <a:t>2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ults</a:t>
            </a:r>
            <a:endParaRPr b="1" lang="en-US" sz="4400" spc="-1" strike="noStrike">
              <a:solidFill>
                <a:srgbClr val="eaeaea"/>
              </a:solidFill>
              <a:latin typeface="Tahoma"/>
            </a:endParaRPr>
          </a:p>
        </p:txBody>
      </p:sp>
      <p:pic>
        <p:nvPicPr>
          <p:cNvPr id="216" name="" descr=""/>
          <p:cNvPicPr/>
          <p:nvPr/>
        </p:nvPicPr>
        <p:blipFill>
          <a:blip r:embed="rId1"/>
          <a:stretch/>
        </p:blipFill>
        <p:spPr>
          <a:xfrm>
            <a:off x="4014720" y="3129120"/>
            <a:ext cx="1800360" cy="1895400"/>
          </a:xfrm>
          <a:prstGeom prst="rect">
            <a:avLst/>
          </a:prstGeom>
          <a:ln w="0">
            <a:noFill/>
          </a:ln>
        </p:spPr>
      </p:pic>
      <p:pic>
        <p:nvPicPr>
          <p:cNvPr id="217" name="" descr=""/>
          <p:cNvPicPr/>
          <p:nvPr/>
        </p:nvPicPr>
        <p:blipFill>
          <a:blip r:embed="rId2"/>
          <a:stretch/>
        </p:blipFill>
        <p:spPr>
          <a:xfrm>
            <a:off x="6553080" y="228600"/>
            <a:ext cx="2381400" cy="87624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AAF59510-DF3C-485F-8780-43531DDE4218}" type="slidenum">
              <a:t>29</a:t>
            </a:fld>
          </a:p>
        </p:txBody>
      </p:sp>
      <p:sp>
        <p:nvSpPr>
          <p:cNvPr id="5" name="PlaceHolder 4"/>
          <p:cNvSpPr>
            <a:spLocks noGrp="1"/>
          </p:cNvSpPr>
          <p:nvPr>
            <p:ph type="dt" idx="1"/>
          </p:nvPr>
        </p:nvSpPr>
        <p:spPr/>
        <p:txBody>
          <a:bodyPr/>
          <a:p>
            <a:r>
              <a:rPr lang="en-US"/>
              <a:t>September 16-17, 2003</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dden Slides!</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p:cNvPicPr/>
          <p:nvPr/>
        </p:nvPicPr>
        <p:blipFill>
          <a:blip r:embed="rId1"/>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3953955-997A-4D1D-A94C-AFAFC16A022F}" type="slidenum">
              <a:t>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aphics Methods</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Arc</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Bezier, DrawBezier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ClosedCurve</a:t>
            </a:r>
            <a:r>
              <a:rPr b="0" lang="en-US" sz="2000" spc="-1" strike="noStrike">
                <a:solidFill>
                  <a:srgbClr val="ffffff"/>
                </a:solidFill>
                <a:latin typeface="Tahoma"/>
              </a:rPr>
              <a:t>, DrawCurv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Ellips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Icon, DrawIconUnstretched</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Image, DrawImageUnscaled</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Line, DrawLin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Path</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Pie</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Polygon</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DrawRectangle, DrawRectangl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awString</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llRegio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CBEA76F-81E6-4153-8280-9343F0F419E5}" type="slidenum">
              <a:t>3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ens and Brushes</a:t>
            </a:r>
            <a:endParaRPr b="1" lang="en-US" sz="4400" spc="-1" strike="noStrike">
              <a:solidFill>
                <a:srgbClr val="eaeaea"/>
              </a:solidFill>
              <a:latin typeface="Tahoma"/>
            </a:endParaRPr>
          </a:p>
        </p:txBody>
      </p:sp>
      <p:sp>
        <p:nvSpPr>
          <p:cNvPr id="221"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ushes</a:t>
            </a:r>
            <a:endParaRPr b="0" lang="en-US" sz="32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ock Brushes</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olidBrush</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atchBrush</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extureBrush</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LinearGradientBrush</a:t>
            </a:r>
            <a:endParaRPr b="0" lang="en-US" sz="2800" spc="-1" strike="noStrike">
              <a:solidFill>
                <a:srgbClr val="ffffcc"/>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athGradientBrush</a:t>
            </a:r>
            <a:endParaRPr b="0" lang="en-US" sz="2800" spc="-1" strike="noStrike">
              <a:solidFill>
                <a:srgbClr val="ffffcc"/>
              </a:solidFill>
              <a:latin typeface="Tahoma"/>
            </a:endParaRPr>
          </a:p>
          <a:p>
            <a:pPr marL="343080" indent="-343080">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ns</a:t>
            </a:r>
            <a:endParaRPr b="0" lang="en-US" sz="3200" spc="-1" strike="noStrike">
              <a:solidFill>
                <a:srgbClr val="ffffff"/>
              </a:solidFill>
              <a:latin typeface="Tahoma"/>
            </a:endParaRPr>
          </a:p>
          <a:p>
            <a:pPr lvl="1" marL="743040" indent="-28584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ock Pen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5EA655F-5B9B-43E0-A9B4-F3A8F67C187E}" type="slidenum">
              <a:t>3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ock Pens and Brushes</a:t>
            </a:r>
            <a:endParaRPr b="1" lang="en-US" sz="4400" spc="-1" strike="noStrike">
              <a:solidFill>
                <a:srgbClr val="eaeaea"/>
              </a:solidFill>
              <a:latin typeface="Tahoma"/>
            </a:endParaRPr>
          </a:p>
        </p:txBody>
      </p:sp>
      <p:sp>
        <p:nvSpPr>
          <p:cNvPr id="223"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rect As New Rectangle(10, 10,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lientSize.Width - 20,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lientSize.Height - 20)</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a rectangle with a solid Aqua brus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FillRectangle(Brushes.Aqua(), rec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Outline the rectangle with 1-pixel lin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Rectangle(Pens.Blue(), rect)</a:t>
            </a:r>
            <a:endParaRPr b="0" lang="en-US" sz="1400" spc="-1" strike="noStrike">
              <a:solidFill>
                <a:srgbClr val="ffffff"/>
              </a:solidFill>
              <a:latin typeface="Tahoma"/>
            </a:endParaRPr>
          </a:p>
        </p:txBody>
      </p:sp>
      <p:sp>
        <p:nvSpPr>
          <p:cNvPr id="224" name=""/>
          <p:cNvSpPr/>
          <p:nvPr/>
        </p:nvSpPr>
        <p:spPr>
          <a:xfrm rot="10800000">
            <a:off x="228600" y="2728440"/>
            <a:ext cx="454680" cy="353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t>
            </a:r>
            <a:r>
              <a:rPr b="0" lang="en-US" sz="1800" spc="-1" strike="noStrike">
                <a:solidFill>
                  <a:srgbClr val="ffffff"/>
                </a:solidFill>
                <a:latin typeface="Tahoma"/>
              </a:rPr>
              <a:t>StockPensAndBrushes</a:t>
            </a:r>
            <a:endParaRPr b="0" lang="en-US" sz="1800" spc="-1" strike="noStrike">
              <a:solidFill>
                <a:srgbClr val="ffffff"/>
              </a:solidFill>
              <a:latin typeface="Arial"/>
            </a:endParaRPr>
          </a:p>
        </p:txBody>
      </p:sp>
      <p:pic>
        <p:nvPicPr>
          <p:cNvPr id="225" name="" descr=""/>
          <p:cNvPicPr/>
          <p:nvPr/>
        </p:nvPicPr>
        <p:blipFill>
          <a:blip r:embed="rId1"/>
          <a:stretch/>
        </p:blipFill>
        <p:spPr>
          <a:xfrm>
            <a:off x="7321680" y="1600200"/>
            <a:ext cx="1504800" cy="138096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713284E-BD26-43B9-89B2-0CF6D05DA4AC}" type="slidenum">
              <a:t>3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lidBrush</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rect As New Rectangle(10, 10,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lientSize.Width - 20,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lientSize.Height - 2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an ellipse with a solid magenta brus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FillEllips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SolidBrush(Color.Magenta), rec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Outline the ellipse  with 10-pixel lin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Ellipse(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en(Color.DarkMagenta, 10), rect)</a:t>
            </a:r>
            <a:endParaRPr b="0" lang="en-US" sz="1400" spc="-1" strike="noStrike">
              <a:solidFill>
                <a:srgbClr val="ffffff"/>
              </a:solidFill>
              <a:latin typeface="Tahoma"/>
            </a:endParaRPr>
          </a:p>
        </p:txBody>
      </p:sp>
      <p:sp>
        <p:nvSpPr>
          <p:cNvPr id="228" name=""/>
          <p:cNvSpPr/>
          <p:nvPr/>
        </p:nvSpPr>
        <p:spPr>
          <a:xfrm rot="10800000">
            <a:off x="228600" y="3695760"/>
            <a:ext cx="454680" cy="2531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olid</a:t>
            </a:r>
            <a:r>
              <a:rPr b="0" lang="en-US" sz="1800" spc="-1" strike="noStrike">
                <a:solidFill>
                  <a:srgbClr val="ffffff"/>
                </a:solidFill>
                <a:latin typeface="Tahoma"/>
              </a:rPr>
              <a:t>Brushes</a:t>
            </a:r>
            <a:endParaRPr b="0" lang="en-US" sz="1800" spc="-1" strike="noStrike">
              <a:solidFill>
                <a:srgbClr val="ffffff"/>
              </a:solidFill>
              <a:latin typeface="Arial"/>
            </a:endParaRPr>
          </a:p>
        </p:txBody>
      </p:sp>
      <p:pic>
        <p:nvPicPr>
          <p:cNvPr id="229" name="" descr=""/>
          <p:cNvPicPr/>
          <p:nvPr/>
        </p:nvPicPr>
        <p:blipFill>
          <a:blip r:embed="rId1"/>
          <a:stretch/>
        </p:blipFill>
        <p:spPr>
          <a:xfrm>
            <a:off x="7350120" y="1600200"/>
            <a:ext cx="1476360" cy="145728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BC55A82-56C8-4419-94E0-6FA03D10923D}" type="slidenum">
              <a:t>3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tchBrush</a:t>
            </a:r>
            <a:endParaRPr b="1" lang="en-US" sz="4400" spc="-1" strike="noStrike">
              <a:solidFill>
                <a:srgbClr val="eaeaea"/>
              </a:solidFill>
              <a:latin typeface="Tahoma"/>
            </a:endParaRPr>
          </a:p>
        </p:txBody>
      </p:sp>
      <p:sp>
        <p:nvSpPr>
          <p:cNvPr id="231"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a closed curve a hatched brus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FillClosedCurve(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HatchBrush(HatchStyle.LargeConfetti,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lor.Blue, Color.LightBlue),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t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 pe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a_pen As New Pen(Color.DarkSlateBlue, 3)</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dash_pattern As Single() = {10, 2, 5, 2}</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_pen.DashPattern = dash_patter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_pen.DashStyle = DashStyle.Custom</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Outline the closed curv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ClosedCurve(a_pen, pts)</a:t>
            </a:r>
            <a:endParaRPr b="0" lang="en-US" sz="1400" spc="-1" strike="noStrike">
              <a:solidFill>
                <a:srgbClr val="ffffff"/>
              </a:solidFill>
              <a:latin typeface="Tahoma"/>
            </a:endParaRPr>
          </a:p>
        </p:txBody>
      </p:sp>
      <p:sp>
        <p:nvSpPr>
          <p:cNvPr id="232" name=""/>
          <p:cNvSpPr/>
          <p:nvPr/>
        </p:nvSpPr>
        <p:spPr>
          <a:xfrm rot="10800000">
            <a:off x="228600" y="3593160"/>
            <a:ext cx="454680" cy="263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Hatch</a:t>
            </a:r>
            <a:r>
              <a:rPr b="0" lang="en-US" sz="1800" spc="-1" strike="noStrike">
                <a:solidFill>
                  <a:srgbClr val="ffffff"/>
                </a:solidFill>
                <a:latin typeface="Tahoma"/>
              </a:rPr>
              <a:t>Brushes</a:t>
            </a:r>
            <a:endParaRPr b="0" lang="en-US" sz="1800" spc="-1" strike="noStrike">
              <a:solidFill>
                <a:srgbClr val="ffffff"/>
              </a:solidFill>
              <a:latin typeface="Arial"/>
            </a:endParaRPr>
          </a:p>
        </p:txBody>
      </p:sp>
      <p:pic>
        <p:nvPicPr>
          <p:cNvPr id="233" name="" descr=""/>
          <p:cNvPicPr/>
          <p:nvPr/>
        </p:nvPicPr>
        <p:blipFill>
          <a:blip r:embed="rId1"/>
          <a:stretch/>
        </p:blipFill>
        <p:spPr>
          <a:xfrm>
            <a:off x="7531200" y="1600200"/>
            <a:ext cx="1295280" cy="175248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27A7EAC-F0CF-4CDD-A400-94C995563459}" type="slidenum">
              <a:t>3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extureBrush</a:t>
            </a:r>
            <a:endParaRPr b="1" lang="en-US" sz="4400" spc="-1" strike="noStrike">
              <a:solidFill>
                <a:srgbClr val="eaeaea"/>
              </a:solidFill>
              <a:latin typeface="Tahoma"/>
            </a:endParaRPr>
          </a:p>
        </p:txBody>
      </p:sp>
      <p:sp>
        <p:nvSpPr>
          <p:cNvPr id="235"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pts() As Point = {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20, 5), ... , New Point(5, 60)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a polygon with a textured brus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FillPolygon(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TextureBrush(picFace.Image), pt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 pe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a_pen As New Pen(Color.Tomato, 3)</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_pen.DashStyle = Drawing.Drawing2D.DashStyle.Das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Outline the polygo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Polygon(a_pen, pts)</a:t>
            </a:r>
            <a:endParaRPr b="0" lang="en-US" sz="1400" spc="-1" strike="noStrike">
              <a:solidFill>
                <a:srgbClr val="ffffff"/>
              </a:solidFill>
              <a:latin typeface="Tahoma"/>
            </a:endParaRPr>
          </a:p>
        </p:txBody>
      </p:sp>
      <p:sp>
        <p:nvSpPr>
          <p:cNvPr id="236" name=""/>
          <p:cNvSpPr/>
          <p:nvPr/>
        </p:nvSpPr>
        <p:spPr>
          <a:xfrm rot="10800000">
            <a:off x="228600" y="3399840"/>
            <a:ext cx="454680" cy="2832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Texture</a:t>
            </a:r>
            <a:r>
              <a:rPr b="0" lang="en-US" sz="1800" spc="-1" strike="noStrike">
                <a:solidFill>
                  <a:srgbClr val="ffffff"/>
                </a:solidFill>
                <a:latin typeface="Tahoma"/>
              </a:rPr>
              <a:t>Brushes</a:t>
            </a:r>
            <a:endParaRPr b="0" lang="en-US" sz="1800" spc="-1" strike="noStrike">
              <a:solidFill>
                <a:srgbClr val="ffffff"/>
              </a:solidFill>
              <a:latin typeface="Arial"/>
            </a:endParaRPr>
          </a:p>
        </p:txBody>
      </p:sp>
      <p:pic>
        <p:nvPicPr>
          <p:cNvPr id="237" name="" descr=""/>
          <p:cNvPicPr/>
          <p:nvPr/>
        </p:nvPicPr>
        <p:blipFill>
          <a:blip r:embed="rId1"/>
          <a:stretch/>
        </p:blipFill>
        <p:spPr>
          <a:xfrm>
            <a:off x="7454880" y="1600200"/>
            <a:ext cx="1371600" cy="1752480"/>
          </a:xfrm>
          <a:prstGeom prst="rect">
            <a:avLst/>
          </a:prstGeom>
          <a:ln w="0">
            <a:noFill/>
          </a:ln>
        </p:spPr>
      </p:pic>
      <p:sp>
        <p:nvSpPr>
          <p:cNvPr id="238"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11B2760-B73A-4F5D-B99F-5572F3CCB2E2}" type="slidenum">
              <a:t>3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6553080" y="228600"/>
            <a:ext cx="2381400" cy="876240"/>
          </a:xfrm>
          <a:prstGeom prst="rect">
            <a:avLst/>
          </a:prstGeom>
          <a:ln w="0">
            <a:noFill/>
          </a:ln>
        </p:spPr>
      </p:pic>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extured Text</a:t>
            </a:r>
            <a:endParaRPr b="1" lang="en-US" sz="4400" spc="-1" strike="noStrike">
              <a:solidFill>
                <a:srgbClr val="eaeaea"/>
              </a:solidFill>
              <a:latin typeface="Tahoma"/>
            </a:endParaRPr>
          </a:p>
        </p:txBody>
      </p:sp>
      <p:sp>
        <p:nvSpPr>
          <p:cNvPr id="24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ont_family As New FontFamily("Gill Sans Ultra Bold")</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he_font As New Font(font_family, 24, FontStyle.Bold)</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string_format As New StringForma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ring_format.Alignment = StringAlignment.Center</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tring_format.LineAlignment = StringAlignment.Center</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String(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nited Kingdom Visual Basic Users Group 2003 Annual Conference",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_font,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TextureBrush(picTexture.Image),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RectangleF(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Texture.Left, picTexture.Top,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Texture.Width, picTexture.Height),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_format)</a:t>
            </a:r>
            <a:endParaRPr b="0" lang="en-US" sz="1400" spc="-1" strike="noStrike">
              <a:solidFill>
                <a:srgbClr val="ffffff"/>
              </a:solidFill>
              <a:latin typeface="Tahoma"/>
            </a:endParaRPr>
          </a:p>
        </p:txBody>
      </p:sp>
      <p:sp>
        <p:nvSpPr>
          <p:cNvPr id="242" name=""/>
          <p:cNvSpPr/>
          <p:nvPr/>
        </p:nvSpPr>
        <p:spPr>
          <a:xfrm rot="10800000">
            <a:off x="228600" y="4034520"/>
            <a:ext cx="454680" cy="2160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Text</a:t>
            </a:r>
            <a:endParaRPr b="0" lang="en-US" sz="1800" spc="-1" strike="noStrike">
              <a:solidFill>
                <a:srgbClr val="ffffff"/>
              </a:solidFill>
              <a:latin typeface="Arial"/>
            </a:endParaRPr>
          </a:p>
        </p:txBody>
      </p:sp>
      <p:sp>
        <p:nvSpPr>
          <p:cNvPr id="243"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A6FA5AB-063A-4275-9EFC-1568880B27FC}" type="slidenum">
              <a:t>36</a:t>
            </a:fld>
          </a:p>
        </p:txBody>
      </p:sp>
      <p:sp>
        <p:nvSpPr>
          <p:cNvPr id="6" name="PlaceHolder 5"/>
          <p:cNvSpPr>
            <a:spLocks noGrp="1"/>
          </p:cNvSpPr>
          <p:nvPr>
            <p:ph type="dt" idx="1"/>
          </p:nvPr>
        </p:nvSpPr>
        <p:spPr/>
        <p:txBody>
          <a:bodyPr/>
          <a:p>
            <a:r>
              <a:rPr lang="en-US"/>
              <a:t>September 16-17, 2003</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6553080" y="228600"/>
            <a:ext cx="2381400" cy="876240"/>
          </a:xfrm>
          <a:prstGeom prst="rect">
            <a:avLst/>
          </a:prstGeom>
          <a:ln w="0">
            <a:noFill/>
          </a:ln>
        </p:spPr>
      </p:pic>
      <p:sp>
        <p:nvSpPr>
          <p:cNvPr id="2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extured Text (2)</a:t>
            </a:r>
            <a:endParaRPr b="1" lang="en-US" sz="4400" spc="-1" strike="noStrike">
              <a:solidFill>
                <a:srgbClr val="eaeaea"/>
              </a:solidFill>
              <a:latin typeface="Tahoma"/>
            </a:endParaRPr>
          </a:p>
        </p:txBody>
      </p:sp>
      <p:sp>
        <p:nvSpPr>
          <p:cNvPr id="24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xt As String = ""</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xt = txt.PadLeft(50, "X").Replace("X", "VBUG ").Trim()</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exture_brush As New TextureBrush(picTexture.Imag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exture_brush.TranslateTransform(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Texture.Left, picTexture.Top)</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String(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_font,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exture_brush,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RectangleF(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Texture.Left, picTexture.Top,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Texture.Width, picTexture.Height),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_format)</a:t>
            </a:r>
            <a:endParaRPr b="0" lang="en-US" sz="1400" spc="-1" strike="noStrike">
              <a:solidFill>
                <a:srgbClr val="ffffff"/>
              </a:solidFill>
              <a:latin typeface="Tahoma"/>
            </a:endParaRPr>
          </a:p>
        </p:txBody>
      </p:sp>
      <p:sp>
        <p:nvSpPr>
          <p:cNvPr id="247" name=""/>
          <p:cNvSpPr/>
          <p:nvPr/>
        </p:nvSpPr>
        <p:spPr>
          <a:xfrm rot="10800000">
            <a:off x="228600" y="3906360"/>
            <a:ext cx="454680" cy="22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Text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0AEB3E8-0AF7-4907-B333-335C9BAD25D0}" type="slidenum">
              <a:t>37</a:t>
            </a:fld>
          </a:p>
        </p:txBody>
      </p:sp>
      <p:sp>
        <p:nvSpPr>
          <p:cNvPr id="6" name="PlaceHolder 5"/>
          <p:cNvSpPr>
            <a:spLocks noGrp="1"/>
          </p:cNvSpPr>
          <p:nvPr>
            <p:ph type="dt" idx="1"/>
          </p:nvPr>
        </p:nvSpPr>
        <p:spPr/>
        <p:txBody>
          <a:bodyPr/>
          <a:p>
            <a:r>
              <a:rPr lang="en-US"/>
              <a:t>September 16-17, 2003</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nearGradientBrush (1)</a:t>
            </a:r>
            <a:endParaRPr b="1" lang="en-US" sz="4400" spc="-1" strike="noStrike">
              <a:solidFill>
                <a:srgbClr val="eaeaea"/>
              </a:solidFill>
              <a:latin typeface="Tahoma"/>
            </a:endParaRPr>
          </a:p>
        </p:txBody>
      </p:sp>
      <p:sp>
        <p:nvSpPr>
          <p:cNvPr id="249"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xt = " VB" &amp; vbCrLf &amp; ".NE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ont_size As Single = 64</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ext_path As New Graphics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ont_family As New FontFamily("Comic Sans MS")</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text to the 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ext_path.AddString(txt, font_family,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ystem.Drawing.FontStyle.Bold,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nt_size, New PointF(5, 5),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ystem.Drawing.StringFormat.GenericDefaul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text's width and heigh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xt_size As SizeF =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MeasureString(txt,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Font(font_family, font_size,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ntStyle.Bold, GraphicsUnit.Pixel))</a:t>
            </a:r>
            <a:endParaRPr b="0" lang="en-US" sz="1400" spc="-1" strike="noStrike">
              <a:solidFill>
                <a:srgbClr val="ffffff"/>
              </a:solidFill>
              <a:latin typeface="Tahoma"/>
            </a:endParaRPr>
          </a:p>
        </p:txBody>
      </p:sp>
      <p:sp>
        <p:nvSpPr>
          <p:cNvPr id="250" name=""/>
          <p:cNvSpPr/>
          <p:nvPr/>
        </p:nvSpPr>
        <p:spPr>
          <a:xfrm rot="10800000">
            <a:off x="228600" y="2656080"/>
            <a:ext cx="454680" cy="3623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nearGradient</a:t>
            </a:r>
            <a:r>
              <a:rPr b="0" lang="en-US" sz="1800" spc="-1" strike="noStrike">
                <a:solidFill>
                  <a:srgbClr val="ffffff"/>
                </a:solidFill>
                <a:latin typeface="Tahoma"/>
              </a:rPr>
              <a:t>Brushe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24CF9DA-8BA3-4325-BC37-CAF01893FCBA}" type="slidenum">
              <a:t>3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nearGradientBrush (2)</a:t>
            </a:r>
            <a:endParaRPr b="1" lang="en-US" sz="4400" spc="-1" strike="noStrike">
              <a:solidFill>
                <a:srgbClr val="eaeaea"/>
              </a:solidFill>
              <a:latin typeface="Tahoma"/>
            </a:endParaRPr>
          </a:p>
        </p:txBody>
      </p:sp>
      <p:sp>
        <p:nvSpPr>
          <p:cNvPr id="25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the path with a gradien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FillPath(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System.Drawing.Drawing2D.LinearGradientBrush(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5, 5),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5 + txt_size.Width, 5 + txt_size.Height),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lor.Red,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lor.Blue),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ext_pat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Outline the path.</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Path(Pens.Black, text_path)</a:t>
            </a:r>
            <a:endParaRPr b="0" lang="en-US" sz="1400" spc="-1" strike="noStrike">
              <a:solidFill>
                <a:srgbClr val="ffffff"/>
              </a:solidFill>
              <a:latin typeface="Tahoma"/>
            </a:endParaRPr>
          </a:p>
        </p:txBody>
      </p:sp>
      <p:sp>
        <p:nvSpPr>
          <p:cNvPr id="253" name=""/>
          <p:cNvSpPr/>
          <p:nvPr/>
        </p:nvSpPr>
        <p:spPr>
          <a:xfrm rot="10800000">
            <a:off x="228600" y="2656080"/>
            <a:ext cx="454680" cy="3623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inearGradient</a:t>
            </a:r>
            <a:r>
              <a:rPr b="0" lang="en-US" sz="1800" spc="-1" strike="noStrike">
                <a:solidFill>
                  <a:srgbClr val="ffffff"/>
                </a:solidFill>
                <a:latin typeface="Tahoma"/>
              </a:rPr>
              <a:t>Brushes</a:t>
            </a:r>
            <a:endParaRPr b="0" lang="en-US" sz="1800" spc="-1" strike="noStrike">
              <a:solidFill>
                <a:srgbClr val="ffffff"/>
              </a:solidFill>
              <a:latin typeface="Arial"/>
            </a:endParaRPr>
          </a:p>
        </p:txBody>
      </p:sp>
      <p:pic>
        <p:nvPicPr>
          <p:cNvPr id="254" name="" descr=""/>
          <p:cNvPicPr/>
          <p:nvPr/>
        </p:nvPicPr>
        <p:blipFill>
          <a:blip r:embed="rId1"/>
          <a:stretch/>
        </p:blipFill>
        <p:spPr>
          <a:xfrm>
            <a:off x="6873840" y="3581280"/>
            <a:ext cx="1952640" cy="2133720"/>
          </a:xfrm>
          <a:prstGeom prst="rect">
            <a:avLst/>
          </a:prstGeom>
          <a:ln w="0">
            <a:noFill/>
          </a:ln>
        </p:spPr>
      </p:pic>
      <p:sp>
        <p:nvSpPr>
          <p:cNvPr id="25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25932FB-F5FE-4D1A-A0E3-EFE128543242}" type="slidenum">
              <a:t>3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685800" y="2057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DI+?</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Process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A500A59-92FB-4DF1-A66D-778856FA0FEE}" type="slidenum">
              <a:t>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6553080" y="228600"/>
            <a:ext cx="2381400" cy="876240"/>
          </a:xfrm>
          <a:prstGeom prst="rect">
            <a:avLst/>
          </a:prstGeom>
          <a:ln w="0">
            <a:noFill/>
          </a:ln>
        </p:spPr>
      </p:pic>
      <p:sp>
        <p:nvSpPr>
          <p:cNvPr id="2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nusSlide</a:t>
            </a:r>
            <a:endParaRPr b="1" lang="en-US" sz="4400" spc="-1" strike="noStrike">
              <a:solidFill>
                <a:srgbClr val="eaeaea"/>
              </a:solidFill>
              <a:latin typeface="Tahoma"/>
            </a:endParaRPr>
          </a:p>
        </p:txBody>
      </p:sp>
      <p:sp>
        <p:nvSpPr>
          <p:cNvPr id="258"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Paint(...) Handles MyBase.Pain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Outline the 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clr As Singl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the_pen As New Pen(Color.Red)</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_pen.EndCap = LineCap.Fla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_pen.StartCap = LineCap.Fla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_pen.LineJoin = LineJoin.Round</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i As Integer = 120 To 8 Step -8</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_pen.Width = i</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_pen.Color = RandomColor()</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DrawPath(the_pen, text_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i</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_pen.Width = 4</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_pen.Color = RandomColor()</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DrawPath(the_pen, text_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59" name=""/>
          <p:cNvSpPr/>
          <p:nvPr/>
        </p:nvSpPr>
        <p:spPr>
          <a:xfrm rot="10800000">
            <a:off x="228600" y="3891960"/>
            <a:ext cx="454680" cy="2327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BonusSlid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CF4B1B3-31C8-478E-AF3C-E5B8010C54CA}" type="slidenum">
              <a:t>40</a:t>
            </a:fld>
          </a:p>
        </p:txBody>
      </p:sp>
      <p:sp>
        <p:nvSpPr>
          <p:cNvPr id="6" name="PlaceHolder 5"/>
          <p:cNvSpPr>
            <a:spLocks noGrp="1"/>
          </p:cNvSpPr>
          <p:nvPr>
            <p:ph type="dt" idx="1"/>
          </p:nvPr>
        </p:nvSpPr>
        <p:spPr/>
        <p:txBody>
          <a:bodyPr/>
          <a:p>
            <a:r>
              <a:rPr lang="en-US"/>
              <a:t>September 16-17, 2003</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thGradientBrush</a:t>
            </a:r>
            <a:endParaRPr b="1" lang="en-US" sz="4400" spc="-1" strike="noStrike">
              <a:solidFill>
                <a:srgbClr val="eaeaea"/>
              </a:solidFill>
              <a:latin typeface="Tahoma"/>
            </a:endParaRPr>
          </a:p>
        </p:txBody>
      </p:sp>
      <p:sp>
        <p:nvSpPr>
          <p:cNvPr id="261"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pts() As Point = { ... }</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urve_path As New Graphics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urve_path.AddClosedCurve(pts, 0.5)</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efine the brus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urve_brush As New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ystem.Drawing.Drawing2D.PathGradientBrush(curve_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surround_colors() As Color = {Color.Blu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urve_brush.SurroundColors = surround_colors</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curve_brush.CenterColor = Color.Green</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the shap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FillPath(curve_brush, curve_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Outline the shap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Graphics.DrawPath(Pens.Black, curve_path)</a:t>
            </a:r>
            <a:endParaRPr b="0" lang="en-US" sz="1400" spc="-1" strike="noStrike">
              <a:solidFill>
                <a:srgbClr val="ffffff"/>
              </a:solidFill>
              <a:latin typeface="Tahoma"/>
            </a:endParaRPr>
          </a:p>
        </p:txBody>
      </p:sp>
      <p:sp>
        <p:nvSpPr>
          <p:cNvPr id="262" name=""/>
          <p:cNvSpPr/>
          <p:nvPr/>
        </p:nvSpPr>
        <p:spPr>
          <a:xfrm rot="10800000">
            <a:off x="228600" y="2833200"/>
            <a:ext cx="454680" cy="3440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thGradient</a:t>
            </a:r>
            <a:r>
              <a:rPr b="0" lang="en-US" sz="1800" spc="-1" strike="noStrike">
                <a:solidFill>
                  <a:srgbClr val="ffffff"/>
                </a:solidFill>
                <a:latin typeface="Tahoma"/>
              </a:rPr>
              <a:t>Brushes</a:t>
            </a:r>
            <a:endParaRPr b="0" lang="en-US" sz="1800" spc="-1" strike="noStrike">
              <a:solidFill>
                <a:srgbClr val="ffffff"/>
              </a:solidFill>
              <a:latin typeface="Arial"/>
            </a:endParaRPr>
          </a:p>
        </p:txBody>
      </p:sp>
      <p:pic>
        <p:nvPicPr>
          <p:cNvPr id="263" name="" descr=""/>
          <p:cNvPicPr/>
          <p:nvPr/>
        </p:nvPicPr>
        <p:blipFill>
          <a:blip r:embed="rId1"/>
          <a:stretch/>
        </p:blipFill>
        <p:spPr>
          <a:xfrm>
            <a:off x="7264440" y="1600200"/>
            <a:ext cx="1562040" cy="1666800"/>
          </a:xfrm>
          <a:prstGeom prst="rect">
            <a:avLst/>
          </a:prstGeom>
          <a:ln w="0">
            <a:noFill/>
          </a:ln>
        </p:spPr>
      </p:pic>
      <p:sp>
        <p:nvSpPr>
          <p:cNvPr id="26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4A044E7-D73A-49EE-9A84-73485F813DDD}" type="slidenum">
              <a:t>4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6553080" y="228600"/>
            <a:ext cx="2381400" cy="876240"/>
          </a:xfrm>
          <a:prstGeom prst="rect">
            <a:avLst/>
          </a:prstGeom>
          <a:ln w="0">
            <a:noFill/>
          </a:ln>
        </p:spPr>
      </p:pic>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ffset Gradient</a:t>
            </a:r>
            <a:endParaRPr b="1" lang="en-US" sz="4400" spc="-1" strike="noStrike">
              <a:solidFill>
                <a:srgbClr val="eaeaea"/>
              </a:solidFill>
              <a:latin typeface="Tahoma"/>
            </a:endParaRPr>
          </a:p>
        </p:txBody>
      </p:sp>
      <p:sp>
        <p:nvSpPr>
          <p:cNvPr id="267"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ath_brush.CenterPoint = New PointF(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lientSize.Width * 0.25,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lientSize.Height * 0.25)</a:t>
            </a:r>
            <a:endParaRPr b="0" lang="en-US" sz="1400" spc="-1" strike="noStrike">
              <a:solidFill>
                <a:srgbClr val="ffffff"/>
              </a:solidFill>
              <a:latin typeface="Tahoma"/>
            </a:endParaRPr>
          </a:p>
        </p:txBody>
      </p:sp>
      <p:sp>
        <p:nvSpPr>
          <p:cNvPr id="268" name=""/>
          <p:cNvSpPr/>
          <p:nvPr/>
        </p:nvSpPr>
        <p:spPr>
          <a:xfrm rot="10800000">
            <a:off x="228600" y="1622160"/>
            <a:ext cx="454680" cy="4707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thGradient</a:t>
            </a:r>
            <a:r>
              <a:rPr b="0" lang="en-US" sz="1800" spc="-1" strike="noStrike">
                <a:solidFill>
                  <a:srgbClr val="ffffff"/>
                </a:solidFill>
                <a:latin typeface="Tahoma"/>
              </a:rPr>
              <a:t>BrushesUncentered</a:t>
            </a:r>
            <a:endParaRPr b="0" lang="en-US" sz="1800" spc="-1" strike="noStrike">
              <a:solidFill>
                <a:srgbClr val="ffffff"/>
              </a:solidFill>
              <a:latin typeface="Arial"/>
            </a:endParaRPr>
          </a:p>
        </p:txBody>
      </p:sp>
      <p:pic>
        <p:nvPicPr>
          <p:cNvPr id="269" name="" descr=""/>
          <p:cNvPicPr/>
          <p:nvPr/>
        </p:nvPicPr>
        <p:blipFill>
          <a:blip r:embed="rId2"/>
          <a:stretch/>
        </p:blipFill>
        <p:spPr>
          <a:xfrm>
            <a:off x="7121520" y="1600200"/>
            <a:ext cx="1704960" cy="1847880"/>
          </a:xfrm>
          <a:prstGeom prst="rect">
            <a:avLst/>
          </a:prstGeom>
          <a:ln w="0">
            <a:noFill/>
          </a:ln>
        </p:spPr>
      </p:pic>
      <p:sp>
        <p:nvSpPr>
          <p:cNvPr id="270"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ACFD8DB-3470-4F7F-B654-C3DFDD7752C6}" type="slidenum">
              <a:t>42</a:t>
            </a:fld>
          </a:p>
        </p:txBody>
      </p:sp>
      <p:sp>
        <p:nvSpPr>
          <p:cNvPr id="6" name="PlaceHolder 5"/>
          <p:cNvSpPr>
            <a:spLocks noGrp="1"/>
          </p:cNvSpPr>
          <p:nvPr>
            <p:ph type="dt" idx="1"/>
          </p:nvPr>
        </p:nvSpPr>
        <p:spPr/>
        <p:txBody>
          <a:bodyPr/>
          <a:p>
            <a:r>
              <a:rPr lang="en-US"/>
              <a:t>September 16-17, 2003</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6553080" y="228600"/>
            <a:ext cx="2381400" cy="876240"/>
          </a:xfrm>
          <a:prstGeom prst="rect">
            <a:avLst/>
          </a:prstGeom>
          <a:ln w="0">
            <a:noFill/>
          </a:ln>
        </p:spPr>
      </p:pic>
      <p:sp>
        <p:nvSpPr>
          <p:cNvPr id="2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use Tracking Gradient</a:t>
            </a:r>
            <a:endParaRPr b="1" lang="en-US" sz="4400" spc="-1" strike="noStrike">
              <a:solidFill>
                <a:srgbClr val="eaeaea"/>
              </a:solidFill>
              <a:latin typeface="Tahoma"/>
            </a:endParaRPr>
          </a:p>
        </p:txBody>
      </p:sp>
      <p:sp>
        <p:nvSpPr>
          <p:cNvPr id="273"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MouseMove(...) Handles MyBase.MouseMov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Make a bitmap to draw on.</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m As New Bitmap(Me.ClientSize.Width, Me.ClientSize.Heigh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gr As Graphics = Graphics.FromImage(bm)</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Fill the ellips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Clear(Me.BackColor)</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FillEllipse(path_brush, rec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Outline the shap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DrawPath(Pens.Black, curve_pa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Display the resul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reateGraphics().DrawImageUnscaled(bm, 0, 0)</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74" name=""/>
          <p:cNvSpPr/>
          <p:nvPr/>
        </p:nvSpPr>
        <p:spPr>
          <a:xfrm rot="10800000">
            <a:off x="228600" y="2166480"/>
            <a:ext cx="454680" cy="4136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thGradient</a:t>
            </a:r>
            <a:r>
              <a:rPr b="0" lang="en-US" sz="1800" spc="-1" strike="noStrike">
                <a:solidFill>
                  <a:srgbClr val="ffffff"/>
                </a:solidFill>
                <a:latin typeface="Tahoma"/>
              </a:rPr>
              <a:t>BrushesFollow</a:t>
            </a:r>
            <a:endParaRPr b="0" lang="en-US" sz="1800" spc="-1" strike="noStrike">
              <a:solidFill>
                <a:srgbClr val="ffffff"/>
              </a:solidFill>
              <a:latin typeface="Arial"/>
            </a:endParaRPr>
          </a:p>
        </p:txBody>
      </p:sp>
      <p:sp>
        <p:nvSpPr>
          <p:cNvPr id="27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D8E9308-5866-440E-8227-923F569E4BFC}" type="slidenum">
              <a:t>43</a:t>
            </a:fld>
          </a:p>
        </p:txBody>
      </p:sp>
      <p:sp>
        <p:nvSpPr>
          <p:cNvPr id="6" name="PlaceHolder 5"/>
          <p:cNvSpPr>
            <a:spLocks noGrp="1"/>
          </p:cNvSpPr>
          <p:nvPr>
            <p:ph type="dt" idx="1"/>
          </p:nvPr>
        </p:nvSpPr>
        <p:spPr/>
        <p:txBody>
          <a:bodyPr/>
          <a:p>
            <a:r>
              <a:rPr lang="en-US"/>
              <a:t>September 16-17, 2003</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6553080" y="228600"/>
            <a:ext cx="2381400" cy="876240"/>
          </a:xfrm>
          <a:prstGeom prst="rect">
            <a:avLst/>
          </a:prstGeom>
          <a:ln w="0">
            <a:noFill/>
          </a:ln>
        </p:spPr>
      </p:pic>
      <p:sp>
        <p:nvSpPr>
          <p:cNvPr id="2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adient Colors</a:t>
            </a:r>
            <a:endParaRPr b="1" lang="en-US" sz="4400" spc="-1" strike="noStrike">
              <a:solidFill>
                <a:srgbClr val="eaeaea"/>
              </a:solidFill>
              <a:latin typeface="Tahoma"/>
            </a:endParaRPr>
          </a:p>
        </p:txBody>
      </p:sp>
      <p:sp>
        <p:nvSpPr>
          <p:cNvPr id="278" name=""/>
          <p:cNvSpPr/>
          <p:nvPr/>
        </p:nvSpPr>
        <p:spPr>
          <a:xfrm rot="10800000">
            <a:off x="228600" y="2417760"/>
            <a:ext cx="454680" cy="3870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thGradient</a:t>
            </a:r>
            <a:r>
              <a:rPr b="0" lang="en-US" sz="1800" spc="-1" strike="noStrike">
                <a:solidFill>
                  <a:srgbClr val="ffffff"/>
                </a:solidFill>
                <a:latin typeface="Tahoma"/>
              </a:rPr>
              <a:t>BrushesStar</a:t>
            </a:r>
            <a:endParaRPr b="0" lang="en-US" sz="1800" spc="-1" strike="noStrike">
              <a:solidFill>
                <a:srgbClr val="ffffff"/>
              </a:solidFill>
              <a:latin typeface="Arial"/>
            </a:endParaRPr>
          </a:p>
        </p:txBody>
      </p:sp>
      <p:sp>
        <p:nvSpPr>
          <p:cNvPr id="279" name="PlaceHolder 2"/>
          <p:cNvSpPr>
            <a:spLocks noGrp="1"/>
          </p:cNvSpPr>
          <p:nvPr>
            <p:ph/>
          </p:nvPr>
        </p:nvSpPr>
        <p:spPr>
          <a:xfrm>
            <a:off x="1066320" y="1981080"/>
            <a:ext cx="762012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roundColors</a:t>
            </a:r>
            <a:endParaRPr b="0" lang="en-US" sz="2800" spc="-1" strike="noStrike">
              <a:solidFill>
                <a:srgbClr val="ffffff"/>
              </a:solidFill>
              <a:latin typeface="Tahoma"/>
            </a:endParaRPr>
          </a:p>
        </p:txBody>
      </p:sp>
      <p:pic>
        <p:nvPicPr>
          <p:cNvPr id="280" name="" descr=""/>
          <p:cNvPicPr/>
          <p:nvPr/>
        </p:nvPicPr>
        <p:blipFill>
          <a:blip r:embed="rId2"/>
          <a:stretch/>
        </p:blipFill>
        <p:spPr>
          <a:xfrm>
            <a:off x="6673680" y="1600200"/>
            <a:ext cx="2152800" cy="228600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331D38F-1CCD-40D9-A053-8467FFFD02E4}" type="slidenum">
              <a:t>44</a:t>
            </a:fld>
          </a:p>
        </p:txBody>
      </p:sp>
      <p:sp>
        <p:nvSpPr>
          <p:cNvPr id="6" name="PlaceHolder 5"/>
          <p:cNvSpPr>
            <a:spLocks noGrp="1"/>
          </p:cNvSpPr>
          <p:nvPr>
            <p:ph type="dt" idx="1"/>
          </p:nvPr>
        </p:nvSpPr>
        <p:spPr/>
        <p:txBody>
          <a:bodyPr/>
          <a:p>
            <a:r>
              <a:rPr lang="en-US"/>
              <a:t>September 16-17, 2003</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
          <p:cNvSpPr/>
          <p:nvPr/>
        </p:nvSpPr>
        <p:spPr>
          <a:xfrm>
            <a:off x="685800" y="327672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DI+?</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Process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7DDC133-4D4E-48D3-AF6B-492F9F38FD58}" type="slidenum">
              <a:t>4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VB .NET</a:t>
            </a:r>
            <a:br>
              <a:rPr sz="4400"/>
            </a:br>
            <a:r>
              <a:rPr b="1" lang="en-US" sz="4400" spc="-1" strike="noStrike">
                <a:solidFill>
                  <a:srgbClr val="eaeaea"/>
                </a:solidFill>
                <a:latin typeface="Tahoma"/>
              </a:rPr>
              <a:t>Image Processing Rocks!</a:t>
            </a:r>
            <a:endParaRPr b="1" lang="en-US" sz="4400" spc="-1" strike="noStrike">
              <a:solidFill>
                <a:srgbClr val="eaeaea"/>
              </a:solidFill>
              <a:latin typeface="Tahoma"/>
            </a:endParaRPr>
          </a:p>
        </p:txBody>
      </p:sp>
      <p:sp>
        <p:nvSpPr>
          <p:cNvPr id="2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emory bitmap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ving GIFs and JPEG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ing pixel-by-pixel operation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tating and transforming imag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pha blending and transparenc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E064C31-2265-4A8A-88EC-99376FA0E4B4}" type="slidenum">
              <a:t>4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oading Images</a:t>
            </a:r>
            <a:endParaRPr b="1" lang="en-US" sz="4400" spc="-1" strike="noStrike">
              <a:solidFill>
                <a:srgbClr val="eaeaea"/>
              </a:solidFill>
              <a:latin typeface="Tahoma"/>
            </a:endParaRPr>
          </a:p>
        </p:txBody>
      </p:sp>
      <p:sp>
        <p:nvSpPr>
          <p:cNvPr id="28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Load the picture into a Bitmap.</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 As New Bitmap(file_nam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Display the results.</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 = bm</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SizeMode = PictureBoxSizeMode.AutoSize</a:t>
            </a:r>
            <a:endParaRPr b="0" lang="en-US" sz="1400" spc="-1" strike="noStrike">
              <a:solidFill>
                <a:srgbClr val="ffffff"/>
              </a:solidFill>
              <a:latin typeface="Tahoma"/>
            </a:endParaRPr>
          </a:p>
        </p:txBody>
      </p:sp>
      <p:sp>
        <p:nvSpPr>
          <p:cNvPr id="288" name=""/>
          <p:cNvSpPr/>
          <p:nvPr/>
        </p:nvSpPr>
        <p:spPr>
          <a:xfrm rot="10800000">
            <a:off x="228600" y="3810240"/>
            <a:ext cx="454680" cy="2415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LoadPictur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7ECA659-4509-4995-9E2E-A3238A9E7163}" type="slidenum">
              <a:t>4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mory Bitmaps</a:t>
            </a:r>
            <a:endParaRPr b="1" lang="en-US" sz="4400" spc="-1" strike="noStrike">
              <a:solidFill>
                <a:srgbClr val="eaeaea"/>
              </a:solidFill>
              <a:latin typeface="Tahoma"/>
            </a:endParaRPr>
          </a:p>
        </p:txBody>
      </p:sp>
      <p:sp>
        <p:nvSpPr>
          <p:cNvPr id="290"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 Bitmap matching the PictureBox's siz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 As New Bitmap(picImage.Width, picImage.Heigh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 Graphics object to draw on the Bitmap.</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gr As Graphics = Graphics.FromImage(bm)</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aw on the Graphics objec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FillRectangl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 = bm</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BFFC99F-3048-4011-9206-11AC1BC00417}" type="slidenum">
              <a:t>4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ing Images</a:t>
            </a:r>
            <a:endParaRPr b="1" lang="en-US" sz="4400" spc="-1" strike="noStrike">
              <a:solidFill>
                <a:srgbClr val="eaeaea"/>
              </a:solidFill>
              <a:latin typeface="Tahoma"/>
            </a:endParaRPr>
          </a:p>
        </p:txBody>
      </p:sp>
      <p:sp>
        <p:nvSpPr>
          <p:cNvPr id="29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a Bitmap.</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 As Bitmap = picImage.Imag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ave the picture as a bitmap, JPEG, and GIF.</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m.Save(file_name &amp; "bmp",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ystem.Drawing.Imaging.ImageFormat.Bmp)</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m.Save(file_name &amp; "jpg",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ystem.Drawing.Imaging.ImageFormat.Jpe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m.Save(file_name &amp; "gif", _</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ystem.Drawing.Imaging.ImageFormat.Gif)</a:t>
            </a:r>
            <a:endParaRPr b="0" lang="en-US" sz="1400" spc="-1" strike="noStrike">
              <a:solidFill>
                <a:srgbClr val="ffffff"/>
              </a:solidFill>
              <a:latin typeface="Tahoma"/>
            </a:endParaRPr>
          </a:p>
        </p:txBody>
      </p:sp>
      <p:sp>
        <p:nvSpPr>
          <p:cNvPr id="293" name=""/>
          <p:cNvSpPr/>
          <p:nvPr/>
        </p:nvSpPr>
        <p:spPr>
          <a:xfrm rot="10800000">
            <a:off x="228600" y="3760920"/>
            <a:ext cx="454680" cy="2445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ave Pictur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05FBF79-7A3C-457D-90FC-0B0235D221B7}" type="slidenum">
              <a:t>4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GDI+?</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DI = Graphic Device Interfa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DI+ = GDI.NE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E803CA2-E33D-418D-ABAB-C69682C88F37}" type="slidenum">
              <a:t>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ave Parameters</a:t>
            </a:r>
            <a:endParaRPr b="1" lang="en-US" sz="4400" spc="-1" strike="noStrike">
              <a:solidFill>
                <a:srgbClr val="eaeaea"/>
              </a:solidFill>
              <a:latin typeface="Tahoma"/>
            </a:endParaRPr>
          </a:p>
        </p:txBody>
      </p:sp>
      <p:sp>
        <p:nvSpPr>
          <p:cNvPr id="295" name="PlaceHolder 2"/>
          <p:cNvSpPr>
            <a:spLocks noGrp="1"/>
          </p:cNvSpPr>
          <p:nvPr>
            <p:ph/>
          </p:nvPr>
        </p:nvSpPr>
        <p:spPr>
          <a:xfrm>
            <a:off x="1066680" y="1980720"/>
            <a:ext cx="7467840" cy="20574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tina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ring</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ream</a:t>
            </a:r>
            <a:endParaRPr b="0" lang="en-US" sz="2400" spc="-1" strike="noStrike">
              <a:solidFill>
                <a:srgbClr val="ffffcc"/>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stem.Drawing.Imaging.ImageFormat</a:t>
            </a:r>
            <a:endParaRPr b="0" lang="en-US" sz="2800" spc="-1" strike="noStrike">
              <a:solidFill>
                <a:srgbClr val="ffffff"/>
              </a:solidFill>
              <a:latin typeface="Tahoma"/>
            </a:endParaRPr>
          </a:p>
        </p:txBody>
      </p:sp>
      <p:sp>
        <p:nvSpPr>
          <p:cNvPr id="296" name=""/>
          <p:cNvSpPr/>
          <p:nvPr/>
        </p:nvSpPr>
        <p:spPr>
          <a:xfrm>
            <a:off x="1066680" y="3962520"/>
            <a:ext cx="3048120" cy="19047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Bmp</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Emf</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Exif</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uid</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con</a:t>
            </a:r>
            <a:endParaRPr b="0" lang="en-US" sz="2400" spc="-1" strike="noStrike">
              <a:solidFill>
                <a:srgbClr val="ffffff"/>
              </a:solidFill>
              <a:latin typeface="Arial"/>
            </a:endParaRPr>
          </a:p>
        </p:txBody>
      </p:sp>
      <p:sp>
        <p:nvSpPr>
          <p:cNvPr id="297" name=""/>
          <p:cNvSpPr/>
          <p:nvPr/>
        </p:nvSpPr>
        <p:spPr>
          <a:xfrm>
            <a:off x="5029200" y="3962520"/>
            <a:ext cx="3048120" cy="19047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Jpe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emoryBmp</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ng</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iff</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mf</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119E192-1DF8-4447-B6C0-2792F5BA79AA}" type="slidenum">
              <a:t>5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ixel-by-Pixel Operations</a:t>
            </a:r>
            <a:endParaRPr b="1" lang="en-US" sz="4400" spc="-1" strike="noStrike">
              <a:solidFill>
                <a:srgbClr val="eaeaea"/>
              </a:solidFill>
              <a:latin typeface="Tahoma"/>
            </a:endParaRPr>
          </a:p>
        </p:txBody>
      </p:sp>
      <p:sp>
        <p:nvSpPr>
          <p:cNvPr id="299"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bitmap and its dimension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 As Bitmap = picImage.Imag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xmax = bm.Width - 1</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ymax = bm.Height - 1</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nvert the pixels to grayscal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y = 0 To ymax</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x = 0 To xmax</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Convert this pixel.</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ith bm.GetPixel(x, 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r = 0.3 * .R + 0.5 * .G + 0.2 * .B</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With</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m.SetPixel(x, y,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lor.FromArgb(255, clr, clr, cl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x</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 = bm</a:t>
            </a:r>
            <a:endParaRPr b="0" lang="en-US" sz="1400" spc="-1" strike="noStrike">
              <a:solidFill>
                <a:srgbClr val="ffffff"/>
              </a:solidFill>
              <a:latin typeface="Tahoma"/>
            </a:endParaRPr>
          </a:p>
        </p:txBody>
      </p:sp>
      <p:sp>
        <p:nvSpPr>
          <p:cNvPr id="300" name=""/>
          <p:cNvSpPr/>
          <p:nvPr/>
        </p:nvSpPr>
        <p:spPr>
          <a:xfrm rot="10800000">
            <a:off x="228600" y="3809880"/>
            <a:ext cx="454680" cy="2413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ixelByPixel</a:t>
            </a:r>
            <a:endParaRPr b="0" lang="en-US" sz="1800" spc="-1" strike="noStrike">
              <a:solidFill>
                <a:srgbClr val="ffffff"/>
              </a:solidFill>
              <a:latin typeface="Arial"/>
            </a:endParaRPr>
          </a:p>
        </p:txBody>
      </p:sp>
      <p:sp>
        <p:nvSpPr>
          <p:cNvPr id="30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8FDE3C5-90D8-47CA-A98B-E9230D96EE9D}" type="slidenum">
              <a:t>5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6553080" y="228600"/>
            <a:ext cx="2381400" cy="876240"/>
          </a:xfrm>
          <a:prstGeom prst="rect">
            <a:avLst/>
          </a:prstGeom>
          <a:ln w="0">
            <a:noFill/>
          </a:ln>
        </p:spPr>
      </p:pic>
      <p:sp>
        <p:nvSpPr>
          <p:cNvPr id="3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toring Images</a:t>
            </a:r>
            <a:endParaRPr b="1" lang="en-US" sz="4400" spc="-1" strike="noStrike">
              <a:solidFill>
                <a:srgbClr val="eaeaea"/>
              </a:solidFill>
              <a:latin typeface="Tahoma"/>
            </a:endParaRPr>
          </a:p>
        </p:txBody>
      </p:sp>
      <p:sp>
        <p:nvSpPr>
          <p:cNvPr id="304"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ave a copy of the pictu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m As New Bitmap(picImage.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Hidden.Image = b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store the original 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Reset_Click(...) Handles btnReset.Click</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m As New Bitmap(picHidden.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Image.Image = bm</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05" name=""/>
          <p:cNvSpPr/>
          <p:nvPr/>
        </p:nvSpPr>
        <p:spPr>
          <a:xfrm rot="10800000">
            <a:off x="228600" y="3809880"/>
            <a:ext cx="454680" cy="2413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ixelByPixel</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BCD075E-F1CC-451D-84A8-E0FBB2F2483A}" type="slidenum">
              <a:t>52</a:t>
            </a:fld>
          </a:p>
        </p:txBody>
      </p:sp>
      <p:sp>
        <p:nvSpPr>
          <p:cNvPr id="6" name="PlaceHolder 5"/>
          <p:cNvSpPr>
            <a:spLocks noGrp="1"/>
          </p:cNvSpPr>
          <p:nvPr>
            <p:ph type="dt" idx="1"/>
          </p:nvPr>
        </p:nvSpPr>
        <p:spPr/>
        <p:txBody>
          <a:bodyPr/>
          <a:p>
            <a:r>
              <a:rPr lang="en-US"/>
              <a:t>September 16-17, 2003</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aphics.DrawImage</a:t>
            </a:r>
            <a:endParaRPr b="1" lang="en-US" sz="4400" spc="-1" strike="noStrike">
              <a:solidFill>
                <a:srgbClr val="eaeaea"/>
              </a:solidFill>
              <a:latin typeface="Tahoma"/>
            </a:endParaRPr>
          </a:p>
        </p:txBody>
      </p:sp>
      <p:sp>
        <p:nvSpPr>
          <p:cNvPr id="3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 overloaded version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py an image onto another image</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py part of an image</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py part of an image to a particular location, possibly resizing i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ap an image’s corners</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C76750F-3516-4D22-9B00-2F36F78ABDC3}" type="slidenum">
              <a:t>5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py One Image Onto Another</a:t>
            </a:r>
            <a:endParaRPr b="1" lang="en-US" sz="4400" spc="-1" strike="noStrike">
              <a:solidFill>
                <a:srgbClr val="eaeaea"/>
              </a:solidFill>
              <a:latin typeface="Tahoma"/>
            </a:endParaRPr>
          </a:p>
        </p:txBody>
      </p:sp>
      <p:sp>
        <p:nvSpPr>
          <p:cNvPr id="3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Note that fr_bm and to_bm must be differ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r_bm As New Bitmap(picImage.Im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o_bm As New Bitmap(picImage.Im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a Graphics object for fr_b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gr As Graphics = Graphics.FromImage(to_b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py the image and a box around i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rect As New Rectangle(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r_bm.Width * 0.1, fr_bm.Height * 0.1,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r_bm.Width * 0.4, fr_bm.Height * 0.4)</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DrawImage(fr_bm, r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DrawRectangle(Pens.Red, r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 = to_bm</a:t>
            </a:r>
            <a:endParaRPr b="0" lang="en-US" sz="1400" spc="-1" strike="noStrike">
              <a:solidFill>
                <a:srgbClr val="ffffff"/>
              </a:solidFill>
              <a:latin typeface="Tahoma"/>
            </a:endParaRPr>
          </a:p>
        </p:txBody>
      </p:sp>
      <p:sp>
        <p:nvSpPr>
          <p:cNvPr id="310" name=""/>
          <p:cNvSpPr/>
          <p:nvPr/>
        </p:nvSpPr>
        <p:spPr>
          <a:xfrm rot="10800000">
            <a:off x="228600" y="3303000"/>
            <a:ext cx="454680" cy="2931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Cop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AD55CBD-E071-4E25-9736-3E193B2DB02D}" type="slidenum">
              <a:t>5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py Part of an Image</a:t>
            </a:r>
            <a:endParaRPr b="1" lang="en-US" sz="4400" spc="-1" strike="noStrike">
              <a:solidFill>
                <a:srgbClr val="eaeaea"/>
              </a:solidFill>
              <a:latin typeface="Tahoma"/>
            </a:endParaRPr>
          </a:p>
        </p:txBody>
      </p:sp>
      <p:sp>
        <p:nvSpPr>
          <p:cNvPr id="3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Bitmaps and a Graphics obj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or the destination Bitmap.</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r_bm As New Bitmap(picImage.Im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o_bm As New Bitmap(picImage.Im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gr As Graphics = Graphics.FromImage(to_b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source and destination rectangl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r_rect As New Rectangle(240, 20, 130, 10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o_rect As New Rectangle(10, 10, 130, 10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aw from the source to the destinat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DrawImage(fr_bm, to_rect, fr_rect, GraphicsUnit.Pixel)</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DrawRectangle(Pens.Red, to_r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Image.Image = to_bm</a:t>
            </a:r>
            <a:endParaRPr b="0" lang="en-US" sz="1400" spc="-1" strike="noStrike">
              <a:solidFill>
                <a:srgbClr val="ffffff"/>
              </a:solidFill>
              <a:latin typeface="Tahoma"/>
            </a:endParaRPr>
          </a:p>
        </p:txBody>
      </p:sp>
      <p:sp>
        <p:nvSpPr>
          <p:cNvPr id="313" name=""/>
          <p:cNvSpPr/>
          <p:nvPr/>
        </p:nvSpPr>
        <p:spPr>
          <a:xfrm rot="10800000">
            <a:off x="228600" y="2878200"/>
            <a:ext cx="454680" cy="3375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CopyPart</a:t>
            </a:r>
            <a:endParaRPr b="0" lang="en-US" sz="1800" spc="-1" strike="noStrike">
              <a:solidFill>
                <a:srgbClr val="ffffff"/>
              </a:solidFill>
              <a:latin typeface="Arial"/>
            </a:endParaRPr>
          </a:p>
        </p:txBody>
      </p:sp>
      <p:sp>
        <p:nvSpPr>
          <p:cNvPr id="31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0BC54FB-D7C1-4558-B88B-CBC834004A05}" type="slidenum">
              <a:t>5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6553080" y="228600"/>
            <a:ext cx="2381400" cy="876240"/>
          </a:xfrm>
          <a:prstGeom prst="rect">
            <a:avLst/>
          </a:prstGeom>
          <a:ln w="0">
            <a:noFill/>
          </a:ln>
        </p:spPr>
      </p:pic>
      <p:sp>
        <p:nvSpPr>
          <p:cNvPr id="3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ize Part of an Image</a:t>
            </a:r>
            <a:endParaRPr b="1" lang="en-US" sz="4400" spc="-1" strike="noStrike">
              <a:solidFill>
                <a:srgbClr val="eaeaea"/>
              </a:solidFill>
              <a:latin typeface="Tahoma"/>
            </a:endParaRPr>
          </a:p>
        </p:txBody>
      </p:sp>
      <p:sp>
        <p:nvSpPr>
          <p:cNvPr id="3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source and destination rectangl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r_rect As New Rectangle(240, 20, 130, 10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o_rect As New Rectangle(10, 10, 260, 200)</a:t>
            </a:r>
            <a:endParaRPr b="0" lang="en-US" sz="1400" spc="-1" strike="noStrike">
              <a:solidFill>
                <a:srgbClr val="ffffff"/>
              </a:solidFill>
              <a:latin typeface="Tahoma"/>
            </a:endParaRPr>
          </a:p>
        </p:txBody>
      </p:sp>
      <p:sp>
        <p:nvSpPr>
          <p:cNvPr id="318" name=""/>
          <p:cNvSpPr/>
          <p:nvPr/>
        </p:nvSpPr>
        <p:spPr>
          <a:xfrm rot="10800000">
            <a:off x="228600" y="3169080"/>
            <a:ext cx="454680" cy="3069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Resize</a:t>
            </a:r>
            <a:endParaRPr b="0" lang="en-US" sz="1800" spc="-1" strike="noStrike">
              <a:solidFill>
                <a:srgbClr val="ffffff"/>
              </a:solidFill>
              <a:latin typeface="Arial"/>
            </a:endParaRPr>
          </a:p>
        </p:txBody>
      </p:sp>
      <p:sp>
        <p:nvSpPr>
          <p:cNvPr id="31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6E01F01-C47F-45BB-B2DA-F207DB879907}" type="slidenum">
              <a:t>56</a:t>
            </a:fld>
          </a:p>
        </p:txBody>
      </p:sp>
      <p:sp>
        <p:nvSpPr>
          <p:cNvPr id="6" name="PlaceHolder 5"/>
          <p:cNvSpPr>
            <a:spLocks noGrp="1"/>
          </p:cNvSpPr>
          <p:nvPr>
            <p:ph type="dt" idx="1"/>
          </p:nvPr>
        </p:nvSpPr>
        <p:spPr/>
        <p:txBody>
          <a:bodyPr/>
          <a:p>
            <a:r>
              <a:rPr lang="en-US"/>
              <a:t>September 16-17, 2003</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polation Mode</a:t>
            </a:r>
            <a:endParaRPr b="1" lang="en-US" sz="4400" spc="-1" strike="noStrike">
              <a:solidFill>
                <a:srgbClr val="eaeaea"/>
              </a:solidFill>
              <a:latin typeface="Tahoma"/>
            </a:endParaRPr>
          </a:p>
        </p:txBody>
      </p:sp>
      <p:sp>
        <p:nvSpPr>
          <p:cNvPr id="3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Graphics.InterpolationMode to:</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NearestNeighbor</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ilinear</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ighQualityBilinear</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icubic</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ighQualityBicubic</a:t>
            </a:r>
            <a:endParaRPr b="0" lang="en-US" sz="2800" spc="-1" strike="noStrike">
              <a:solidFill>
                <a:srgbClr val="ffffcc"/>
              </a:solidFill>
              <a:latin typeface="Tahoma"/>
            </a:endParaRPr>
          </a:p>
        </p:txBody>
      </p:sp>
      <p:pic>
        <p:nvPicPr>
          <p:cNvPr id="322" name="" descr=""/>
          <p:cNvPicPr/>
          <p:nvPr/>
        </p:nvPicPr>
        <p:blipFill>
          <a:blip r:embed="rId1"/>
          <a:stretch/>
        </p:blipFill>
        <p:spPr>
          <a:xfrm>
            <a:off x="6553080" y="228600"/>
            <a:ext cx="2381400" cy="876240"/>
          </a:xfrm>
          <a:prstGeom prst="rect">
            <a:avLst/>
          </a:prstGeom>
          <a:ln w="0">
            <a:noFill/>
          </a:ln>
        </p:spPr>
      </p:pic>
      <p:sp>
        <p:nvSpPr>
          <p:cNvPr id="323" name=""/>
          <p:cNvSpPr/>
          <p:nvPr/>
        </p:nvSpPr>
        <p:spPr>
          <a:xfrm rot="10800000">
            <a:off x="228600" y="3687480"/>
            <a:ext cx="454680" cy="2546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Interpolation</a:t>
            </a:r>
            <a:endParaRPr b="0" lang="en-US" sz="1800" spc="-1" strike="noStrike">
              <a:solidFill>
                <a:srgbClr val="ffffff"/>
              </a:solidFill>
              <a:latin typeface="Arial"/>
            </a:endParaRPr>
          </a:p>
        </p:txBody>
      </p:sp>
      <p:sp>
        <p:nvSpPr>
          <p:cNvPr id="32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3073DA6-57D0-45EE-A88A-66D3851FB148}" type="slidenum">
              <a:t>57</a:t>
            </a:fld>
          </a:p>
        </p:txBody>
      </p:sp>
      <p:sp>
        <p:nvSpPr>
          <p:cNvPr id="6" name="PlaceHolder 5"/>
          <p:cNvSpPr>
            <a:spLocks noGrp="1"/>
          </p:cNvSpPr>
          <p:nvPr>
            <p:ph type="dt" idx="1"/>
          </p:nvPr>
        </p:nvSpPr>
        <p:spPr/>
        <p:txBody>
          <a:bodyPr/>
          <a:p>
            <a:r>
              <a:rPr lang="en-US"/>
              <a:t>September 16-17, 2003</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6553080" y="228600"/>
            <a:ext cx="2381400" cy="876240"/>
          </a:xfrm>
          <a:prstGeom prst="rect">
            <a:avLst/>
          </a:prstGeom>
          <a:ln w="0">
            <a:noFill/>
          </a:ln>
        </p:spPr>
      </p:pic>
      <p:sp>
        <p:nvSpPr>
          <p:cNvPr id="326"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p An Image’s Corners</a:t>
            </a:r>
            <a:endParaRPr b="1" lang="en-US" sz="4400" spc="-1" strike="noStrike">
              <a:solidFill>
                <a:srgbClr val="eaeaea"/>
              </a:solidFill>
              <a:latin typeface="Tahoma"/>
            </a:endParaRPr>
          </a:p>
        </p:txBody>
      </p:sp>
      <p:sp>
        <p:nvSpPr>
          <p:cNvPr id="3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Get the Bitmaps and Graphics obj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fr_bm As New Bitmap(picImage.Im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o_bm As New Bitmap(fr_bm.Width, fr_bm.Heigh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gr As Graphics = Graphics.FromImage(to_b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ll the destination Bitmap with a backgroun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FillRectangle(Brushes.PapayaWhip,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o_bm.GetBounds(System.Drawing.GraphicsUnit.Pixel))</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efine the destination paralelogra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dest_pts() As Point = {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150, 0),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fr_bm.Width, 50),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0, fr_bm.Height - 50)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aw the im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DrawImage(fr_bm, dest_pts)</a:t>
            </a:r>
            <a:endParaRPr b="0" lang="en-US" sz="1400" spc="-1" strike="noStrike">
              <a:solidFill>
                <a:srgbClr val="ffffff"/>
              </a:solidFill>
              <a:latin typeface="Tahoma"/>
            </a:endParaRPr>
          </a:p>
        </p:txBody>
      </p:sp>
      <p:sp>
        <p:nvSpPr>
          <p:cNvPr id="328" name=""/>
          <p:cNvSpPr/>
          <p:nvPr/>
        </p:nvSpPr>
        <p:spPr>
          <a:xfrm rot="10800000">
            <a:off x="228600" y="2560320"/>
            <a:ext cx="454680" cy="3719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MapCorners</a:t>
            </a:r>
            <a:endParaRPr b="0" lang="en-US" sz="1800" spc="-1" strike="noStrike">
              <a:solidFill>
                <a:srgbClr val="ffffff"/>
              </a:solidFill>
              <a:latin typeface="Arial"/>
            </a:endParaRPr>
          </a:p>
        </p:txBody>
      </p:sp>
      <p:sp>
        <p:nvSpPr>
          <p:cNvPr id="32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A06685E-42CC-4879-A387-ADC21C5C093E}" type="slidenum">
              <a:t>58</a:t>
            </a:fld>
          </a:p>
        </p:txBody>
      </p:sp>
      <p:sp>
        <p:nvSpPr>
          <p:cNvPr id="6" name="PlaceHolder 5"/>
          <p:cNvSpPr>
            <a:spLocks noGrp="1"/>
          </p:cNvSpPr>
          <p:nvPr>
            <p:ph type="dt" idx="1"/>
          </p:nvPr>
        </p:nvSpPr>
        <p:spPr/>
        <p:txBody>
          <a:bodyPr/>
          <a:p>
            <a:r>
              <a:rPr lang="en-US"/>
              <a:t>September 16-17, 2003</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6553080" y="228600"/>
            <a:ext cx="2381400" cy="876240"/>
          </a:xfrm>
          <a:prstGeom prst="rect">
            <a:avLst/>
          </a:prstGeom>
          <a:ln w="0">
            <a:noFill/>
          </a:ln>
        </p:spPr>
      </p:pic>
      <p:sp>
        <p:nvSpPr>
          <p:cNvPr id="331"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lip An Image’s Corners</a:t>
            </a:r>
            <a:endParaRPr b="1" lang="en-US" sz="4400" spc="-1" strike="noStrike">
              <a:solidFill>
                <a:srgbClr val="eaeaea"/>
              </a:solidFill>
              <a:latin typeface="Tahoma"/>
            </a:endParaRPr>
          </a:p>
        </p:txBody>
      </p:sp>
      <p:sp>
        <p:nvSpPr>
          <p:cNvPr id="3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dest_pts() As Point = { _</a:t>
            </a: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fr_bm.Width, 50), _</a:t>
            </a: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150, 0), _</a:t>
            </a: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fr_bm.Width - 150, fr_bm.Height) _</a:t>
            </a: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p:txBody>
      </p:sp>
      <p:sp>
        <p:nvSpPr>
          <p:cNvPr id="333" name=""/>
          <p:cNvSpPr/>
          <p:nvPr/>
        </p:nvSpPr>
        <p:spPr>
          <a:xfrm rot="10800000">
            <a:off x="228600" y="2646720"/>
            <a:ext cx="454680" cy="3622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ImageFlipCorners</a:t>
            </a:r>
            <a:endParaRPr b="0" lang="en-US" sz="1800" spc="-1" strike="noStrike">
              <a:solidFill>
                <a:srgbClr val="ffffff"/>
              </a:solidFill>
              <a:latin typeface="Arial"/>
            </a:endParaRPr>
          </a:p>
        </p:txBody>
      </p:sp>
      <p:sp>
        <p:nvSpPr>
          <p:cNvPr id="33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4481BC6-60A9-4751-9846-F08E3D976EB0}" type="slidenum">
              <a:t>59</a:t>
            </a:fld>
          </a:p>
        </p:txBody>
      </p:sp>
      <p:sp>
        <p:nvSpPr>
          <p:cNvPr id="6" name="PlaceHolder 5"/>
          <p:cNvSpPr>
            <a:spLocks noGrp="1"/>
          </p:cNvSpPr>
          <p:nvPr>
            <p:ph type="dt" idx="1"/>
          </p:nvPr>
        </p:nvSpPr>
        <p:spPr/>
        <p:txBody>
          <a:bodyPr/>
          <a:p>
            <a:r>
              <a:rPr lang="en-US"/>
              <a:t>September 16-17, 2003</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p:nvPr/>
        </p:nvSpPr>
        <p:spPr>
          <a:xfrm>
            <a:off x="1371600" y="3124080"/>
            <a:ext cx="5334120" cy="533520"/>
          </a:xfrm>
          <a:prstGeom prst="rect">
            <a:avLst/>
          </a:prstGeom>
          <a:gradFill rotWithShape="0">
            <a:gsLst>
              <a:gs pos="0">
                <a:srgbClr val="000099"/>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371600" y="2057400"/>
            <a:ext cx="5334120" cy="53352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371600" y="2590920"/>
            <a:ext cx="5334120" cy="53316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DI+ Namespaces</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em.Drawing</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Drawing2D</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Imaging</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Text</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Printing</a:t>
            </a:r>
            <a:endParaRPr b="0" lang="en-US" sz="2800" spc="-1" strike="noStrike">
              <a:solidFill>
                <a:srgbClr val="ffffcc"/>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ystem.Drawing.Design</a:t>
            </a:r>
            <a:endParaRPr b="0" lang="en-US" sz="2800" spc="-1" strike="noStrike">
              <a:solidFill>
                <a:srgbClr val="ffffcc"/>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CA4E1C2-8DD7-4D2A-938E-4A00930B18F8}" type="slidenum">
              <a:t>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6553080" y="228600"/>
            <a:ext cx="2381400" cy="876240"/>
          </a:xfrm>
          <a:prstGeom prst="rect">
            <a:avLst/>
          </a:prstGeom>
          <a:ln w="0">
            <a:noFill/>
          </a:ln>
        </p:spPr>
      </p:pic>
      <p:sp>
        <p:nvSpPr>
          <p:cNvPr id="336" name="PlaceHolder 1"/>
          <p:cNvSpPr>
            <a:spLocks noGrp="1"/>
          </p:cNvSpPr>
          <p:nvPr>
            <p:ph type="title"/>
          </p:nvPr>
        </p:nvSpPr>
        <p:spPr>
          <a:xfrm>
            <a:off x="1066320" y="304560"/>
            <a:ext cx="80773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tateFlip</a:t>
            </a:r>
            <a:endParaRPr b="1" lang="en-US" sz="4400" spc="-1" strike="noStrike">
              <a:solidFill>
                <a:srgbClr val="eaeaea"/>
              </a:solidFill>
              <a:latin typeface="Tahoma"/>
            </a:endParaRPr>
          </a:p>
        </p:txBody>
      </p:sp>
      <p:sp>
        <p:nvSpPr>
          <p:cNvPr id="3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the output bitmap.</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_out As New Bitmap(picSource.Imag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d the rotation nam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rotation_name As String = cboRotationType.Text</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tation_name = rotation_name.Substring(0, _</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otation_name.IndexOf(" ("))</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elect Case rotation_nam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se "Rotate180FlipNon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m_out.RotateFlip(RotateFlipType.Rotate180FlipNon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elect</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Dest.Image = bm_out</a:t>
            </a:r>
            <a:endParaRPr b="0" lang="en-US" sz="1400" spc="-1" strike="noStrike">
              <a:solidFill>
                <a:srgbClr val="ffffff"/>
              </a:solidFill>
              <a:latin typeface="Tahoma"/>
            </a:endParaRPr>
          </a:p>
        </p:txBody>
      </p:sp>
      <p:sp>
        <p:nvSpPr>
          <p:cNvPr id="338" name=""/>
          <p:cNvSpPr/>
          <p:nvPr/>
        </p:nvSpPr>
        <p:spPr>
          <a:xfrm rot="10800000">
            <a:off x="228600" y="3999240"/>
            <a:ext cx="454680" cy="2212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Flip</a:t>
            </a:r>
            <a:endParaRPr b="0" lang="en-US" sz="1800" spc="-1" strike="noStrike">
              <a:solidFill>
                <a:srgbClr val="ffffff"/>
              </a:solidFill>
              <a:latin typeface="Arial"/>
            </a:endParaRPr>
          </a:p>
        </p:txBody>
      </p:sp>
      <p:sp>
        <p:nvSpPr>
          <p:cNvPr id="33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B3C4C0B-A4A9-4A25-94E2-AA6D3FB3671F}" type="slidenum">
              <a:t>60</a:t>
            </a:fld>
          </a:p>
        </p:txBody>
      </p:sp>
      <p:sp>
        <p:nvSpPr>
          <p:cNvPr id="6" name="PlaceHolder 5"/>
          <p:cNvSpPr>
            <a:spLocks noGrp="1"/>
          </p:cNvSpPr>
          <p:nvPr>
            <p:ph type="dt" idx="1"/>
          </p:nvPr>
        </p:nvSpPr>
        <p:spPr/>
        <p:txBody>
          <a:bodyPr/>
          <a:p>
            <a:r>
              <a:rPr lang="en-US"/>
              <a:t>September 16-17, 2003</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1658880" y="2019240"/>
            <a:ext cx="6512040" cy="4114800"/>
          </a:xfrm>
          <a:prstGeom prst="rect">
            <a:avLst/>
          </a:prstGeom>
          <a:ln w="0">
            <a:noFill/>
          </a:ln>
        </p:spPr>
      </p:pic>
      <p:sp>
        <p:nvSpPr>
          <p:cNvPr id="3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mage</a:t>
            </a:r>
            <a:br>
              <a:rPr sz="4400"/>
            </a:br>
            <a:r>
              <a:rPr b="1" lang="en-US" sz="4400" spc="-1" strike="noStrike">
                <a:solidFill>
                  <a:srgbClr val="eaeaea"/>
                </a:solidFill>
                <a:latin typeface="Tahoma"/>
              </a:rPr>
              <a:t>Rotation (1)</a:t>
            </a:r>
            <a:endParaRPr b="1" lang="en-US" sz="4400" spc="-1" strike="noStrike">
              <a:solidFill>
                <a:srgbClr val="eaeaea"/>
              </a:solidFill>
              <a:latin typeface="Tahoma"/>
            </a:endParaRPr>
          </a:p>
        </p:txBody>
      </p:sp>
      <p:sp>
        <p:nvSpPr>
          <p:cNvPr id="342"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sp>
        <p:nvSpPr>
          <p:cNvPr id="343" name=""/>
          <p:cNvSpPr/>
          <p:nvPr/>
        </p:nvSpPr>
        <p:spPr>
          <a:xfrm>
            <a:off x="1535040" y="243828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a:t>
            </a:r>
            <a:endParaRPr b="0" lang="en-US" sz="1000" spc="-1" strike="noStrike">
              <a:solidFill>
                <a:srgbClr val="ffffff"/>
              </a:solidFill>
              <a:latin typeface="Arial"/>
            </a:endParaRPr>
          </a:p>
        </p:txBody>
      </p:sp>
      <p:sp>
        <p:nvSpPr>
          <p:cNvPr id="344" name=""/>
          <p:cNvSpPr/>
          <p:nvPr/>
        </p:nvSpPr>
        <p:spPr>
          <a:xfrm>
            <a:off x="4278240" y="243828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a:t>
            </a:r>
            <a:endParaRPr b="0" lang="en-US" sz="1000" spc="-1" strike="noStrike">
              <a:solidFill>
                <a:srgbClr val="ffffff"/>
              </a:solidFill>
              <a:latin typeface="Arial"/>
            </a:endParaRPr>
          </a:p>
        </p:txBody>
      </p:sp>
      <p:sp>
        <p:nvSpPr>
          <p:cNvPr id="345" name=""/>
          <p:cNvSpPr/>
          <p:nvPr/>
        </p:nvSpPr>
        <p:spPr>
          <a:xfrm>
            <a:off x="1535040" y="487692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a:t>
            </a:r>
            <a:endParaRPr b="0" lang="en-US" sz="1000" spc="-1" strike="noStrike">
              <a:solidFill>
                <a:srgbClr val="ffffff"/>
              </a:solidFill>
              <a:latin typeface="Arial"/>
            </a:endParaRPr>
          </a:p>
        </p:txBody>
      </p:sp>
      <p:sp>
        <p:nvSpPr>
          <p:cNvPr id="346" name=""/>
          <p:cNvSpPr/>
          <p:nvPr/>
        </p:nvSpPr>
        <p:spPr>
          <a:xfrm rot="19960200">
            <a:off x="4352400" y="380988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a:t>
            </a:r>
            <a:endParaRPr b="0" lang="en-US" sz="1000" spc="-1" strike="noStrike">
              <a:solidFill>
                <a:srgbClr val="ffffff"/>
              </a:solidFill>
              <a:latin typeface="Arial"/>
            </a:endParaRPr>
          </a:p>
        </p:txBody>
      </p:sp>
      <p:sp>
        <p:nvSpPr>
          <p:cNvPr id="347" name=""/>
          <p:cNvSpPr/>
          <p:nvPr/>
        </p:nvSpPr>
        <p:spPr>
          <a:xfrm rot="19960200">
            <a:off x="6714720" y="243828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a:t>
            </a:r>
            <a:endParaRPr b="0" lang="en-US" sz="1000" spc="-1" strike="noStrike">
              <a:solidFill>
                <a:srgbClr val="ffffff"/>
              </a:solidFill>
              <a:latin typeface="Arial"/>
            </a:endParaRPr>
          </a:p>
        </p:txBody>
      </p:sp>
      <p:sp>
        <p:nvSpPr>
          <p:cNvPr id="348" name=""/>
          <p:cNvSpPr/>
          <p:nvPr/>
        </p:nvSpPr>
        <p:spPr>
          <a:xfrm rot="19960200">
            <a:off x="5571720" y="5943600"/>
            <a:ext cx="252360" cy="246240"/>
          </a:xfrm>
          <a:prstGeom prst="rect">
            <a:avLst/>
          </a:prstGeom>
          <a:solidFill>
            <a:srgbClr val="66ccff"/>
          </a:solid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a:t>
            </a:r>
            <a:endParaRPr b="0" lang="en-US" sz="1000" spc="-1" strike="noStrike">
              <a:solidFill>
                <a:srgbClr val="ffffff"/>
              </a:solidFill>
              <a:latin typeface="Arial"/>
            </a:endParaRPr>
          </a:p>
        </p:txBody>
      </p:sp>
      <p:pic>
        <p:nvPicPr>
          <p:cNvPr id="349" name="" descr=""/>
          <p:cNvPicPr/>
          <p:nvPr/>
        </p:nvPicPr>
        <p:blipFill>
          <a:blip r:embed="rId2"/>
          <a:stretch/>
        </p:blipFill>
        <p:spPr>
          <a:xfrm>
            <a:off x="6553080" y="228600"/>
            <a:ext cx="2381400" cy="876240"/>
          </a:xfrm>
          <a:prstGeom prst="rect">
            <a:avLst/>
          </a:prstGeom>
          <a:ln w="0">
            <a:noFill/>
          </a:ln>
        </p:spPr>
      </p:pic>
      <p:sp>
        <p:nvSpPr>
          <p:cNvPr id="350"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CF682950-8435-4C51-AA90-04D6BCA35558}" type="slidenum">
              <a:t>61</a:t>
            </a:fld>
          </a:p>
        </p:txBody>
      </p:sp>
      <p:sp>
        <p:nvSpPr>
          <p:cNvPr id="5" name="PlaceHolder 4"/>
          <p:cNvSpPr>
            <a:spLocks noGrp="1"/>
          </p:cNvSpPr>
          <p:nvPr>
            <p:ph type="dt" idx="1"/>
          </p:nvPr>
        </p:nvSpPr>
        <p:spPr/>
        <p:txBody>
          <a:bodyPr/>
          <a:p>
            <a:r>
              <a:rPr lang="en-US"/>
              <a:t>September 16-17, 2003</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6553080" y="228600"/>
            <a:ext cx="2381400" cy="876240"/>
          </a:xfrm>
          <a:prstGeom prst="rect">
            <a:avLst/>
          </a:prstGeom>
          <a:ln w="0">
            <a:noFill/>
          </a:ln>
        </p:spPr>
      </p:pic>
      <p:sp>
        <p:nvSpPr>
          <p:cNvPr id="3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mage</a:t>
            </a:r>
            <a:br>
              <a:rPr sz="4400"/>
            </a:br>
            <a:r>
              <a:rPr b="1" lang="en-US" sz="4400" spc="-1" strike="noStrike">
                <a:solidFill>
                  <a:srgbClr val="eaeaea"/>
                </a:solidFill>
                <a:latin typeface="Tahoma"/>
              </a:rPr>
              <a:t>Rotation (2)</a:t>
            </a:r>
            <a:endParaRPr b="1" lang="en-US" sz="4400" spc="-1" strike="noStrike">
              <a:solidFill>
                <a:srgbClr val="eaeaea"/>
              </a:solidFill>
              <a:latin typeface="Tahoma"/>
            </a:endParaRPr>
          </a:p>
        </p:txBody>
      </p:sp>
      <p:sp>
        <p:nvSpPr>
          <p:cNvPr id="353"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n array of points defining the image's corner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wid As Single = bm_in.Widt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hgt As Single = bm_in.Heigh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orners As Point() = {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0, 0),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wid, 0),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0, hgt),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oint(wid, hg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ranslate to center the bounding box at the origi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x As Single = wid / 2</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y As Single = hgt / 2</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i As Lon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 = 0 To 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rners(i).X -= cx</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rners(i).Y -= c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i</a:t>
            </a:r>
            <a:endParaRPr b="0" lang="en-US" sz="1400" spc="-1" strike="noStrike">
              <a:solidFill>
                <a:srgbClr val="ffffff"/>
              </a:solidFill>
              <a:latin typeface="Tahoma"/>
            </a:endParaRPr>
          </a:p>
        </p:txBody>
      </p:sp>
      <p:sp>
        <p:nvSpPr>
          <p:cNvPr id="354"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sp>
        <p:nvSpPr>
          <p:cNvPr id="35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28BE4C5-9689-493A-823A-06877AF1D99A}" type="slidenum">
              <a:t>62</a:t>
            </a:fld>
          </a:p>
        </p:txBody>
      </p:sp>
      <p:sp>
        <p:nvSpPr>
          <p:cNvPr id="6" name="PlaceHolder 5"/>
          <p:cNvSpPr>
            <a:spLocks noGrp="1"/>
          </p:cNvSpPr>
          <p:nvPr>
            <p:ph type="dt" idx="1"/>
          </p:nvPr>
        </p:nvSpPr>
        <p:spPr/>
        <p:txBody>
          <a:bodyPr/>
          <a:p>
            <a:r>
              <a:rPr lang="en-US"/>
              <a:t>September 16-17, 2003</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mage</a:t>
            </a:r>
            <a:br>
              <a:rPr sz="4400"/>
            </a:br>
            <a:r>
              <a:rPr b="1" lang="en-US" sz="4400" spc="-1" strike="noStrike">
                <a:solidFill>
                  <a:srgbClr val="eaeaea"/>
                </a:solidFill>
                <a:latin typeface="Tahoma"/>
              </a:rPr>
              <a:t>Rotation (3)</a:t>
            </a:r>
            <a:endParaRPr b="1" lang="en-US" sz="4400" spc="-1" strike="noStrike">
              <a:solidFill>
                <a:srgbClr val="eaeaea"/>
              </a:solidFill>
              <a:latin typeface="Tahoma"/>
            </a:endParaRPr>
          </a:p>
        </p:txBody>
      </p:sp>
      <p:sp>
        <p:nvSpPr>
          <p:cNvPr id="357"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ota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theta As Single = Single.Parse(txtAngle.Text) * PI / 180.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Dim sin_theta As Single = Sin(thet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Dim cos_theta As Single = Cos(thet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 As Singl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Y As Singl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 = 0 To 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X = corners(i).X</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Y = corners(i).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rners(i).X = X * cos_theta + Y * sin_thet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rners(i).Y = -X * sin_theta + Y * cos_thet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i</a:t>
            </a:r>
            <a:endParaRPr b="0" lang="en-US" sz="1400" spc="-1" strike="noStrike">
              <a:solidFill>
                <a:srgbClr val="ffffff"/>
              </a:solidFill>
              <a:latin typeface="Tahoma"/>
            </a:endParaRPr>
          </a:p>
        </p:txBody>
      </p:sp>
      <p:sp>
        <p:nvSpPr>
          <p:cNvPr id="358"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pic>
        <p:nvPicPr>
          <p:cNvPr id="359" name="" descr=""/>
          <p:cNvPicPr/>
          <p:nvPr/>
        </p:nvPicPr>
        <p:blipFill>
          <a:blip r:embed="rId1"/>
          <a:stretch/>
        </p:blipFill>
        <p:spPr>
          <a:xfrm>
            <a:off x="6553080" y="228600"/>
            <a:ext cx="2381400" cy="876240"/>
          </a:xfrm>
          <a:prstGeom prst="rect">
            <a:avLst/>
          </a:prstGeom>
          <a:ln w="0">
            <a:noFill/>
          </a:ln>
        </p:spPr>
      </p:pic>
      <p:sp>
        <p:nvSpPr>
          <p:cNvPr id="360"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5A70696-29CE-4ACB-83B2-7506262D5B2F}" type="slidenum">
              <a:t>63</a:t>
            </a:fld>
          </a:p>
        </p:txBody>
      </p:sp>
      <p:sp>
        <p:nvSpPr>
          <p:cNvPr id="6" name="PlaceHolder 5"/>
          <p:cNvSpPr>
            <a:spLocks noGrp="1"/>
          </p:cNvSpPr>
          <p:nvPr>
            <p:ph type="dt" idx="1"/>
          </p:nvPr>
        </p:nvSpPr>
        <p:spPr/>
        <p:txBody>
          <a:bodyPr/>
          <a:p>
            <a:r>
              <a:rPr lang="en-US"/>
              <a:t>September 16-17, 2003</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mage</a:t>
            </a:r>
            <a:br>
              <a:rPr sz="4400"/>
            </a:br>
            <a:r>
              <a:rPr b="1" lang="en-US" sz="4400" spc="-1" strike="noStrike">
                <a:solidFill>
                  <a:srgbClr val="eaeaea"/>
                </a:solidFill>
                <a:latin typeface="Tahoma"/>
              </a:rPr>
              <a:t>Rotation (4)</a:t>
            </a:r>
            <a:endParaRPr b="1" lang="en-US" sz="4400" spc="-1" strike="noStrike">
              <a:solidFill>
                <a:srgbClr val="eaeaea"/>
              </a:solidFill>
              <a:latin typeface="Tahoma"/>
            </a:endParaRPr>
          </a:p>
        </p:txBody>
      </p:sp>
      <p:sp>
        <p:nvSpPr>
          <p:cNvPr id="36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ranslate so X &gt;= 0 and Y &gt;=0 for all corner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xmin As Single = corners(0).X</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ymin As Single = corners(0).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 = 1 To 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xmin &gt; corners(i).X Then xmin = corners(i).X</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ymin &gt; corners(i).Y Then ymin = corners(i).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i</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i = 0 To 3</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rners(i).X -= xmi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rners(i).Y -= ymi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i</a:t>
            </a:r>
            <a:endParaRPr b="0" lang="en-US" sz="1400" spc="-1" strike="noStrike">
              <a:solidFill>
                <a:srgbClr val="ffffff"/>
              </a:solidFill>
              <a:latin typeface="Tahoma"/>
            </a:endParaRPr>
          </a:p>
        </p:txBody>
      </p:sp>
      <p:sp>
        <p:nvSpPr>
          <p:cNvPr id="363"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pic>
        <p:nvPicPr>
          <p:cNvPr id="364" name="" descr=""/>
          <p:cNvPicPr/>
          <p:nvPr/>
        </p:nvPicPr>
        <p:blipFill>
          <a:blip r:embed="rId1"/>
          <a:stretch/>
        </p:blipFill>
        <p:spPr>
          <a:xfrm>
            <a:off x="6553080" y="228600"/>
            <a:ext cx="2381400" cy="876240"/>
          </a:xfrm>
          <a:prstGeom prst="rect">
            <a:avLst/>
          </a:prstGeom>
          <a:ln w="0">
            <a:noFill/>
          </a:ln>
        </p:spPr>
      </p:pic>
      <p:sp>
        <p:nvSpPr>
          <p:cNvPr id="36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F8C1C0F-D950-4A53-A3C8-8766293DD6CE}" type="slidenum">
              <a:t>64</a:t>
            </a:fld>
          </a:p>
        </p:txBody>
      </p:sp>
      <p:sp>
        <p:nvSpPr>
          <p:cNvPr id="6" name="PlaceHolder 5"/>
          <p:cNvSpPr>
            <a:spLocks noGrp="1"/>
          </p:cNvSpPr>
          <p:nvPr>
            <p:ph type="dt" idx="1"/>
          </p:nvPr>
        </p:nvSpPr>
        <p:spPr/>
        <p:txBody>
          <a:bodyPr/>
          <a:p>
            <a:r>
              <a:rPr lang="en-US"/>
              <a:t>September 16-17, 2003</a:t>
            </a: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mage</a:t>
            </a:r>
            <a:br>
              <a:rPr sz="4400"/>
            </a:br>
            <a:r>
              <a:rPr b="1" lang="en-US" sz="4400" spc="-1" strike="noStrike">
                <a:solidFill>
                  <a:srgbClr val="eaeaea"/>
                </a:solidFill>
                <a:latin typeface="Tahoma"/>
              </a:rPr>
              <a:t>Rotation (5)</a:t>
            </a:r>
            <a:endParaRPr b="1" lang="en-US" sz="4400" spc="-1" strike="noStrike">
              <a:solidFill>
                <a:srgbClr val="eaeaea"/>
              </a:solidFill>
              <a:latin typeface="Tahoma"/>
            </a:endParaRPr>
          </a:p>
        </p:txBody>
      </p:sp>
      <p:sp>
        <p:nvSpPr>
          <p:cNvPr id="367"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reate an output Bitmap and Graphics objec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_out As New Bitmap(CInt(-2 * xmin), CInt(-2 * ymi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gr_out As Graphics = Graphics.FromImage(bm_ou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op the last corner lest we confuse DrawImag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which expects an array of three corner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eDim Preserve corners(2)</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aw the result onto the output Bitma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_out.DrawImage(bm_in, corner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Dest.Image = bm_out</a:t>
            </a:r>
            <a:endParaRPr b="0" lang="en-US" sz="1400" spc="-1" strike="noStrike">
              <a:solidFill>
                <a:srgbClr val="ffffff"/>
              </a:solidFill>
              <a:latin typeface="Tahoma"/>
            </a:endParaRPr>
          </a:p>
        </p:txBody>
      </p:sp>
      <p:sp>
        <p:nvSpPr>
          <p:cNvPr id="368"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pic>
        <p:nvPicPr>
          <p:cNvPr id="369" name="" descr=""/>
          <p:cNvPicPr/>
          <p:nvPr/>
        </p:nvPicPr>
        <p:blipFill>
          <a:blip r:embed="rId1"/>
          <a:stretch/>
        </p:blipFill>
        <p:spPr>
          <a:xfrm>
            <a:off x="6553080" y="228600"/>
            <a:ext cx="2381400" cy="876240"/>
          </a:xfrm>
          <a:prstGeom prst="rect">
            <a:avLst/>
          </a:prstGeom>
          <a:ln w="0">
            <a:noFill/>
          </a:ln>
        </p:spPr>
      </p:pic>
      <p:sp>
        <p:nvSpPr>
          <p:cNvPr id="370"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D89ACA3-FFDF-42FD-888E-5ADF150712FF}" type="slidenum">
              <a:t>65</a:t>
            </a:fld>
          </a:p>
        </p:txBody>
      </p:sp>
      <p:sp>
        <p:nvSpPr>
          <p:cNvPr id="6" name="PlaceHolder 5"/>
          <p:cNvSpPr>
            <a:spLocks noGrp="1"/>
          </p:cNvSpPr>
          <p:nvPr>
            <p:ph type="dt" idx="1"/>
          </p:nvPr>
        </p:nvSpPr>
        <p:spPr/>
        <p:txBody>
          <a:bodyPr/>
          <a:p>
            <a:r>
              <a:rPr lang="en-US"/>
              <a:t>September 16-17, 2003</a:t>
            </a: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rawImage</a:t>
            </a:r>
            <a:br>
              <a:rPr sz="4400"/>
            </a:br>
            <a:r>
              <a:rPr b="1" lang="en-US" sz="4400" spc="-1" strike="noStrike">
                <a:solidFill>
                  <a:srgbClr val="eaeaea"/>
                </a:solidFill>
                <a:latin typeface="Tahoma"/>
              </a:rPr>
              <a:t>Rotation (6)</a:t>
            </a:r>
            <a:endParaRPr b="1" lang="en-US" sz="4400" spc="-1" strike="noStrike">
              <a:solidFill>
                <a:srgbClr val="eaeaea"/>
              </a:solidFill>
              <a:latin typeface="Tahoma"/>
            </a:endParaRPr>
          </a:p>
        </p:txBody>
      </p:sp>
      <p:sp>
        <p:nvSpPr>
          <p:cNvPr id="372" name=""/>
          <p:cNvSpPr/>
          <p:nvPr/>
        </p:nvSpPr>
        <p:spPr>
          <a:xfrm rot="10800000">
            <a:off x="228600" y="4360320"/>
            <a:ext cx="454680" cy="1834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e</a:t>
            </a:r>
            <a:endParaRPr b="0" lang="en-US" sz="1800" spc="-1" strike="noStrike">
              <a:solidFill>
                <a:srgbClr val="ffffff"/>
              </a:solidFill>
              <a:latin typeface="Arial"/>
            </a:endParaRPr>
          </a:p>
        </p:txBody>
      </p:sp>
      <p:pic>
        <p:nvPicPr>
          <p:cNvPr id="373" name="" descr=""/>
          <p:cNvPicPr/>
          <p:nvPr/>
        </p:nvPicPr>
        <p:blipFill>
          <a:blip r:embed="rId1"/>
          <a:stretch/>
        </p:blipFill>
        <p:spPr>
          <a:xfrm>
            <a:off x="1658880" y="2019240"/>
            <a:ext cx="6512040" cy="4114800"/>
          </a:xfrm>
          <a:prstGeom prst="rect">
            <a:avLst/>
          </a:prstGeom>
          <a:ln w="0">
            <a:noFill/>
          </a:ln>
        </p:spPr>
      </p:pic>
      <p:pic>
        <p:nvPicPr>
          <p:cNvPr id="374" name="" descr=""/>
          <p:cNvPicPr/>
          <p:nvPr/>
        </p:nvPicPr>
        <p:blipFill>
          <a:blip r:embed="rId2"/>
          <a:stretch/>
        </p:blipFill>
        <p:spPr>
          <a:xfrm>
            <a:off x="6553080" y="228600"/>
            <a:ext cx="2381400" cy="87624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0F8B52A7-C8DA-4B85-9121-A7BF97C74F30}" type="slidenum">
              <a:t>66</a:t>
            </a:fld>
          </a:p>
        </p:txBody>
      </p:sp>
      <p:sp>
        <p:nvSpPr>
          <p:cNvPr id="5" name="PlaceHolder 4"/>
          <p:cNvSpPr>
            <a:spLocks noGrp="1"/>
          </p:cNvSpPr>
          <p:nvPr>
            <p:ph type="dt" idx="1"/>
          </p:nvPr>
        </p:nvSpPr>
        <p:spPr/>
        <p:txBody>
          <a:bodyPr/>
          <a:p>
            <a:r>
              <a:rPr lang="en-US"/>
              <a:t>September 16-17, 2003</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age Rotation</a:t>
            </a:r>
            <a:endParaRPr b="1" lang="en-US" sz="4400" spc="-1" strike="noStrike">
              <a:solidFill>
                <a:srgbClr val="eaeaea"/>
              </a:solidFill>
              <a:latin typeface="Tahoma"/>
            </a:endParaRPr>
          </a:p>
        </p:txBody>
      </p:sp>
      <p:sp>
        <p:nvSpPr>
          <p:cNvPr id="376"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ranslate to center the bounding box at the origin.</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_out.TranslateTransform(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Source.Width / 2, -picSource.Height / 2,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rawing2D.MatrixOrder.Append)</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otate (the angle is measured in degrees).</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_out.RotateTransform(Single.Parse(txtAngle.Text),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rawing2D.MatrixOrder.Append)</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ranslate to center in the output Bitmap.</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_out.TranslateTransform(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Dest.Width / 2, picDest.Height / 2,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rawing2D.MatrixOrder.Append)</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aw the transformed result onto the output Bitmap.</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_out.DrawImage(bm_in, 0, 0)</a:t>
            </a:r>
            <a:endParaRPr b="0" lang="en-US" sz="1400" spc="-1" strike="noStrike">
              <a:solidFill>
                <a:srgbClr val="ffffff"/>
              </a:solidFill>
              <a:latin typeface="Tahoma"/>
            </a:endParaRPr>
          </a:p>
        </p:txBody>
      </p:sp>
      <p:sp>
        <p:nvSpPr>
          <p:cNvPr id="377" name=""/>
          <p:cNvSpPr/>
          <p:nvPr/>
        </p:nvSpPr>
        <p:spPr>
          <a:xfrm rot="10800000">
            <a:off x="228600" y="2558520"/>
            <a:ext cx="454680" cy="37213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RotationTransformation</a:t>
            </a:r>
            <a:endParaRPr b="0" lang="en-US" sz="1800" spc="-1" strike="noStrike">
              <a:solidFill>
                <a:srgbClr val="ffffff"/>
              </a:solidFill>
              <a:latin typeface="Arial"/>
            </a:endParaRPr>
          </a:p>
        </p:txBody>
      </p:sp>
      <p:sp>
        <p:nvSpPr>
          <p:cNvPr id="378"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944FFB4-4AE5-4083-8ED7-E5D90B67B7C8}" type="slidenum">
              <a:t>67</a:t>
            </a:fld>
          </a:p>
        </p:txBody>
      </p:sp>
      <p:sp>
        <p:nvSpPr>
          <p:cNvPr id="6" name="PlaceHolder 5"/>
          <p:cNvSpPr>
            <a:spLocks noGrp="1"/>
          </p:cNvSpPr>
          <p:nvPr>
            <p:ph type="dt" idx="1"/>
          </p:nvPr>
        </p:nvSpPr>
        <p:spPr/>
        <p:txBody>
          <a:bodyPr/>
          <a:p>
            <a:r>
              <a:rPr lang="en-US"/>
              <a:t>September 16-17, 2003</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inning Images</a:t>
            </a:r>
            <a:endParaRPr b="1" lang="en-US" sz="4400" spc="-1" strike="noStrike">
              <a:solidFill>
                <a:srgbClr val="eaeaea"/>
              </a:solidFill>
              <a:latin typeface="Tahoma"/>
            </a:endParaRPr>
          </a:p>
        </p:txBody>
      </p:sp>
      <p:sp>
        <p:nvSpPr>
          <p:cNvPr id="380"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tmrRotate_Tick(...) Handles tmrRotate.Tick</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Increment the angle of rotatio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Angle += 1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otate the image as befo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81" name=""/>
          <p:cNvSpPr/>
          <p:nvPr/>
        </p:nvSpPr>
        <p:spPr>
          <a:xfrm rot="10800000">
            <a:off x="228600" y="3925080"/>
            <a:ext cx="454680" cy="2287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pinImage</a:t>
            </a:r>
            <a:endParaRPr b="0" lang="en-US" sz="1800" spc="-1" strike="noStrike">
              <a:solidFill>
                <a:srgbClr val="ffffff"/>
              </a:solidFill>
              <a:latin typeface="Arial"/>
            </a:endParaRPr>
          </a:p>
        </p:txBody>
      </p:sp>
      <p:pic>
        <p:nvPicPr>
          <p:cNvPr id="382" name="" descr=""/>
          <p:cNvPicPr/>
          <p:nvPr/>
        </p:nvPicPr>
        <p:blipFill>
          <a:blip r:embed="rId1"/>
          <a:stretch/>
        </p:blipFill>
        <p:spPr>
          <a:xfrm>
            <a:off x="6553080" y="228600"/>
            <a:ext cx="2381400" cy="87624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B9AE9FE-C559-431B-8855-9F250153227D}" type="slidenum">
              <a:t>68</a:t>
            </a:fld>
          </a:p>
        </p:txBody>
      </p:sp>
      <p:sp>
        <p:nvSpPr>
          <p:cNvPr id="6" name="PlaceHolder 5"/>
          <p:cNvSpPr>
            <a:spLocks noGrp="1"/>
          </p:cNvSpPr>
          <p:nvPr>
            <p:ph type="dt" idx="1"/>
          </p:nvPr>
        </p:nvSpPr>
        <p:spPr/>
        <p:txBody>
          <a:bodyPr/>
          <a:p>
            <a:r>
              <a:rPr lang="en-US"/>
              <a:t>September 16-17, 2003</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ither AutoRedraw?</a:t>
            </a:r>
            <a:endParaRPr b="1" lang="en-US" sz="4400" spc="-1" strike="noStrike">
              <a:solidFill>
                <a:srgbClr val="eaeaea"/>
              </a:solidFill>
              <a:latin typeface="Tahoma"/>
            </a:endParaRPr>
          </a:p>
        </p:txBody>
      </p:sp>
      <p:sp>
        <p:nvSpPr>
          <p:cNvPr id="3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B .NET doesn’t have AutoRedraw</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37CDD60-0852-4905-8C2B-0C26F4423141}" type="slidenum">
              <a:t>6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
          <p:cNvSpPr/>
          <p:nvPr/>
        </p:nvSpPr>
        <p:spPr>
          <a:xfrm>
            <a:off x="1371600" y="2895480"/>
            <a:ext cx="3505320" cy="762120"/>
          </a:xfrm>
          <a:prstGeom prst="rect">
            <a:avLst/>
          </a:prstGeom>
          <a:gradFill rotWithShape="0">
            <a:gsLst>
              <a:gs pos="0">
                <a:srgbClr val="000099"/>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1371600" y="2438280"/>
            <a:ext cx="350532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ystem.Drawing</a:t>
            </a:r>
            <a:endParaRPr b="1" lang="en-US" sz="4400" spc="-1" strike="noStrike">
              <a:solidFill>
                <a:srgbClr val="eaeaea"/>
              </a:solidFill>
              <a:latin typeface="Tahoma"/>
            </a:endParaRPr>
          </a:p>
        </p:txBody>
      </p:sp>
      <p:sp>
        <p:nvSpPr>
          <p:cNvPr id="148"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e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raphics</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en, Pens</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Brush, Brushes</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mage</a:t>
            </a:r>
            <a:endParaRPr b="0" lang="en-US" sz="2400" spc="-1" strike="noStrike">
              <a:solidFill>
                <a:srgbClr val="ffffcc"/>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Bitmap</a:t>
            </a:r>
            <a:endParaRPr b="0" lang="en-US" sz="2000" spc="-1" strike="noStrike">
              <a:solidFill>
                <a:srgbClr val="ffcc99"/>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Icon</a:t>
            </a:r>
            <a:endParaRPr b="0" lang="en-US" sz="2000" spc="-1" strike="noStrike">
              <a:solidFill>
                <a:srgbClr val="ffcc99"/>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Metafile</a:t>
            </a:r>
            <a:endParaRPr b="0" lang="en-US" sz="2000" spc="-1" strike="noStrike">
              <a:solidFill>
                <a:srgbClr val="ffcc99"/>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ont, FontFamily</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gion</a:t>
            </a:r>
            <a:endParaRPr b="0" lang="en-US" sz="2400" spc="-1" strike="noStrike">
              <a:solidFill>
                <a:srgbClr val="ffffcc"/>
              </a:solidFill>
              <a:latin typeface="Tahoma"/>
            </a:endParaRPr>
          </a:p>
        </p:txBody>
      </p:sp>
      <p:sp>
        <p:nvSpPr>
          <p:cNvPr id="149" name="PlaceHolder 3"/>
          <p:cNvSpPr>
            <a:spLocks noGrp="1"/>
          </p:cNvSpPr>
          <p:nvPr>
            <p:ph/>
          </p:nvPr>
        </p:nvSpPr>
        <p:spPr>
          <a:xfrm>
            <a:off x="4915080" y="1981080"/>
            <a:ext cx="392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olor</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oint, PointF</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ctangle, RectangleF</a:t>
            </a:r>
            <a:endParaRPr b="0" lang="en-US" sz="2400" spc="-1" strike="noStrike">
              <a:solidFill>
                <a:srgbClr val="ffffcc"/>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ize, SizeF</a:t>
            </a:r>
            <a:endParaRPr b="0" lang="en-US" sz="2400" spc="-1" strike="noStrike">
              <a:solidFill>
                <a:srgbClr val="ffffcc"/>
              </a:solidFill>
              <a:latin typeface="Tahoma"/>
            </a:endParaRPr>
          </a:p>
        </p:txBody>
      </p:sp>
      <p:sp>
        <p:nvSpPr>
          <p:cNvPr id="5" name="PlaceHolder 4"/>
          <p:cNvSpPr>
            <a:spLocks noGrp="1"/>
          </p:cNvSpPr>
          <p:nvPr>
            <p:ph type="ftr" idx="2"/>
          </p:nvPr>
        </p:nvSpPr>
        <p:spPr/>
        <p:txBody>
          <a:bodyPr/>
          <a:p>
            <a:r>
              <a:t>UK VBUG 2003 Annual Conference</a:t>
            </a:r>
          </a:p>
        </p:txBody>
      </p:sp>
      <p:sp>
        <p:nvSpPr>
          <p:cNvPr id="6" name="PlaceHolder 5"/>
          <p:cNvSpPr>
            <a:spLocks noGrp="1"/>
          </p:cNvSpPr>
          <p:nvPr>
            <p:ph type="sldNum" idx="3"/>
          </p:nvPr>
        </p:nvSpPr>
        <p:spPr/>
        <p:txBody>
          <a:bodyPr/>
          <a:p>
            <a:fld id="{A5AE8230-7DD4-4DDA-BD18-D36EF60EA3DB}" type="slidenum">
              <a:t>7</a:t>
            </a:fld>
          </a:p>
        </p:txBody>
      </p:sp>
      <p:sp>
        <p:nvSpPr>
          <p:cNvPr id="7" name="PlaceHolder 6"/>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utoRedraw in VB .NET</a:t>
            </a:r>
            <a:endParaRPr b="1" lang="en-US" sz="4400" spc="-1" strike="noStrike">
              <a:solidFill>
                <a:srgbClr val="eaeaea"/>
              </a:solidFill>
              <a:latin typeface="Tahoma"/>
            </a:endParaRPr>
          </a:p>
        </p:txBody>
      </p:sp>
      <p:sp>
        <p:nvSpPr>
          <p:cNvPr id="386"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aw some stuff permanently.</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Make picCanvas fill the form.</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Canvas.SetBounds(0, 0,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lientSize.Width, Me.ClientSize.Heigh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Make a Bitmap and draw on i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m As New Bitmap(picCanvas.Width, picCanvas.Heigh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gr As Graphics = Graphics.FromImage(bm)</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Clear(Color.SkyBlu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Draw stuff...</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Display the results.</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Canvas.Image = bm</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87" name=""/>
          <p:cNvSpPr/>
          <p:nvPr/>
        </p:nvSpPr>
        <p:spPr>
          <a:xfrm rot="10800000">
            <a:off x="228600" y="3768120"/>
            <a:ext cx="454680" cy="2454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2AAFD73-D3C0-4388-856E-666688386739}" type="slidenum">
              <a:t>7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1)</a:t>
            </a:r>
            <a:endParaRPr b="1" lang="en-US" sz="4000" spc="-1" strike="noStrike">
              <a:solidFill>
                <a:srgbClr val="eaeaea"/>
              </a:solidFill>
              <a:latin typeface="Tahoma"/>
            </a:endParaRPr>
          </a:p>
        </p:txBody>
      </p:sp>
      <p:sp>
        <p:nvSpPr>
          <p:cNvPr id="389"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Bitmap As Bitmap</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Graphics As Graphics</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Variables used to draw rubberband lines.</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Drawing As Boolean</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X1 As Integer</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Y1 As Integer</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Initialize m_Bitmap and m_Graphics.</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Bitmap = New Bitmap(Me.ClientSize.Width, Me.ClientSize.Heigh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Graphics = Graphics.FromImage(m_Bitmap)</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t the background color.</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Graphics.Clear(Me.BackColor)</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90"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8DB49CC-2672-4215-A377-79D1C922194C}" type="slidenum">
              <a:t>7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2)</a:t>
            </a:r>
            <a:endParaRPr b="1" lang="en-US" sz="4000" spc="-1" strike="noStrike">
              <a:solidFill>
                <a:srgbClr val="eaeaea"/>
              </a:solidFill>
              <a:latin typeface="Tahoma"/>
            </a:endParaRPr>
          </a:p>
        </p:txBody>
      </p:sp>
      <p:sp>
        <p:nvSpPr>
          <p:cNvPr id="39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raw whatever is in m_Bitmap.</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Paint(...) Handles MyBase.Pain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DrawImage(m_Bitmap, 0, 0)</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93"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E4B83CB-7EE3-4803-99C4-BBAAAE513B83}" type="slidenum">
              <a:t>7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3)</a:t>
            </a:r>
            <a:endParaRPr b="1" lang="en-US" sz="4000" spc="-1" strike="noStrike">
              <a:solidFill>
                <a:srgbClr val="eaeaea"/>
              </a:solidFill>
              <a:latin typeface="Tahoma"/>
            </a:endParaRPr>
          </a:p>
        </p:txBody>
      </p:sp>
      <p:sp>
        <p:nvSpPr>
          <p:cNvPr id="395"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Enlarge m_Bitmap if necessary.</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Resize(...) Handles MyBase.Resize</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If m_Bitmap is big enough, do nothing.</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Note that width and height are 0 when minimized.</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m_Bitmap.Width &gt;= Me.ClientSize.Width And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Bitmap.Height &gt;= Me.ClientSize.Height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n Exit Sub</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Get the new dimensions we need.</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new_wid As Integer =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ax(m_Bitmap.Width, Me.ClientSize.Width)</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new_hgt As Integer = _</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ax(m_Bitmap.Height, Me.ClientSize.Height)</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reate a new Bitmap.</a:t>
            </a:r>
            <a:endParaRPr b="0" lang="en-US" sz="1400" spc="-1" strike="noStrike">
              <a:solidFill>
                <a:srgbClr val="ffffff"/>
              </a:solidFill>
              <a:latin typeface="Tahoma"/>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new_bitmap As New Bitmap(new_wid, new_hgt)</a:t>
            </a:r>
            <a:endParaRPr b="0" lang="en-US" sz="1400" spc="-1" strike="noStrike">
              <a:solidFill>
                <a:srgbClr val="ffffff"/>
              </a:solidFill>
              <a:latin typeface="Tahoma"/>
            </a:endParaRPr>
          </a:p>
        </p:txBody>
      </p:sp>
      <p:sp>
        <p:nvSpPr>
          <p:cNvPr id="396"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8C55E07-3AD5-403A-ACA1-EE13C187E974}" type="slidenum">
              <a:t>7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4)</a:t>
            </a:r>
            <a:endParaRPr b="1" lang="en-US" sz="4000" spc="-1" strike="noStrike">
              <a:solidFill>
                <a:srgbClr val="eaeaea"/>
              </a:solidFill>
              <a:latin typeface="Tahoma"/>
            </a:endParaRPr>
          </a:p>
        </p:txBody>
      </p:sp>
      <p:sp>
        <p:nvSpPr>
          <p:cNvPr id="398"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opy the existing picture into the new Bitma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new_graphics As Graphics = Graphics.FromImage(new_bitma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_graphics.Clear(Me.BackColo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_graphics.DrawImage(m_Bitmap, 0, 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place the old Bitmap and Graphic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with the new on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Bitmap = new_bitmap</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Graphics = new_graphic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tart drawin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MouseDown(...) Handles MyBase.MouseDown</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Drawing = Tr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X1 = e.X</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Y1 = e.Y</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99"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DC697EC-6754-42F0-87D3-5EEC2C4E5ABD}" type="slidenum">
              <a:t>7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5)</a:t>
            </a:r>
            <a:endParaRPr b="1" lang="en-US" sz="4000" spc="-1" strike="noStrike">
              <a:solidFill>
                <a:srgbClr val="eaeaea"/>
              </a:solidFill>
              <a:latin typeface="Tahoma"/>
            </a:endParaRPr>
          </a:p>
        </p:txBody>
      </p:sp>
      <p:sp>
        <p:nvSpPr>
          <p:cNvPr id="401"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ntinue draw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MouseMove(...) Handles MyBase.MouseMov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o nothing if we're not draw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Not m_Drawing Then Exit Sub</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a copy of the current pictur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m As New Bitmap(m_Bitmap)</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gr As Graphics = Graphics.FromImage(bm)</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raw the new lin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DrawLine(Pens.Green, m_X1, m_Y1, e.X, e.Y)</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reateGraphics().DrawImage(bm, 0, 0)</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02"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E38E760-8C16-4B93-B619-361699E5E940}" type="slidenum">
              <a:t>7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dvanced AutoRedraw (6)</a:t>
            </a:r>
            <a:endParaRPr b="1" lang="en-US" sz="4000" spc="-1" strike="noStrike">
              <a:solidFill>
                <a:srgbClr val="eaeaea"/>
              </a:solidFill>
              <a:latin typeface="Tahoma"/>
            </a:endParaRPr>
          </a:p>
        </p:txBody>
      </p:sp>
      <p:sp>
        <p:nvSpPr>
          <p:cNvPr id="404"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ish draw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MouseUp(...) Handles MyBase.MouseUp</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o nothing if we're not draw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Not m_Drawing Then Exit Sub</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Drawing = Fals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raw the new lin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Graphics.DrawLine(Pens.Black, m_X1, m_Y1, e.X, e.Y)</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reateGraphics().DrawImage(m_Bitmap, 0, 0)</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05" name=""/>
          <p:cNvSpPr/>
          <p:nvPr/>
        </p:nvSpPr>
        <p:spPr>
          <a:xfrm rot="10800000">
            <a:off x="228600" y="3639960"/>
            <a:ext cx="454680" cy="258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utoRedraw2</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E721F3E-D1E1-459A-9100-A299DA0F3606}" type="slidenum">
              <a:t>7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cribble (1)</a:t>
            </a:r>
            <a:endParaRPr b="1" lang="en-US" sz="4400" spc="-1" strike="noStrike">
              <a:solidFill>
                <a:srgbClr val="eaeaea"/>
              </a:solidFill>
              <a:latin typeface="Tahoma"/>
            </a:endParaRPr>
          </a:p>
        </p:txBody>
      </p:sp>
      <p:sp>
        <p:nvSpPr>
          <p:cNvPr id="407"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tart draw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MouseDown(...) Handles MyBase.MouseDown</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Drawing = Tru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LastX = e.X</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LastY = e.Y</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Finish draw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MouseUp(...) Handles MyBase.MouseUp</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Drawing = Fals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08" name=""/>
          <p:cNvSpPr/>
          <p:nvPr/>
        </p:nvSpPr>
        <p:spPr>
          <a:xfrm rot="10800000">
            <a:off x="228600" y="4217760"/>
            <a:ext cx="454680" cy="199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cribb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5856191-DA86-4A86-BEBE-FFB7EA7BBE36}" type="slidenum">
              <a:t>77</a:t>
            </a:fld>
          </a:p>
        </p:txBody>
      </p:sp>
      <p:sp>
        <p:nvSpPr>
          <p:cNvPr id="6" name="PlaceHolder 5"/>
          <p:cNvSpPr>
            <a:spLocks noGrp="1"/>
          </p:cNvSpPr>
          <p:nvPr>
            <p:ph type="dt" idx="1"/>
          </p:nvPr>
        </p:nvSpPr>
        <p:spPr/>
        <p:txBody>
          <a:bodyPr/>
          <a:p>
            <a:r>
              <a:rPr lang="en-US"/>
              <a:t>September 16-17, 2003</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cribble (2)</a:t>
            </a:r>
            <a:endParaRPr b="1" lang="en-US" sz="4400" spc="-1" strike="noStrike">
              <a:solidFill>
                <a:srgbClr val="eaeaea"/>
              </a:solidFill>
              <a:latin typeface="Tahoma"/>
            </a:endParaRPr>
          </a:p>
        </p:txBody>
      </p:sp>
      <p:sp>
        <p:nvSpPr>
          <p:cNvPr id="410"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ntinue draw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MouseMove(...) Handles MyBase.MouseMov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o nothing if we're not draw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Not m_Drawing Then Exit Sub</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raw the new lin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Graphics.DrawLine(Pens.Black, m_LastX, m_LastY, e.X, e.Y)</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ave the new poin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LastX = e.X</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LastY = e.Y</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CreateGraphics().DrawImage(m_Bitmap, 0, 0)</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11" name=""/>
          <p:cNvSpPr/>
          <p:nvPr/>
        </p:nvSpPr>
        <p:spPr>
          <a:xfrm rot="10800000">
            <a:off x="228600" y="4217760"/>
            <a:ext cx="454680" cy="199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cribb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9685485-B608-420A-B638-4EDE0DAE6EF2}" type="slidenum">
              <a:t>78</a:t>
            </a:fld>
          </a:p>
        </p:txBody>
      </p:sp>
      <p:sp>
        <p:nvSpPr>
          <p:cNvPr id="6" name="PlaceHolder 5"/>
          <p:cNvSpPr>
            <a:spLocks noGrp="1"/>
          </p:cNvSpPr>
          <p:nvPr>
            <p:ph type="dt" idx="1"/>
          </p:nvPr>
        </p:nvSpPr>
        <p:spPr/>
        <p:txBody>
          <a:bodyPr/>
          <a:p>
            <a:r>
              <a:rPr lang="en-US"/>
              <a:t>September 16-17, 2003</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pha blending</a:t>
            </a:r>
            <a:endParaRPr b="1" lang="en-US" sz="4400" spc="-1" strike="noStrike">
              <a:solidFill>
                <a:srgbClr val="eaeaea"/>
              </a:solidFill>
              <a:latin typeface="Tahoma"/>
            </a:endParaRPr>
          </a:p>
        </p:txBody>
      </p:sp>
      <p:sp>
        <p:nvSpPr>
          <p:cNvPr id="413"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ahoma"/>
            </a:endParaRPr>
          </a:p>
        </p:txBody>
      </p:sp>
      <p:sp>
        <p:nvSpPr>
          <p:cNvPr id="414" name=""/>
          <p:cNvSpPr/>
          <p:nvPr/>
        </p:nvSpPr>
        <p:spPr>
          <a:xfrm>
            <a:off x="1066680" y="1981080"/>
            <a:ext cx="7543800" cy="4114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rs have four components:</a:t>
            </a:r>
            <a:endParaRPr b="0" lang="en-US" sz="3200" spc="-1" strike="noStrike">
              <a:solidFill>
                <a:srgbClr val="ffffff"/>
              </a:solidFill>
              <a:latin typeface="Arial"/>
            </a:endParaRPr>
          </a:p>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a:t>
            </a:r>
            <a:endParaRPr b="0" lang="en-US" sz="3200" spc="-1" strike="noStrike">
              <a:solidFill>
                <a:srgbClr val="ffffff"/>
              </a:solidFill>
              <a:latin typeface="Arial"/>
            </a:endParaRPr>
          </a:p>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een</a:t>
            </a:r>
            <a:endParaRPr b="0" lang="en-US" sz="3200" spc="-1" strike="noStrike">
              <a:solidFill>
                <a:srgbClr val="ffffff"/>
              </a:solidFill>
              <a:latin typeface="Arial"/>
            </a:endParaRPr>
          </a:p>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ue</a:t>
            </a:r>
            <a:endParaRPr b="0" lang="en-US" sz="3200" spc="-1" strike="noStrike">
              <a:solidFill>
                <a:srgbClr val="ffffff"/>
              </a:solidFill>
              <a:latin typeface="Arial"/>
            </a:endParaRPr>
          </a:p>
          <a:p>
            <a:pPr marL="609480" indent="-6094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pha</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B6991EC-BD2C-42C4-9E7B-E88E5A97412A}" type="slidenum">
              <a:t>7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Drawing2D</a:t>
            </a:r>
            <a:endParaRPr b="1" lang="en-US" sz="4000" spc="-1" strike="noStrike">
              <a:solidFill>
                <a:srgbClr val="eaeaea"/>
              </a:solidFill>
              <a:latin typeface="Tahoma"/>
            </a:endParaRPr>
          </a:p>
        </p:txBody>
      </p:sp>
      <p:sp>
        <p:nvSpPr>
          <p:cNvPr id="151" name="PlaceHolder 2"/>
          <p:cNvSpPr>
            <a:spLocks noGrp="1"/>
          </p:cNvSpPr>
          <p:nvPr>
            <p:ph/>
          </p:nvPr>
        </p:nvSpPr>
        <p:spPr>
          <a:xfrm>
            <a:off x="1066320" y="1981080"/>
            <a:ext cx="396252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ss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atchBrush</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nearGradientBrush</a:t>
            </a:r>
            <a:endParaRPr b="0" lang="en-US" sz="2400" spc="-1" strike="noStrike">
              <a:solidFill>
                <a:srgbClr val="ffffcc"/>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Blend</a:t>
            </a:r>
            <a:endParaRPr b="0" lang="en-US" sz="2000" spc="-1" strike="noStrike">
              <a:solidFill>
                <a:srgbClr val="ffcc99"/>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PathGradientBrush</a:t>
            </a:r>
            <a:endParaRPr b="0" lang="en-US" sz="2400" spc="-1" strike="noStrike">
              <a:solidFill>
                <a:srgbClr val="ffffcc"/>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Tahoma"/>
              </a:rPr>
              <a:t>ColorBlend</a:t>
            </a:r>
            <a:endParaRPr b="0" lang="en-US" sz="2000" spc="-1" strike="noStrike">
              <a:solidFill>
                <a:srgbClr val="ffcc99"/>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GraphicsPath</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ne cap classes</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trix</a:t>
            </a:r>
            <a:endParaRPr b="0" lang="en-US" sz="2400" spc="-1" strike="noStrike">
              <a:solidFill>
                <a:srgbClr val="ffffcc"/>
              </a:solidFill>
              <a:latin typeface="Tahoma"/>
            </a:endParaRPr>
          </a:p>
        </p:txBody>
      </p:sp>
      <p:sp>
        <p:nvSpPr>
          <p:cNvPr id="152" name="PlaceHolder 3"/>
          <p:cNvSpPr>
            <a:spLocks noGrp="1"/>
          </p:cNvSpPr>
          <p:nvPr>
            <p:ph/>
          </p:nvPr>
        </p:nvSpPr>
        <p:spPr>
          <a:xfrm>
            <a:off x="4915080" y="1981080"/>
            <a:ext cx="39240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um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ashCap, DashStyle</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ineCap, LineJoin</a:t>
            </a:r>
            <a:endParaRPr b="0" lang="en-US" sz="2400" spc="-1" strike="noStrike">
              <a:solidFill>
                <a:srgbClr val="ffffcc"/>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atchStyle</a:t>
            </a:r>
            <a:endParaRPr b="0" lang="en-US" sz="2400" spc="-1" strike="noStrike">
              <a:solidFill>
                <a:srgbClr val="ffffcc"/>
              </a:solidFill>
              <a:latin typeface="Tahoma"/>
            </a:endParaRPr>
          </a:p>
        </p:txBody>
      </p:sp>
      <p:sp>
        <p:nvSpPr>
          <p:cNvPr id="5" name="PlaceHolder 4"/>
          <p:cNvSpPr>
            <a:spLocks noGrp="1"/>
          </p:cNvSpPr>
          <p:nvPr>
            <p:ph type="ftr" idx="2"/>
          </p:nvPr>
        </p:nvSpPr>
        <p:spPr/>
        <p:txBody>
          <a:bodyPr/>
          <a:p>
            <a:r>
              <a:t>UK VBUG 2003 Annual Conference</a:t>
            </a:r>
          </a:p>
        </p:txBody>
      </p:sp>
      <p:sp>
        <p:nvSpPr>
          <p:cNvPr id="6" name="PlaceHolder 5"/>
          <p:cNvSpPr>
            <a:spLocks noGrp="1"/>
          </p:cNvSpPr>
          <p:nvPr>
            <p:ph type="sldNum" idx="3"/>
          </p:nvPr>
        </p:nvSpPr>
        <p:spPr/>
        <p:txBody>
          <a:bodyPr/>
          <a:p>
            <a:fld id="{6B282FB9-E70D-412B-B621-55AFA12D185C}" type="slidenum">
              <a:t>8</a:t>
            </a:fld>
          </a:p>
        </p:txBody>
      </p:sp>
      <p:sp>
        <p:nvSpPr>
          <p:cNvPr id="7" name="PlaceHolder 6"/>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pha (1)</a:t>
            </a:r>
            <a:endParaRPr b="1" lang="en-US" sz="4400" spc="-1" strike="noStrike">
              <a:solidFill>
                <a:srgbClr val="eaeaea"/>
              </a:solidFill>
              <a:latin typeface="Tahoma"/>
            </a:endParaRPr>
          </a:p>
        </p:txBody>
      </p:sp>
      <p:sp>
        <p:nvSpPr>
          <p:cNvPr id="416"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red pixels grow more transparent to the righ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nd green pixels grow less transparent to the righ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_label As New Bitmap(picLabel.Imag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alpha As Intege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clr As Colo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y As Integer = 0 To bm_label.Height - 1</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x As Integer = 0 To bm_label.Width – 1</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clr = bm_label.GetPixel(x, 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lr.G = 0 The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A red pixel.</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alpha = 255 - CInt(255 * x / bm_label.Width)</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ls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99cc00"/>
                </a:solidFill>
                <a:latin typeface="Courier New"/>
              </a:rPr>
              <a:t>' A green pixel. Set alpha = 127.</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lpha = CInt(255 * x / bm_label.Width)</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m_label.SetPixel(x, y, _</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lor.FromArgb(alpha, clr.R, clr.G, clr.B))</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x</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y</a:t>
            </a:r>
            <a:endParaRPr b="0" lang="en-US" sz="1400" spc="-1" strike="noStrike">
              <a:solidFill>
                <a:srgbClr val="ffffff"/>
              </a:solidFill>
              <a:latin typeface="Tahoma"/>
            </a:endParaRPr>
          </a:p>
        </p:txBody>
      </p:sp>
      <p:sp>
        <p:nvSpPr>
          <p:cNvPr id="417" name=""/>
          <p:cNvSpPr/>
          <p:nvPr/>
        </p:nvSpPr>
        <p:spPr>
          <a:xfrm rot="10800000">
            <a:off x="228600" y="4452480"/>
            <a:ext cx="454680" cy="1747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lpha</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38568D0-8F74-4857-B33E-64A61A6B3ADF}" type="slidenum">
              <a:t>8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pha (2)</a:t>
            </a:r>
            <a:endParaRPr b="1" lang="en-US" sz="4400" spc="-1" strike="noStrike">
              <a:solidFill>
                <a:srgbClr val="eaeaea"/>
              </a:solidFill>
              <a:latin typeface="Tahoma"/>
            </a:endParaRPr>
          </a:p>
        </p:txBody>
      </p:sp>
      <p:sp>
        <p:nvSpPr>
          <p:cNvPr id="419"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Label.Image = bm_labe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py the label onto the main pictu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_dog As New Bitmap(picDog.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gr As Graphics = Graphics.FromImage(bm_do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DrawImage(bm_label,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m_dog.Width - bm_label.Width) \ 2,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m_dog.Height - bm_label.Heigh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Dog.Image = bm_dog</a:t>
            </a:r>
            <a:endParaRPr b="0" lang="en-US" sz="1400" spc="-1" strike="noStrike">
              <a:solidFill>
                <a:srgbClr val="ffffff"/>
              </a:solidFill>
              <a:latin typeface="Tahoma"/>
            </a:endParaRPr>
          </a:p>
        </p:txBody>
      </p:sp>
      <p:sp>
        <p:nvSpPr>
          <p:cNvPr id="420" name=""/>
          <p:cNvSpPr/>
          <p:nvPr/>
        </p:nvSpPr>
        <p:spPr>
          <a:xfrm rot="10800000">
            <a:off x="228600" y="4452480"/>
            <a:ext cx="454680" cy="1747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lpha</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6C0FD88-6622-4AB2-BCC4-6624421F5CA6}" type="slidenum">
              <a:t>8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Bitmap.MakeTransparent</a:t>
            </a:r>
            <a:endParaRPr b="1" lang="en-US" sz="3600" spc="-1" strike="noStrike">
              <a:solidFill>
                <a:srgbClr val="eaeaea"/>
              </a:solidFill>
              <a:latin typeface="Tahoma"/>
            </a:endParaRPr>
          </a:p>
        </p:txBody>
      </p:sp>
      <p:sp>
        <p:nvSpPr>
          <p:cNvPr id="422"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Use MakeTransparent to make red pixels transparen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_label As New Bitmap(picLabel.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bm_label.MakeTransparent(Color.Red)</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Label.Image = bm_labe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opy the label onto the main pictu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bm_dog As New Bitmap(picDog.Imag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gr As Graphics = Graphics.FromImage(bm_do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gr.DrawImage(bm_label,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m_dog.Width - bm_label.Width) \ 2, _</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m_dog.Height - bm_label.Heigh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icDog.Image = bm_dog</a:t>
            </a:r>
            <a:endParaRPr b="0" lang="en-US" sz="1400" spc="-1" strike="noStrike">
              <a:solidFill>
                <a:srgbClr val="ffffff"/>
              </a:solidFill>
              <a:latin typeface="Tahoma"/>
            </a:endParaRPr>
          </a:p>
        </p:txBody>
      </p:sp>
      <p:sp>
        <p:nvSpPr>
          <p:cNvPr id="423" name=""/>
          <p:cNvSpPr/>
          <p:nvPr/>
        </p:nvSpPr>
        <p:spPr>
          <a:xfrm rot="10800000">
            <a:off x="228600" y="3216960"/>
            <a:ext cx="454680" cy="3035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keTransparen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6578260-E3F3-4272-94D4-46E7E44D5159}" type="slidenum">
              <a:t>8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nsparencyKey</a:t>
            </a:r>
            <a:endParaRPr b="1" lang="en-US" sz="4400" spc="-1" strike="noStrike">
              <a:solidFill>
                <a:srgbClr val="eaeaea"/>
              </a:solidFill>
              <a:latin typeface="Tahoma"/>
            </a:endParaRPr>
          </a:p>
        </p:txBody>
      </p:sp>
      <p:sp>
        <p:nvSpPr>
          <p:cNvPr id="425"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Me.ControlBox = Fals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Me.FormBorderStyle = System.Windows.Forms.FormBorderStyle.Non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Me.ShowInTaskbar = Fals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Me.TransparencyKey = System.Drawing.Color.Purple</a:t>
            </a:r>
            <a:endParaRPr b="0" lang="en-US" sz="1400" spc="-1" strike="noStrike">
              <a:solidFill>
                <a:srgbClr val="ffffff"/>
              </a:solidFill>
              <a:latin typeface="Tahoma"/>
            </a:endParaRPr>
          </a:p>
        </p:txBody>
      </p:sp>
      <p:sp>
        <p:nvSpPr>
          <p:cNvPr id="426" name=""/>
          <p:cNvSpPr/>
          <p:nvPr/>
        </p:nvSpPr>
        <p:spPr>
          <a:xfrm rot="10800000">
            <a:off x="228600" y="3234600"/>
            <a:ext cx="454680" cy="3014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TransparentForm</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EA888E7-F503-4AD5-8C8D-80343CF80579}" type="slidenum">
              <a:t>8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pacity</a:t>
            </a:r>
            <a:endParaRPr b="1" lang="en-US" sz="4400" spc="-1" strike="noStrike">
              <a:solidFill>
                <a:srgbClr val="eaeaea"/>
              </a:solidFill>
              <a:latin typeface="Tahoma"/>
            </a:endParaRPr>
          </a:p>
        </p:txBody>
      </p:sp>
      <p:sp>
        <p:nvSpPr>
          <p:cNvPr id="428" name="PlaceHolder 2"/>
          <p:cNvSpPr>
            <a:spLocks noGrp="1"/>
          </p:cNvSpPr>
          <p:nvPr>
            <p:ph/>
          </p:nvPr>
        </p:nvSpPr>
        <p:spPr>
          <a:xfrm>
            <a:off x="1066680" y="1981080"/>
            <a:ext cx="74678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hbarOpacity_Scroll(...) Handles hbarOpacity.Scrol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Opacity = 0.1 + hbarOpacity.Value / 10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Text = Me.Opacity.ToString</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Close_Click(...) Handles btnClose.Click</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imer1.Enabled = Tru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Timer1_Tick(...) Handles Timer1.Tick</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Opacity = Me.Opacity - 0.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Me.Opacity &lt;= 0 Then Me.Clos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29" name=""/>
          <p:cNvSpPr/>
          <p:nvPr/>
        </p:nvSpPr>
        <p:spPr>
          <a:xfrm rot="10800000">
            <a:off x="228600" y="3715920"/>
            <a:ext cx="454680" cy="2512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FormOpacit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81AD292-3F13-41AB-8D9A-D6903ABEA168}" type="slidenum">
              <a:t>8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0" name=""/>
          <p:cNvSpPr/>
          <p:nvPr/>
        </p:nvSpPr>
        <p:spPr>
          <a:xfrm>
            <a:off x="685800" y="38098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4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is GDI+?</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 Process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mmary</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6F7ED83-704E-436C-979B-A54EB788D91D}" type="slidenum">
              <a:t>8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
        <p:nvSpPr>
          <p:cNvPr id="434" name="PlaceHolder 2"/>
          <p:cNvSpPr>
            <a:spLocks noGrp="1"/>
          </p:cNvSpPr>
          <p:nvPr>
            <p:ph/>
          </p:nvPr>
        </p:nvSpPr>
        <p:spPr>
          <a:xfrm>
            <a:off x="3200400" y="761760"/>
            <a:ext cx="2666880" cy="6095880"/>
          </a:xfrm>
          <a:prstGeom prst="rect">
            <a:avLst/>
          </a:prstGeom>
          <a:noFill/>
          <a:ln w="0">
            <a:noFill/>
          </a:ln>
        </p:spPr>
        <p:txBody>
          <a:bodyPr lIns="90000" rIns="90000" tIns="46800" bIns="46800" anchor="t">
            <a:normAutofit fontScale="98000"/>
          </a:bodyPr>
          <a:p>
            <a:pPr marL="597240" indent="0">
              <a:lnSpc>
                <a:spcPct val="100000"/>
              </a:lnSpc>
              <a:spcBef>
                <a:spcPts val="10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0" spc="-1" strike="noStrike">
                <a:solidFill>
                  <a:srgbClr val="66ccff"/>
                </a:solidFill>
                <a:latin typeface="Times New Roman"/>
              </a:rPr>
              <a:t>?</a:t>
            </a:r>
            <a:endParaRPr b="0" lang="en-US" sz="400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4B05462-E918-4B4B-9171-6F8EDB517F0E}" type="slidenum">
              <a:t>8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nus Section!</a:t>
            </a:r>
            <a:endParaRPr b="1" lang="en-US" sz="4400" spc="-1" strike="noStrike">
              <a:solidFill>
                <a:srgbClr val="eaeaea"/>
              </a:solidFill>
              <a:latin typeface="Tahoma"/>
            </a:endParaRPr>
          </a:p>
        </p:txBody>
      </p:sp>
      <p:sp>
        <p:nvSpPr>
          <p:cNvPr id="4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ting Primer</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files</a:t>
            </a:r>
            <a:endParaRPr b="0" lang="en-US" sz="3200" spc="-1" strike="noStrike">
              <a:solidFill>
                <a:srgbClr val="ffffff"/>
              </a:solidFill>
              <a:latin typeface="Tahoma"/>
            </a:endParaRPr>
          </a:p>
        </p:txBody>
      </p:sp>
      <p:pic>
        <p:nvPicPr>
          <p:cNvPr id="437" name="" descr=""/>
          <p:cNvPicPr/>
          <p:nvPr/>
        </p:nvPicPr>
        <p:blipFill>
          <a:blip r:embed="rId1"/>
          <a:stretch/>
        </p:blipFill>
        <p:spPr>
          <a:xfrm>
            <a:off x="1692360" y="3124080"/>
            <a:ext cx="6446880" cy="3000600"/>
          </a:xfrm>
          <a:prstGeom prst="rect">
            <a:avLst/>
          </a:prstGeom>
          <a:ln w="0">
            <a:noFill/>
          </a:ln>
        </p:spPr>
      </p:pic>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7557343-2624-43A9-927E-223D94DB68E1}" type="slidenum">
              <a:t>87</a:t>
            </a:fld>
          </a:p>
        </p:txBody>
      </p:sp>
      <p:sp>
        <p:nvSpPr>
          <p:cNvPr id="6" name="PlaceHolder 5"/>
          <p:cNvSpPr>
            <a:spLocks noGrp="1"/>
          </p:cNvSpPr>
          <p:nvPr>
            <p:ph type="dt" idx="1"/>
          </p:nvPr>
        </p:nvSpPr>
        <p:spPr/>
        <p:txBody>
          <a:bodyPr/>
          <a:p>
            <a:r>
              <a:rPr lang="en-US"/>
              <a:t>September 16-17, 2003</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5">
                                  <p:stCondLst>
                                    <p:cond delay="0"/>
                                  </p:stCondLst>
                                  <p:childTnLst>
                                    <p:audio isNarration="0">
                                      <p:cMediaNode showWhenStopped="1">
                                        <p:cTn/>
                                        <p:tgtEl>
                                          <p:sndTgt r:embed="rId2" name="suction.wav"/>
                                        </p:tgtEl>
                                      </p:cMediaNode>
                                    </p:audio>
                                    <p:set>
                                      <p:cBhvr>
                                        <p:cTn id="6" dur="1" fill="hold">
                                          <p:stCondLst>
                                            <p:cond delay="0"/>
                                          </p:stCondLst>
                                        </p:cTn>
                                        <p:tgtEl>
                                          <p:spTgt spid="437"/>
                                        </p:tgtEl>
                                        <p:attrNameLst>
                                          <p:attrName>style.visibility</p:attrName>
                                        </p:attrNameLst>
                                      </p:cBhvr>
                                      <p:to>
                                        <p:strVal val="visible"/>
                                      </p:to>
                                    </p:set>
                                    <p:animEffect filter="fade" transition="in">
                                      <p:cBhvr additive="repl">
                                        <p:cTn id="7" dur="500"/>
                                        <p:tgtEl>
                                          <p:spTgt spid="437"/>
                                        </p:tgtEl>
                                      </p:cBhvr>
                                    </p:animEffect>
                                    <p:anim calcmode="lin" valueType="num">
                                      <p:cBhvr additive="repl">
                                        <p:cTn id="8" dur="500" fill="hold"/>
                                        <p:tgtEl>
                                          <p:spTgt spid="437"/>
                                        </p:tgtEl>
                                        <p:attrNameLst>
                                          <p:attrName>r</p:attrName>
                                        </p:attrNameLst>
                                      </p:cBhvr>
                                      <p:tavLst>
                                        <p:tav tm="0">
                                          <p:val>
                                            <p:strVal val="720"/>
                                          </p:val>
                                        </p:tav>
                                        <p:tav tm="100000">
                                          <p:val>
                                            <p:strVal val="0"/>
                                          </p:val>
                                        </p:tav>
                                      </p:tavLst>
                                    </p:anim>
                                    <p:anim calcmode="lin" valueType="num">
                                      <p:cBhvr additive="repl">
                                        <p:cTn id="9" dur="500" fill="hold"/>
                                        <p:tgtEl>
                                          <p:spTgt spid="437"/>
                                        </p:tgtEl>
                                        <p:attrNameLst>
                                          <p:attrName>ppt_h</p:attrName>
                                        </p:attrNameLst>
                                      </p:cBhvr>
                                      <p:tavLst>
                                        <p:tav tm="0">
                                          <p:val>
                                            <p:fltVal val="0"/>
                                          </p:val>
                                        </p:tav>
                                        <p:tav tm="100000">
                                          <p:val>
                                            <p:strVal val="#ppt_h"/>
                                          </p:val>
                                        </p:tav>
                                      </p:tavLst>
                                    </p:anim>
                                    <p:anim calcmode="lin" valueType="num">
                                      <p:cBhvr additive="repl">
                                        <p:cTn id="10" dur="500" fill="hold"/>
                                        <p:tgtEl>
                                          <p:spTgt spid="4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nting Primer (1)</a:t>
            </a:r>
            <a:endParaRPr b="1" lang="en-US" sz="4400" spc="-1" strike="noStrike">
              <a:solidFill>
                <a:srgbClr val="eaeaea"/>
              </a:solidFill>
              <a:latin typeface="Tahoma"/>
            </a:endParaRPr>
          </a:p>
        </p:txBody>
      </p:sp>
      <p:sp>
        <p:nvSpPr>
          <p:cNvPr id="4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The PrintDocument object does the print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WithEvents m_PrintDocument As PrintDocum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PageNumber As Integ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Font As Fo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Display a print preview.</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Preview_Click(...) Handles btnPreview.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ntDocument = New PrintDocum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ntPreviewDialog1.Document = m_PrintDocum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ntPreviewDialog1.ShowDialo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Print the docum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Print_Click(...) Handles btnPrint.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ntDocument = New PrintDocum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ntDocument.Pri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40" name=""/>
          <p:cNvSpPr/>
          <p:nvPr/>
        </p:nvSpPr>
        <p:spPr>
          <a:xfrm rot="10800000">
            <a:off x="228600" y="3738960"/>
            <a:ext cx="454680" cy="249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ntPreview</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A6C5C7C-85B4-48CF-AE15-D8ECA1D02143}" type="slidenum">
              <a:t>8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nting Primer (2)</a:t>
            </a:r>
            <a:endParaRPr b="1" lang="en-US" sz="4400" spc="-1" strike="noStrike">
              <a:solidFill>
                <a:srgbClr val="eaeaea"/>
              </a:solidFill>
              <a:latin typeface="Tahoma"/>
            </a:endParaRPr>
          </a:p>
        </p:txBody>
      </p:sp>
      <p:sp>
        <p:nvSpPr>
          <p:cNvPr id="442"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Prepare to start printing.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Open files, build fonts, load resources, etc.</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m_PrintDocument_BeginPrint(...)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andles m_PrintDocument.BeginPri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font_family As New FontFamily("Comic Sans M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Font = New Font(font_family, 120, FontStyle.Bol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ageNumber = 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ean up after printing.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Close files, free resources, etc.</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m_PrintDocument_EndPrint(...)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andles m_PrintDocument.EndPri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ntDocument = Noth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Font = Noth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43" name=""/>
          <p:cNvSpPr/>
          <p:nvPr/>
        </p:nvSpPr>
        <p:spPr>
          <a:xfrm rot="10800000">
            <a:off x="228600" y="3738960"/>
            <a:ext cx="454680" cy="249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ntPreview</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5D473B0-10CE-41FF-BECE-56FB45FFC847}" type="slidenum">
              <a:t>8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System.Drawing.Imaging</a:t>
            </a:r>
            <a:endParaRPr b="1" lang="en-US" sz="40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ageFormat</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bmp, emf, exif, gif, icon, jpeg,</a:t>
            </a:r>
            <a:endParaRPr b="0" lang="en-US" sz="2800" spc="-1" strike="noStrike">
              <a:solidFill>
                <a:srgbClr val="ffffcc"/>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emory bitmap, png, tiff, wmf</a:t>
            </a:r>
            <a:endParaRPr b="0" lang="en-US" sz="2800" spc="-1" strike="noStrike">
              <a:solidFill>
                <a:srgbClr val="ffffcc"/>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orMap, ColorMatrix, ColorPalet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file, MetafileHeader, MetaHeader</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fPlaceableFileHeader</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4202B15-9657-4FDD-8BC6-4BDF7E5A39C2}" type="slidenum">
              <a:t>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nting Primer (3)</a:t>
            </a:r>
            <a:endParaRPr b="1" lang="en-US" sz="4400" spc="-1" strike="noStrike">
              <a:solidFill>
                <a:srgbClr val="eaeaea"/>
              </a:solidFill>
              <a:latin typeface="Tahoma"/>
            </a:endParaRPr>
          </a:p>
        </p:txBody>
      </p:sp>
      <p:sp>
        <p:nvSpPr>
          <p:cNvPr id="4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Print a p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m_PrintDocument_PrintPage(...)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andles m_PrintDocument.PrintP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layout_rect As New RectangleF(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MarginBounds.Left, e.MarginBounds.Top,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MarginBounds.Width, e.MarginBounds.Heigh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string_format As New StringFormat(StringFormatFlags.NoWrap)</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_format.Alignment = StringAlignment.Cent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ring_format.LineAlignment = StringAlignment.Cent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ageNumber += 1</a:t>
            </a:r>
            <a:endParaRPr b="0" lang="en-US" sz="1400" spc="-1" strike="noStrike">
              <a:solidFill>
                <a:srgbClr val="ffffff"/>
              </a:solidFill>
              <a:latin typeface="Tahoma"/>
            </a:endParaRPr>
          </a:p>
        </p:txBody>
      </p:sp>
      <p:sp>
        <p:nvSpPr>
          <p:cNvPr id="446" name=""/>
          <p:cNvSpPr/>
          <p:nvPr/>
        </p:nvSpPr>
        <p:spPr>
          <a:xfrm rot="10800000">
            <a:off x="228600" y="3738960"/>
            <a:ext cx="454680" cy="249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ntPreview</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64FB205-37EB-465A-AA67-D043F7C1F4D4}" type="slidenum">
              <a:t>9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nting Primer (4)</a:t>
            </a:r>
            <a:endParaRPr b="1" lang="en-US" sz="4400" spc="-1" strike="noStrike">
              <a:solidFill>
                <a:srgbClr val="eaeaea"/>
              </a:solidFill>
              <a:latin typeface="Tahoma"/>
            </a:endParaRPr>
          </a:p>
        </p:txBody>
      </p:sp>
      <p:sp>
        <p:nvSpPr>
          <p:cNvPr id="4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which page this i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lect Case m_PageNumb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se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raw an ellip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DrawEllipse(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Pen(Color.Black, 10),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MarginBound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Graphics.DrawString("One", m_Font, Brushes.Black,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ayout_rect, string_forma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se 2</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el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Page 3 is the last pag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HasMorePages = (m_PageNumber &lt; 3)</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49" name=""/>
          <p:cNvSpPr/>
          <p:nvPr/>
        </p:nvSpPr>
        <p:spPr>
          <a:xfrm rot="10800000">
            <a:off x="228600" y="3738960"/>
            <a:ext cx="454680" cy="249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ntPreview</a:t>
            </a:r>
            <a:endParaRPr b="0" lang="en-US" sz="1800" spc="-1" strike="noStrike">
              <a:solidFill>
                <a:srgbClr val="ffffff"/>
              </a:solidFill>
              <a:latin typeface="Arial"/>
            </a:endParaRPr>
          </a:p>
        </p:txBody>
      </p:sp>
      <p:sp>
        <p:nvSpPr>
          <p:cNvPr id="450"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C9F918D-8492-4473-B75A-C1B0EB4CCBEE}" type="slidenum">
              <a:t>9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nting Primer (5)</a:t>
            </a:r>
            <a:endParaRPr b="1" lang="en-US" sz="4400" spc="-1" strike="noStrike">
              <a:solidFill>
                <a:srgbClr val="eaeaea"/>
              </a:solidFill>
              <a:latin typeface="Tahoma"/>
            </a:endParaRPr>
          </a:p>
        </p:txBody>
      </p:sp>
      <p:pic>
        <p:nvPicPr>
          <p:cNvPr id="452" name="" descr=""/>
          <p:cNvPicPr/>
          <p:nvPr/>
        </p:nvPicPr>
        <p:blipFill>
          <a:blip r:embed="rId1"/>
          <a:stretch/>
        </p:blipFill>
        <p:spPr>
          <a:xfrm>
            <a:off x="2971800" y="2519280"/>
            <a:ext cx="3886200" cy="3114720"/>
          </a:xfrm>
          <a:prstGeom prst="rect">
            <a:avLst/>
          </a:prstGeom>
          <a:ln w="0">
            <a:noFill/>
          </a:ln>
        </p:spPr>
      </p:pic>
      <p:sp>
        <p:nvSpPr>
          <p:cNvPr id="453" name=""/>
          <p:cNvSpPr/>
          <p:nvPr/>
        </p:nvSpPr>
        <p:spPr>
          <a:xfrm rot="10800000">
            <a:off x="228600" y="3738960"/>
            <a:ext cx="454680" cy="24962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ntPreview</a:t>
            </a:r>
            <a:endParaRPr b="0" lang="en-US" sz="1800" spc="-1" strike="noStrike">
              <a:solidFill>
                <a:srgbClr val="ffffff"/>
              </a:solidFill>
              <a:latin typeface="Arial"/>
            </a:endParaRPr>
          </a:p>
        </p:txBody>
      </p:sp>
      <p:pic>
        <p:nvPicPr>
          <p:cNvPr id="454" name="" descr=""/>
          <p:cNvPicPr/>
          <p:nvPr/>
        </p:nvPicPr>
        <p:blipFill>
          <a:blip r:embed="rId2"/>
          <a:stretch/>
        </p:blipFill>
        <p:spPr>
          <a:xfrm>
            <a:off x="6553080" y="228600"/>
            <a:ext cx="2381400" cy="87624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99FCBEB0-E531-4ADC-9B9D-1A868877CDD7}" type="slidenum">
              <a:t>92</a:t>
            </a:fld>
          </a:p>
        </p:txBody>
      </p:sp>
      <p:sp>
        <p:nvSpPr>
          <p:cNvPr id="5" name="PlaceHolder 4"/>
          <p:cNvSpPr>
            <a:spLocks noGrp="1"/>
          </p:cNvSpPr>
          <p:nvPr>
            <p:ph type="dt" idx="1"/>
          </p:nvPr>
        </p:nvSpPr>
        <p:spPr/>
        <p:txBody>
          <a:bodyPr/>
          <a:p>
            <a:r>
              <a:rPr lang="en-US"/>
              <a:t>September 16-17, 2003</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tafile Class</a:t>
            </a:r>
            <a:endParaRPr b="1" lang="en-US" sz="4400" spc="-1" strike="noStrike">
              <a:solidFill>
                <a:srgbClr val="eaeaea"/>
              </a:solidFill>
              <a:latin typeface="Tahoma"/>
            </a:endParaRPr>
          </a:p>
        </p:txBody>
      </p:sp>
      <p:sp>
        <p:nvSpPr>
          <p:cNvPr id="4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file inherits from Image</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272D6EF-B587-4D1F-8A1A-EDB245FA693C}" type="slidenum">
              <a:t>93</a:t>
            </a:fld>
          </a:p>
        </p:txBody>
      </p:sp>
      <p:sp>
        <p:nvSpPr>
          <p:cNvPr id="6" name="PlaceHolder 5"/>
          <p:cNvSpPr>
            <a:spLocks noGrp="1"/>
          </p:cNvSpPr>
          <p:nvPr>
            <p:ph type="dt" idx="1"/>
          </p:nvPr>
        </p:nvSpPr>
        <p:spPr/>
        <p:txBody>
          <a:bodyPr/>
          <a:p>
            <a:r>
              <a:rPr lang="en-US"/>
              <a:t>September 16-17, 2003</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tafile Drawing (1)</a:t>
            </a:r>
            <a:endParaRPr b="1" lang="en-US" sz="4400" spc="-1" strike="noStrike">
              <a:solidFill>
                <a:srgbClr val="eaeaea"/>
              </a:solidFill>
              <a:latin typeface="Tahoma"/>
            </a:endParaRPr>
          </a:p>
        </p:txBody>
      </p:sp>
      <p:sp>
        <p:nvSpPr>
          <p:cNvPr id="4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MakeMetafil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reate a Graphics object for referenc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gr As Graphics = Me.CreateGraphic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hdc As IntPtr = gr.GetHdc()</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reate the metafile and attached Graphics obj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efault MetafileFrameUnit is GdiCompatible = 0.01m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mf As New Metafile(MetafileName(), hdc,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Rectangle(0, 0, 200, 200),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etafileFrameUnit.Pixel)</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mf_gr As Graphics = Graphics.FromImage(m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raw stuf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rect As New Rectangle(3, 3, 194, 194)</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f_gr.FillEllipse(Brushes.Yellow, r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f_gr.DrawEllipse(New Pen(Color.Orange, 5), r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Tahoma"/>
            </a:endParaRPr>
          </a:p>
        </p:txBody>
      </p:sp>
      <p:sp>
        <p:nvSpPr>
          <p:cNvPr id="459" name=""/>
          <p:cNvSpPr/>
          <p:nvPr/>
        </p:nvSpPr>
        <p:spPr>
          <a:xfrm rot="10800000">
            <a:off x="228600" y="3664800"/>
            <a:ext cx="454680" cy="2575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Meta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B47D56F-01E8-479D-A570-E91137A4A8C3}" type="slidenum">
              <a:t>9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tafile Drawing (2)</a:t>
            </a:r>
            <a:endParaRPr b="1" lang="en-US" sz="4400" spc="-1" strike="noStrike">
              <a:solidFill>
                <a:srgbClr val="eaeaea"/>
              </a:solidFill>
              <a:latin typeface="Tahoma"/>
            </a:endParaRPr>
          </a:p>
        </p:txBody>
      </p:sp>
      <p:sp>
        <p:nvSpPr>
          <p:cNvPr id="4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estroy the objects in reverse ord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We need to dispose to close the metafil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mf_gr.Dispo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pt-BR" sz="1400" spc="-1" strike="noStrike">
                <a:solidFill>
                  <a:srgbClr val="ffffff"/>
                </a:solidFill>
                <a:latin typeface="Courier New"/>
              </a:rPr>
              <a:t>mf.Dispo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en-US" sz="1400" spc="-1" strike="noStrike">
                <a:solidFill>
                  <a:srgbClr val="ffffff"/>
                </a:solidFill>
                <a:latin typeface="Courier New"/>
              </a:rPr>
              <a:t>gr.ReleaseHdc(hdc)</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Dispo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62" name=""/>
          <p:cNvSpPr/>
          <p:nvPr/>
        </p:nvSpPr>
        <p:spPr>
          <a:xfrm rot="10800000">
            <a:off x="228600" y="3664800"/>
            <a:ext cx="454680" cy="2575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Meta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6D21E63-BD38-461D-899E-C35FF8E734AC}" type="slidenum">
              <a:t>9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tafile Reading (1)</a:t>
            </a:r>
            <a:endParaRPr b="1" lang="en-US" sz="4400" spc="-1" strike="noStrike">
              <a:solidFill>
                <a:srgbClr val="eaeaea"/>
              </a:solidFill>
              <a:latin typeface="Tahoma"/>
            </a:endParaRPr>
          </a:p>
        </p:txBody>
      </p:sp>
      <p:sp>
        <p:nvSpPr>
          <p:cNvPr id="4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ShowMetafil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Load the metafil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mf As New Metafile(MetafileN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a Bitmap and attached Graphics obj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to fit the metafil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m As New Bitmap(mf.Width, mf.Heigh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gr As Graphics = Graphics.FromImage(b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opy the metafile to the PictureBox.</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Clear(Color.Whit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DrawImage(mf,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Rectangle(0, 0, mf.Width, mf.Height),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w Rectangle(0, 0, mf.Width, mf.Height),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raphicsUnit.Pixel)</a:t>
            </a:r>
            <a:endParaRPr b="0" lang="en-US" sz="1400" spc="-1" strike="noStrike">
              <a:solidFill>
                <a:srgbClr val="ffffff"/>
              </a:solidFill>
              <a:latin typeface="Tahoma"/>
            </a:endParaRPr>
          </a:p>
        </p:txBody>
      </p:sp>
      <p:sp>
        <p:nvSpPr>
          <p:cNvPr id="465" name=""/>
          <p:cNvSpPr/>
          <p:nvPr/>
        </p:nvSpPr>
        <p:spPr>
          <a:xfrm rot="10800000">
            <a:off x="228600" y="3664800"/>
            <a:ext cx="454680" cy="2575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Metafi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5C74AD2-8C7F-4393-93B2-37CEC372431B}" type="slidenum">
              <a:t>9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tafile Reading (2)</a:t>
            </a:r>
            <a:endParaRPr b="1" lang="en-US" sz="4400" spc="-1" strike="noStrike">
              <a:solidFill>
                <a:srgbClr val="eaeaea"/>
              </a:solidFill>
              <a:latin typeface="Tahoma"/>
            </a:endParaRPr>
          </a:p>
        </p:txBody>
      </p:sp>
      <p:sp>
        <p:nvSpPr>
          <p:cNvPr id="4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isplay the resul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Canvas.Image = b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icCanvas.SizeMode = PictureBoxSizeMode.AutoSiz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ispose of the metafil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f.Dispo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68" name=""/>
          <p:cNvSpPr/>
          <p:nvPr/>
        </p:nvSpPr>
        <p:spPr>
          <a:xfrm rot="10800000">
            <a:off x="228600" y="3664800"/>
            <a:ext cx="454680" cy="2575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Metafile</a:t>
            </a:r>
            <a:endParaRPr b="0" lang="en-US" sz="1800" spc="-1" strike="noStrike">
              <a:solidFill>
                <a:srgbClr val="ffffff"/>
              </a:solidFill>
              <a:latin typeface="Arial"/>
            </a:endParaRPr>
          </a:p>
        </p:txBody>
      </p:sp>
      <p:sp>
        <p:nvSpPr>
          <p:cNvPr id="46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EDFF834-20C1-4263-997A-16371ECA3275}" type="slidenum">
              <a:t>9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470" name="" descr=""/>
          <p:cNvPicPr/>
          <p:nvPr/>
        </p:nvPicPr>
        <p:blipFill>
          <a:blip r:embed="rId1"/>
          <a:stretch/>
        </p:blipFill>
        <p:spPr>
          <a:xfrm>
            <a:off x="6553080" y="228600"/>
            <a:ext cx="2381400" cy="876240"/>
          </a:xfrm>
          <a:prstGeom prst="rect">
            <a:avLst/>
          </a:prstGeom>
          <a:ln w="0">
            <a:noFill/>
          </a:ln>
        </p:spPr>
      </p:pic>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tafile Reading (3)</a:t>
            </a:r>
            <a:endParaRPr b="1" lang="en-US" sz="4400" spc="-1" strike="noStrike">
              <a:solidFill>
                <a:srgbClr val="eaeaea"/>
              </a:solidFill>
              <a:latin typeface="Tahoma"/>
            </a:endParaRPr>
          </a:p>
        </p:txBody>
      </p:sp>
      <p:sp>
        <p:nvSpPr>
          <p:cNvPr id="472" name=""/>
          <p:cNvSpPr/>
          <p:nvPr/>
        </p:nvSpPr>
        <p:spPr>
          <a:xfrm rot="10800000">
            <a:off x="228600" y="3664800"/>
            <a:ext cx="454680" cy="2575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rawMetafile</a:t>
            </a:r>
            <a:endParaRPr b="0" lang="en-US" sz="1800" spc="-1" strike="noStrike">
              <a:solidFill>
                <a:srgbClr val="ffffff"/>
              </a:solidFill>
              <a:latin typeface="Arial"/>
            </a:endParaRPr>
          </a:p>
        </p:txBody>
      </p:sp>
      <p:pic>
        <p:nvPicPr>
          <p:cNvPr id="473" name="" descr=""/>
          <p:cNvPicPr/>
          <p:nvPr/>
        </p:nvPicPr>
        <p:blipFill>
          <a:blip r:embed="rId2"/>
          <a:stretch/>
        </p:blipFill>
        <p:spPr>
          <a:xfrm>
            <a:off x="3733920" y="2895480"/>
            <a:ext cx="2361960" cy="236232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C2EAF3E8-F0C1-4EC8-B8FA-493AFFA76C16}" type="slidenum">
              <a:t>98</a:t>
            </a:fld>
          </a:p>
        </p:txBody>
      </p:sp>
      <p:sp>
        <p:nvSpPr>
          <p:cNvPr id="5" name="PlaceHolder 4"/>
          <p:cNvSpPr>
            <a:spLocks noGrp="1"/>
          </p:cNvSpPr>
          <p:nvPr>
            <p:ph type="dt" idx="1"/>
          </p:nvPr>
        </p:nvSpPr>
        <p:spPr/>
        <p:txBody>
          <a:bodyPr/>
          <a:p>
            <a:r>
              <a:rPr lang="en-US"/>
              <a:t>September 16-17, 2003</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 Stephens</cp:lastModifiedBy>
  <dcterms:modified xsi:type="dcterms:W3CDTF">2003-09-19T16:44:10Z</dcterms:modified>
  <cp:revision>100</cp:revision>
  <dc:subject/>
  <dc:title>Fun with GDI+</dc:title>
</cp:coreProperties>
</file>