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B934-4FDC-48D3-A383-FC02E6BB6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I’m Rod Stephens. I’m a software consultant and author who’s written a dozen books (mostly about Visual Basic) and more than 200 magazine artic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ook most relevant to this discussion is Visual Basic Graphics Programm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more about my books and read more than a thousand tips, tricks, and examples at my Web site www.vb-helper.c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my favorite topics is computer graphics so building this presentation was great fun. However, it’s a very long presentation containing more than 75 slides. If I tried to cover them all in the next hour or so, I’d probably completely fry your brains. Instead I’ll give you an overview and then ask you what you want to see. Then we can jump around the slides to look at the material that will be most useful. I’ll post the complete presentation on the user group’s Web site and at the URL shown at the bottom of this sli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you create a PrintDocument object, set its properties to define how you want to print, and then call its Print method. As it prints, the PrintDocument generates PrintPage events that let you draw on the printout’s p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lasses essentially define properties of the Print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going to say any more about these classes in this tal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contains classes that you can use to extend the development environment. I’m not going to say much about the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boxItem provides a base implementation of a toolbox item. You can inherit from this class to create your own toolbox i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also includes several property editors. For example, the BitmapEditor class provides an interface that allows the user to select a bitmap for a property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going to say any more about these classes in this tal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a little about the System.Drawing namespace, I’ll talk a bit about drawing. The examples should clarify the basics of using Graphics, Brush, and Pen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iscussing drawing in VB .NET, however, let me remind you how things work in previous versions of Visual Basic. Then you can contrast that with the approach used by VB .N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briefly review how drawing works in VB 6 and compare that to the way it works in VB .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xplain how you specify colors in VB .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move into more detailed drawing topics. Whenever you draw, you do so on a Graphics object so I’ll explain a couple ways you can get a Graphics object to use. Then we’ll look at a bunch of examples demonstrating different pens, brushes, and drawing metho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for drawing in VB 6 is to use an object that displays graphics, such as a PictureBox or Form. The program sets the object’s properties to define drawing characteristics such as line color, fill style, and font. The code then calls the drawing object’s methods to draw things such as lines, circles, text, and so fort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 object (referred to as Me in this code) manages the drawing’s properties. The code sets the drawing line width, fill color, and fill style. It then calls the form’s Circle method, passing it (admittedly obscure) parameters to draw the ellips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raw in VB .NET, you need to give the system the same information you do in VB 6. You need to tell the system what drawing properties you want to use and then you need to use them. The way you give this information to VB .NET is different, however. In VB 6, you use properties to define the drawing properties. In VB .NET, you create objects to define the drawing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egin drawing by creating a new object to represent the surface on which to draw. This is a Graphics object. There are a couple ways to create a Graphics object and I’ll discuss them a bit l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ou create objects that represent the drawing properties you want to use. Generally Pen objects define line drawing parameters and Brushes define area filling parame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you call the Graphics object’s drawing and filling methods, passing them these property objects as paramet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ry there’s no room for comments in the co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B .NET program must manage the drawing properties much more explicitly, albeit using objects. (You can argue that this is “more object-oriented” in some bizarre sense because it uses more objects. It fails the goals of object-oriented programming miserably, however, because it has greatly reduced encapsul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must explicitly create a Graphics object to represent the form’s drawing surfa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the code creates a HatchBrush object to represent the fill style it wants to use. Notice that the constructor requires parameters taken from enumerations (</a:t>
            </a:r>
            <a:r>
              <a:rPr b="0" lang="en-US" sz="900" spc="-1" strike="noStrike">
                <a:solidFill>
                  <a:srgbClr val="000000"/>
                </a:solidFill>
                <a:latin typeface="Courier New"/>
              </a:rPr>
              <a:t>HatchStyle.BackwardDiagonal</a:t>
            </a:r>
            <a:r>
              <a:rPr b="0" lang="en-US" sz="1000" spc="-1" strike="noStrike">
                <a:solidFill>
                  <a:srgbClr val="000000"/>
                </a:solidFill>
                <a:latin typeface="Arial"/>
              </a:rPr>
              <a:t>) and objects (Me.BackCol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de then calls the Graphics object’s FillEllipse method to draw a filled ellipse. This method takes parameters giving the brush to use in filling the ellipse, the coordinate of the ellipse’s upper left corner, and the ellipse’s width and height. (I will give Microsoft high marks for making these parameters more intuitive than those used by VB 6’s Circle metho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code must draw the ellipse’s outline. It starts by creating a Pen object to represent the outline’s drawing properties. The constructor’s parameters indicate a red line 5 pixels wide. (GDI+ measurements are in pixels. In fact, so are GDI measurements. Hardly coincide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code calls the Graphics object’s DrawEllipse method to draw the ellipse’s outline. (Microsoft also gets credit for making the FillEllipse and DrawEllipse methods take almost the same parameters. The only difference is that FillEllipse takes a Brush while DrawEllipse takes a Pe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NET represents colors with Color structures and it provides several ways to specify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 class provides a about 140 properties that return standard colors. Its FromName method takes the name of a color as a parameter and returns a standard Color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omArgb method is somewhat similar to VB 6’s RGB method. It takes as parameters an alpha value, and the color’s red, green, and blue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pha value determines the color’s transparency where 0 means transparent and 255 means opaque. (It might have made sense to call this Opaqueness or Opacity as Microsoft did for the Form proper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erform almost all graphics operations using a Graphics object. There are a couple ways you can create Graphics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t event handler includes a parameter that contains a Graphics object. Many programs draw during the Paint event handler and they can simply use tha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an object’s CreateGraphics method to make a Graphics object. For example, when the user clicks a button you could use the form’s CreateGraphics method to make a Graphics object and draw something on the form without waiting for a Paint event. (The drawing won’t stay on the form if it is resized or hidden and exposed, but that’s another topi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I’m going to co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ll talk a bit about GDI+. I’ll explain what it is and what namespaces it involves. I’ll also mention some of the more important classes in those namesp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ll talk about basic drawing—how to draw lines, ellipses,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talk about image processing. This includes how to load and save picture files, how to manipulate an image’s pixels, and how to work with transpar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I’ll summarize in case you fall asleep somewhere in the midd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that uses the Paint event handler. The parameter e contains the Graphics object. This code creates a Pen and then uses the Graphics object’s drawing methods to draw a rectangle and a couple l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s object provided by the Paint event handler is clipped to the areas that need to be redrawn. It leaves unchanged areas completely alone, neither erasing them nor allowing your code to draw on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CreateGraphics instead of using the Graphics object provided by the event handler’s e parameter. Otherwise it is the same as the previous ex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s object covers the entire form so it draws on top of any existing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rase the form before drawing, use this cod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s objects provides all of the methods you need to draw on a surface. These include methods for filling and drawing shapes, and working with im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shows the basic drawing methods. Those in pink have corresponding Fill methods. For example, DrawClosedCurve has a corresponding FillClosedCurve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draw a filled and outlined shape, you should use the Fill method first to draw its interior. Then use the corresponding Draw method to draw the out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l and Draw methods take exactly the same parameters so they’re easy to use together. The one difference in parameters is that the Fill method needs a Brush to define the fill style and the Draw method needs a Pen to define the line style. I’ll talk a lot more about Brushes and Pens in a couple slid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 Form is a type of Control so it inherits the Invalidate metho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shes determine how areas are filled. Pens determine the appearance of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ways you can get a brush or pen. Stock brush and pen classes give you objects for drawing common fills and lines. Other classes provide more interesting variations.</a:t>
            </a:r>
            <a:endParaRPr b="0" lang="en-US" sz="12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create a new Brush object. Instead you can create a new instance of a child class </a:t>
            </a:r>
            <a:r>
              <a:rPr b="0" lang="en-US" sz="1800" spc="-1" strike="noStrike">
                <a:solidFill>
                  <a:srgbClr val="000000"/>
                </a:solidFill>
                <a:latin typeface="Arial"/>
              </a:rPr>
              <a:t>SolidBrush, TextureBrush, HatchBrush, LinearGradientBrush, or PathGradientBrush.</a:t>
            </a:r>
            <a:endParaRPr b="0" lang="en-US" sz="18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s demonstrate some of the Graphics object’s drawing methods as well as various brush and pen objects.</a:t>
            </a: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ushes class contains methods that return solid brushes in various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the Pens class has methods that return pens representing 1-pixel wide lines in different col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this code defines a Rectangle object which it then uses twice to fill and draw a rectangle. Using the same Rectangle ensures that the outline fits the filled interio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idBrush class represents a solid brus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 class represents a brush. Its constructor takes parameters indicating color and width (in pix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 code uses the Color class to specify standard colors. More on colors in a few slid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tchBrush class represents a brush filled with a hatch pattern. These patterns include lines, crosses, grids, diamonds, checkerboards, plaids, weaves, and m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 class represents a brush. Its constructor takes parameters indicating color and width (in pix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 code uses the Color class to specify standard col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I = Graphic Device Interface. These are the routines that sit between your high-level program and the lower-level graphic control systems. In previous versions of VC++, you needed to create and manage GDI objects explicitly. This involved calling a bunch of API functions that create objects and return numeric handles. Managing those objects and ensuring they were freed appropriately when the program no longer needed them was a cumbersome ch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Visual Basic 6 handles most of that for you, encapsulating the GDI inside classes such as PictureBox and Form that provided drawing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I+ is the .NET version of GDI. It simplifies many of the tasks a VC++ programmer needs to manage graphics. It’s not a great help to VB programmers. In fact, some things that were encapsulated in a drawing object (such as PictureBox or Form) you must now manage explicitly. In particular, you need to create Pen and Brush objects to do just about any drawing. These objects manage the appearance of the drawing. In VB 6, properties such as ForeColor, DrawWidth, and FillColor handled this. More on these objects in a bi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ureBrush class represents a fill using an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 class provides properties such as DashStyle to modify its appearance. Other properties specify end caps, dash caps, and miter limit (how pointy a mitered corner can b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arGradientBrush represents a smooth shading of color from one point to another. Horizontal and vertical shadings are fairly standard but you can also shade between two arbitrary points as in this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builds a GraphicsPath object representing a string outline. It starts by using the GraphicsPath object’s AddString to add the string to the path. Next it uses the Graphics object’s MeasureString method to figure out how big the string will b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calls the GraphicsObject’s FillPath method to fill the GraphicsPath. It uses a LinearGradientBrush that shades from red to blue between the string’s upper left corner at (5, 5) and its lower left cor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code uses DrawPath to outline the text using a black pe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GradientBrush represents a fill inside a path. The color varies from a center point to the edges of the path.</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fine the PathGradientBrush’s center poin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m going to turn to image processing. That generally means working with bitmaps and their pixel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have plenty of complaints about VB .NET but its image processing tools are awesome. If you like image processing as much as I do, you’ll love these new featur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three things that are a major pain in previous versions of Visual Bas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work with memory bitmaps in VB 6, you need to use an arcane series of finicky API calls that are a real pain to get working correctly. In VB .NET, the Bitmap and Graphics classes make this trivi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VB 6, you can use Point and PSet to work with an image pixel-by-pixel but it’s a horribly slow process. To get better performance, you can use API functions to shovel pixel values in and out of arrays. That gives good performance and isn’t as tricky as using memory bitmaps but is still fairly tricky. In VB .NET, the GetPixel and SetPixel methods are as easy to use as Point and PSet but they are much fast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VB 6, you can pretty much only save an image in bitmap format unless you buy a third party library. VB .NET lets you easily save images in 10 different formats (which I’ll list lat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rotate an image in VB 6, you need to grab the pixels (using API functions for speed), perform some non-trivial mathematics on them, and stuff the results back into the picture (again, using API functions). VB .NET provides some transformation tools that are not trivial but are faster and easier than doing this by han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pha blending is a fancy term for a simple technique that lets you combine the pixel values of one image with those of another. By setting alpha values for pixels, you can make them partially or completely transparent. VB .NET also includes a couple other tools for transparency that are less flexible but easier to use. I’ll describe both alpha blending and some of these other tool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pictures in VB 6 is easy enough using the LoadPicture statement. This is also easy in VB .NET after you can figure out how to do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ick is to create a new Bitmap object directly from the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uses the Bitmap’s overloaded constructor to directly build a Bitmap from an image file. The Bitmap class also provides a method that can create a new Bitmap from a file, stream, bitmap or icon handle, or a Windows resour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how to draw directly on a bitmap. The code creates a new Bitmap object with some desired dimensions. In this example, the Bitmap is sized to fit the program’s PictureBox but you could use whatever dimensions you wa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code makes a Graphics object. It uses the Graphics class’s FromImage method to make a new Graphics object attached to the Bitmap. Now whatever drawing commands the code gives the Graphics object apply to the Bitm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t has finished drawing, this example sets the picImage control’s Image property to the Bitmap to display the res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ed to work with the Bitmap purely in memory, however, you wouldn’t need to do this. For example, you could call the Bitmap’s Save method to save the results into a file without ever displaying them. That’s the subject of the next slid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reates a Bitmap object and sets it equal to the image displayed in a PictureBox. It then simply calls the Bitmap’s Save method passing it the name of the output file and the format it should use to save the image. This example saves the picture as a bitmap, JPEG, and GI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ng classes are contained in the System.Drawing namespa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 contains many objects you will need to perform graphics operations. For example, it includes the classes: Graphics, Bitmap, Icon, Image (an abstract base class from which Bitmap, Icon, and Metafile inherit), Brush, Font, FontFamily, Pen,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Drawing2D contains most of the other objects you’ll use to draw stuff. It contains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Imag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Tex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Print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e method has a couple of overloaded versions. One of the most useful takes two parameters: a destination and an image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tination can be a string giving a file name, or it can be a Stream. The stream can be useful if you want write the image into part of a file or convert it into text, for example in an XML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at can be one of the 10 values shown her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creates a Bitmap object representing a PictureBox’s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loops through the Bitmap‘s pixels. For each pixel, it calculates a weighted average of the pixel’s red, green, and blue components. It then sets the pixel’s color so its components all have that weighted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t has converted all of the pixels, the code displays the result in the PictureBox.</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mage method is roughly analogous to VB 6’s PaintPicture method. It also plays the role of the BitBlt and StretchBlt API fun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30 overloaded (and rather confusing) versions that let you copy part6s of one image onto parts of anothe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descriptions of the different overloaded versions of DrawImage aren’t great. IntelliSense gives about the same information for each version so it’s not as helpful as it should be, either. (It’s too bad because VB 6’s PaintPicture method has the same problem. It takes a bunch of parameters with names such as X0 and Y1. They don’t really tell you what they’re for so you end up reading the documentation every time you want to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way, this code uses a version of DrawImage that takes as a parameter a Rectangle specifying the output location where an image should be drawn. It starts by making two Bitmap objects representing the image, one for the source image and one for the destination. It must use two different Bitmaps. Using the same Bitmap as the source and destination doesn’t seem to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reates a Graphics object attached to the output Bitmap (because that’s where we want to draw). It creates a Rectangle representing part of the image’s upper left quadrant and uses DrawImage to copy the source bitmap into that area. It then uses DrawRectangle to draw a box around the area and it displays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program specifies the destination area for the picture using a Rectangle object. Another version of DrawImage lets you specify the area’s upper left corner, width, and height. I used the rectangle version here because I can then use the same Rectangle with the DrawRectangle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ue width and height of the Rectangle are the same multiple of the picture’s total width and height. In this case, they are 0.4 times the image’s original size. Because they use the same multiple, the picture keep the same aspect ratio so it shrinks without being distorte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z: What happens if you press the button repeatedly?</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uses a version of DrawImage that takes two Rectangles as parameters. The first tells DrawImage where to draw the result. The second tells it which part of the source image to co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ource and destination Rectangles have the same width and height. That means the copied part of the image is the same size as it was in the original source imag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z: What happens if you press the button repeatedly?</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creates a source Bitmap and a destination Bitmap that has the same size. As usual, it make a Graphics object connected to the destination Bitm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ills the destination with a background color (</a:t>
            </a:r>
            <a:r>
              <a:rPr b="0" lang="en-US" sz="1200" spc="-1" strike="noStrike">
                <a:solidFill>
                  <a:srgbClr val="000000"/>
                </a:solidFill>
                <a:latin typeface="Courier New"/>
              </a:rPr>
              <a:t>PapayaWhip).</a:t>
            </a:r>
            <a:endParaRPr b="0" lang="en-US" sz="1200" spc="-1" strike="noStrike">
              <a:solidFill>
                <a:srgbClr val="000000"/>
              </a:solidFill>
              <a:latin typeface="Arial"/>
            </a:endParaRPr>
          </a:p>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 the code makes an array containing three Point objects that define three points on a parallelogram. When it calls DrawImage, the method maps the image’s upper left, upper right, and lower left corners to these poi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z: What happens if you press the button repeatedly?</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witch the corners around appropriately, this version of DrawImage can flip the picture either vertically or horizontally. This version moves the original picture’s upper left and lower left corners to the right side. That slips it horizontally (in addition to warping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is image warping using a parallelogram would be just a moderately amusing trick except for one thing: If you position the corners correctly, you can make it perform image ro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z: What happens if you press the button repeated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includes fundamental drawing classes and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s is without doubt the most important object you’ll use when creating graphics. A Graphics object represents the surface you’re going to draw on. That could be a PictureBox, form, bitmap in memory, or whatever. The Graphics object provides the methods for drawing lines, rectangles, ellipses,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n importance come Pen and Brush. A Pen represents the drawing characteristics of a line. That generally includes the line’s color, thickness, dash style,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ush represents how a solid area is filled. It determines whether the area is solidly colored, hatched, filled with a pattern, and so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an abstract base class from which Bitmap, Icon, and Metafile inher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guess, Font and FontFamily deal with drawing text. I’m not going to say a whole lot about them in this tal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 defines a shape created from rectangles and paths. You can fill a region, use it to perform hit-testing, or clip drawing to a region (for example, to make shaped fo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 includes a value’s red, green, and blue components, plus an “Alpha” value that indicates the color’s transparency. 0 = transparent, 255 = op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Rectangle, and Size each work in integral positions and sizes (because GDI+ measures in pixels so it doesn’t need fractional pixels). Each of these classes has a corresponding class that works with floating point values. The classes are PointF, RectangleF, and Size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 explain how to rotate an image using DrawImage, let me show you the res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mage routine maps the image’s three corners as before. In this picture, I’ve added labels so you can see which corners are mapped where. The trick is in figuring out how to map the corners so you get a rotation that doesn’t distort the imag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erform the rotation, this program makes an array of Point objects representing the image’s cor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on around an arbitrary point is hard so the program translates the corners so they are centered around the origin. In the next slide, it will rotate the points around the origin (which is much easier than arbitrary ro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give the desired destination positions of the corners to DrawImage, the challenge is to find where the corners should go when you rotate the imag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code rotates the corners around the origin. If you are unfamiliar with the equations for rotation, here they are. See my book or another graphics or geometry book for a proof of these equa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corners are rotated but they are still centered around the origin. This code finds the smallest X and Y coordinates and then translates the corners so they all have coordinates greater than or equal to zero. That moves them out into the visible part of the output imag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code calls DrawImage. First it resizes the output Bitmap so it has room to display all four cor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mage expects exactly three corners in its inputs so the code must remove the fourth corner before calling Draw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have been better if Microsoft let us specify the fourth corner, too. Then you could have easily built other kinds of shape-distorting transformations that mapped a rectangle into a quadrilateral rather than just a parallelogram. Those kinds of transformations would make three-dimensional graphics a lot easier. I doubt Microsoft will gives us this, th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at’s left is to display the result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very fast. Try changing the angle by a little bit and clicking the bu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ast enough that you could reasonably animate a rotating image using a Timer.</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VB .NET’s strangest omissions is AutoRedraw. As you know, in previous versions you could set AutoRedraw to True on a form or PictureBox and VB would automatically maintain its contents. VB .NET doesn’t provide this. If you want to redisplay graphics when a form is resized or uncovered, you need to draw them yourself.</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a simple way to implement AutoRedraw in VB .NET. When the form loads, the code resizes a PictureBox so it fills the form. It creates a Bitmap big enough to fill the PictureBox and draws on it. It then sets the PictureBox’s Image property to this Bitmap to display the result. The PictureBox automatically updates its display when necess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the program could have created the Bitmap and Graphics objects as module-level variables and kept them around for later use. Then the program could draw more on the Bitmap and display the results relatively easily.</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a more complicated method to provide AutoRedraw and to allow the user to click and draw using rubberband lines. (In previous versions of Visual Basic, you can use the DrawMode property to draw lines that you can later erase. VB .NET doesn’t have anything like DrawMode so you need a different method for drawing rubberband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declares module-level Bitmap and Graphics objects. It also declares some variables for rubberband dra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s Load event handler initializes the Bitmap object so it fits the form. It attaches a Graphics object and uses it to clear the Bitmap with the form’s background color.</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s Paint event handler is simple. It takes as a parameter a </a:t>
            </a:r>
            <a:r>
              <a:rPr b="0" lang="en-US" sz="1200" spc="-1" strike="noStrike">
                <a:solidFill>
                  <a:srgbClr val="000000"/>
                </a:solidFill>
                <a:latin typeface="Courier New"/>
              </a:rPr>
              <a:t>PaintEventArgs object that contains a Graphics object to use for drawing. </a:t>
            </a:r>
            <a:r>
              <a:rPr b="0" lang="en-US" sz="1200" spc="-1" strike="noStrike">
                <a:solidFill>
                  <a:srgbClr val="000000"/>
                </a:solidFill>
                <a:latin typeface="Arial"/>
              </a:rPr>
              <a:t>It calls that Graphics object’s DrawImage method to copy the Bitmap’s current contents onto the for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includes fundamental drawing classes and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an abstract base class from which Bitmap, Icon, and Metafile inher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 defines a shape created from rectangles and paths. You can fill a region, use it to perform hit-testing, or clip drawing to a region (for example, to make shaped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idBrushes and Pens classes define standard brushes and pe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 includes a value’s red, green, and blue components, plus an “Alpha” value that indicates the color’s transparency. 0 = transparent, 255 = op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Rectangle, and Size each work in integral positions and sizes (because GDI+ measures in pixels so it doesn’t need fractional pixels). Each of these classes has a corresponding class that works with floating point values. The classes are PointF, RectangleF, and SizeF.</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behind the Resize event handler is simple, although the details are a bit involved. The idea is to create a new Bitmap object that is big enough for the form’s new s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ogram, I only grow the Bitmap I never shrink it. That means any drawing you do is preserved even if you later shrink and then enlarge the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handler first compares the form’s current dimensions to the module-level Bitmap’s dimensions. If the Bitmap is already big enough, the routine doesn’t need to do anything so it ex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orm is bigger, the routine creates a new Bitmap object that is big enough to hold both the form and the current Bit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ze event handler then attaches a Graphics object to the new Bitmap. It clears the Bitmap with the form’s background color and draws the existing Bitmap onto the new 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t saves the new Bitmap and Graphics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ogram deals with drawing rubberband lines. The MouseDown event handler sets the m_Drawing variable to True to indicate that a draw is in progress. It also saves the mouse’s current position.</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useMove event handler continues drawing. It checks the m_Drawing variable to make sure a draw is in prog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makes a copy of the module-level Bitmap and draws the new rubberband line on it. It then displays the result. This draws over any previous rubberband lin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iece is the MouseUp event handler. It also verifies that a draw is in prog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draws the final line on the module-level Bitmap object and displays the resul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is similar to the previous one except it allows the user to click and draw scribbles instead of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s MouseDown and MouseUp event handlers are simple. MouseDown sets the variable m_Drawing to True to indicate that a drawing is in progress. It also saves the mouse’s current pos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useUp event handler simply sets m_Drawing to Fals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useMove event handler is a little more interesting. It verifies that a draw is in progress. It draws a line from the previously saved point to the mouse’s current position on the module-level Bitmap object. It saves the current position and displays the Bitm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modify these programs to provide other tools for drawing circles, ellipses, rectangles, splines, and so forth. You can define line colors, styles, and thicknesses, and fill colors, hatches, and pattern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s in VB .NET have four components: red, green, blue, and alpha. The first three are values between 0 and 255 as they are in VB 6 using 24-bit color. A values of 0 means the color is missing while a value of 255 means the color holds as much of the component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pha value determines the color’s transparency. A value of 0 means the color is transparent; a value of 255 means the color is completely solid.</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makes a Bitmap object representing a picture containing green text on a red background. It sets the alpha value for each pixel. It makes alpha for the red pixels start at 255 (opaque) on the left and move to 0 (transparent) on the right. It sets alpha for green pixels the opposite way: so they start off at 0 (transparent) on the left and move to 255 (opaque) on the righ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displays the result in the picLabel PictureBox. I’ll show you what it looks like on the next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makes a Bitmap representing the picDog control’s image and uses DrawImage to copy the alpha-coded label image onto it. It displays the results in the picDog PictureBox.</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 The PictureBox on the bottom shows the label only. Notice how the red color shades towards the control’s gray background color on the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PictureBox shows the alpha-coded label copied onto the main image of a dog. You can see how the dog’s front legs show through the red near the right side of the label. If you look closely, you’ll also see parts of the main picture showing through the text on the left side of the lab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z: In the main picture, you can see parts of the snow and dog showing through the translucent label. What is showing through on the label PictureBox at the bottom of the for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defines advanced imaging classes. The ImageFormat class is particularly useful for saving images in different form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Map, ColorMatrix, and ColorPalette deal with manipulating the image’s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classes listed here deal with metafiles. These can be very useful if you want to export line drawings for use in CAD programs such as CorelDRAW!</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overlay one image on another, you can easily examine its pixels and set alpha to 0 for the pixels you don’t want to display. For example, in the previous program you could you could set alpha to 0 for the red pixels to drop the text on top of the main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mmon enough need that VB .NET provides a special method to make it easi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makes a Bitmap representing the label image. It calls the Bitmap’s MakeTransparent method to mark the red pixels as transparent. (Note: The color red is called the picture’s </a:t>
            </a:r>
            <a:r>
              <a:rPr b="0" i="1" lang="en-US" sz="1200" spc="-1" strike="noStrike">
                <a:solidFill>
                  <a:srgbClr val="000000"/>
                </a:solidFill>
                <a:latin typeface="Arial"/>
              </a:rPr>
              <a:t>transparent</a:t>
            </a:r>
            <a:r>
              <a:rPr b="0" lang="en-US" sz="1200" spc="-1" strike="noStrike">
                <a:solidFill>
                  <a:srgbClr val="000000"/>
                </a:solidFill>
                <a:latin typeface="Arial"/>
              </a:rPr>
              <a:t> or </a:t>
            </a:r>
            <a:r>
              <a:rPr b="0" i="1" lang="en-US" sz="1200" spc="-1" strike="noStrike">
                <a:solidFill>
                  <a:srgbClr val="000000"/>
                </a:solidFill>
                <a:latin typeface="Arial"/>
              </a:rPr>
              <a:t>alpha</a:t>
            </a:r>
            <a:r>
              <a:rPr b="0" lang="en-US" sz="1200" spc="-1" strike="noStrike">
                <a:solidFill>
                  <a:srgbClr val="000000"/>
                </a:solidFill>
                <a:latin typeface="Arial"/>
              </a:rPr>
              <a:t> col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the same thing you would do by looping through the pixels setting alpha to 0 for the red pixels. This appears to have the side effect, however, that it sets the transparent color to black. It won’t matter now because it also sets alpha to 0 so the pixel is transparent. It might matter later, however, if you change alpha to some other value. This doesn’t seem to be documented so it would probably be wise not to depend on this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alling MakeTransparent, the code displays the result as befor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 Notice that there is no shading. The label’s red background is gone and the green text is op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kground of the label’s PictureBox is gray so that’s the color that shows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would happen if we called MakeTransparent to set blue as the alpha color? Black? Green?</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s TransparencyKey property tells Visual Basic what color to make transparent. If you don’t just want a hole in the form, you’ll want to hide the form’s control box, caption, and borders so they don’t float over the form. If you do hide the control box, be sure to give the form a button or something that lets the user close the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latively easy way to make interesting splash screen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s Opacity property determines how opaque it is. A value of 1 means the form is completely opaque. A value of 0 means the form is completely transpar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Opacity in two ways. First, when you drag the hbarOpacity scroll bar, the program changes the form’s Opacity. Second, when you click the Close button, the program enables a timer. When the timer fires, it decreases the form’s Opacity. When Opacity reaches 0, the form clo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pacity is a value between 0 and 1 but the Property window in the Visual Basic development environment shows it as a value between 0% and 1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Opacity doesn’t work with the TransparencyKey property. Of Opacity isn’t 1, it overrides TransparencyKey.</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he Textpad application has a semi-transparent search dialog so you can see the text below as you search. There are times when I wish Word did th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going to say too much about fonts in this talk. I may add some font material l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FontCollection class defines an object that lists the installed fonts. (Yes, it’s a little odd that this class is defined just for one collection listing the installed fonts. It would probably have made more sense to just give the FontCollection class a method that loads a list of installed fonts, but whate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FontCollection is a class that represents font families installed by the application from font files. (This class provides more methods than the InstalledFontCollection. The InstalledFontCollection class basically just provides a Families method that lists the installed fonts. This class also provides AddFontFile and AddMemoryFont methods for loading fon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lists the system’s installed fonts. It creates a new InstalledFontsCollection object. This object provides the single property Families which returns an array of FontFamily objects. It loops through the FontFamilys and displays their names in a TextBo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45DDB-36C9-4035-8374-65904E546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72146-A1F9-4390-9FEB-8560697B7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D2A46-752D-4850-8F2C-2E33CDFCF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23ED8-E812-411A-975C-8409555C2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7C164-D82B-46D3-92D6-9A9F8676E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2E1B6-F2B1-4367-B889-0B48919A8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130F5-BF49-4B7E-97E5-82CA142CD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C36D5-A529-4C49-9756-B05920690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A769F-D45A-43E3-A971-A88CF8CFC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52A75-E72A-4EF1-92E0-100B9F0CB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48E97-42AC-4734-B140-1C1253FA4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8F9F7-A841-4A00-A25D-C2BF15D7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1CA29-823A-48BA-80EE-A7B1D43F8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BC145-FF2F-46F1-8975-CAD8A4FA2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3F19B-9210-4A04-89C4-E87F3E46D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8C892-69D4-4AF7-B12F-4C88FB0D8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586C3-A24F-49DF-B145-B5A7D589B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6CC11-7BBA-4DF6-AD95-D98FD5476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725F1-9F8D-444C-B71B-A93736155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CF537-794D-4F5E-903D-1091A705D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DB436-5748-454A-ABBB-BFE8DD902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1A67-81BC-4BC5-8FE8-9B3D06DEA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7218-DD27-4BE3-A8C2-3A493AA8F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09F8F-1429-4E3C-AACB-CE6166B52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2748-F5A3-4A37-9CB5-897D6DD0D7E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6384-B0E7-42AC-A300-F385C5E2B6F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cond Outline Level</a:t>
            </a:r>
            <a:endParaRPr b="0" lang="en-US" sz="2800" spc="-1" strike="noStrike">
              <a:solidFill>
                <a:srgbClr val="ffffcc"/>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Third Outline Level</a:t>
            </a:r>
            <a:endParaRPr b="0" lang="en-US" sz="2400" spc="-1" strike="noStrike">
              <a:solidFill>
                <a:srgbClr val="ffcc99"/>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Tahoma"/>
              </a:rPr>
              <a:t>Fourth Outline Level</a:t>
            </a:r>
            <a:endParaRPr b="0" lang="en-US" sz="2000" spc="-1" strike="noStrike">
              <a:solidFill>
                <a:srgbClr val="ff9999"/>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Fifth Outline Level</a:t>
            </a:r>
            <a:endParaRPr b="0" lang="en-US" sz="2000" spc="-1" strike="noStrike">
              <a:solidFill>
                <a:srgbClr val="ff6699"/>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ixth Outline Level</a:t>
            </a:r>
            <a:endParaRPr b="0" lang="en-US" sz="2000" spc="-1" strike="noStrike">
              <a:solidFill>
                <a:srgbClr val="ff6699"/>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eventh Outline Level</a:t>
            </a:r>
            <a:endParaRPr b="0" lang="en-US" sz="2000" spc="-1" strike="noStrike">
              <a:solidFill>
                <a:srgbClr val="ff66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odStephens@vb-helper.com" TargetMode="External"/><Relationship Id="rId2" Type="http://schemas.openxmlformats.org/officeDocument/2006/relationships/hyperlink" Target="http://www.vb-helper.com/" TargetMode="External"/><Relationship Id="rId3" Type="http://schemas.openxmlformats.org/officeDocument/2006/relationships/image" Target="../media/image1.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045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Fun with GDI+</a:t>
            </a:r>
            <a:endParaRPr b="1" lang="en-US" sz="5400" spc="-1" strike="noStrike">
              <a:solidFill>
                <a:srgbClr val="eaeaea"/>
              </a:solidFill>
              <a:latin typeface="Tahoma"/>
            </a:endParaRPr>
          </a:p>
        </p:txBody>
      </p:sp>
      <p:sp>
        <p:nvSpPr>
          <p:cNvPr id="117" name="PlaceHolder 2"/>
          <p:cNvSpPr>
            <a:spLocks noGrp="1"/>
          </p:cNvSpPr>
          <p:nvPr>
            <p:ph type="subTitle"/>
          </p:nvPr>
        </p:nvSpPr>
        <p:spPr>
          <a:xfrm>
            <a:off x="1066320" y="2209680"/>
            <a:ext cx="7239240" cy="990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ing GDI+ in VB .NET</a:t>
            </a:r>
            <a:endParaRPr b="0" lang="en-US" sz="3200" spc="-1" strike="noStrike">
              <a:solidFill>
                <a:srgbClr val="ffffff"/>
              </a:solidFill>
              <a:latin typeface="Tahoma"/>
            </a:endParaRPr>
          </a:p>
        </p:txBody>
      </p:sp>
      <p:sp>
        <p:nvSpPr>
          <p:cNvPr id="118" name=""/>
          <p:cNvSpPr/>
          <p:nvPr/>
        </p:nvSpPr>
        <p:spPr>
          <a:xfrm>
            <a:off x="1066680" y="4800600"/>
            <a:ext cx="5791320" cy="12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d Stephe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1"/>
              </a:rPr>
              <a:t>RodStephens@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2"/>
              </a:rPr>
              <a:t>http://www.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vb-helper.com/fun_with_gdi.html</a:t>
            </a:r>
            <a:endParaRPr b="0" lang="en-US" sz="1800" spc="-1" strike="noStrike">
              <a:solidFill>
                <a:srgbClr val="ffffff"/>
              </a:solidFill>
              <a:latin typeface="Arial"/>
            </a:endParaRPr>
          </a:p>
        </p:txBody>
      </p:sp>
      <p:pic>
        <p:nvPicPr>
          <p:cNvPr id="119" name="" descr=""/>
          <p:cNvPicPr/>
          <p:nvPr/>
        </p:nvPicPr>
        <p:blipFill>
          <a:blip r:embed="rId3"/>
          <a:stretch/>
        </p:blipFill>
        <p:spPr>
          <a:xfrm>
            <a:off x="6553080" y="3200400"/>
            <a:ext cx="2114640" cy="2619360"/>
          </a:xfrm>
          <a:prstGeom prst="rect">
            <a:avLst/>
          </a:prstGeom>
          <a:ln w="0">
            <a:noFill/>
          </a:ln>
        </p:spPr>
      </p:pic>
      <p:sp>
        <p:nvSpPr>
          <p:cNvPr id="4" name="PlaceHolder 3"/>
          <p:cNvSpPr>
            <a:spLocks noGrp="1"/>
          </p:cNvSpPr>
          <p:nvPr>
            <p:ph type="ftr" idx="5"/>
          </p:nvPr>
        </p:nvSpPr>
        <p:spPr/>
        <p:txBody>
          <a:bodyPr/>
          <a:p>
            <a:r>
              <a:t>Denver Visual Studio Users Group</a:t>
            </a:r>
          </a:p>
        </p:txBody>
      </p:sp>
      <p:sp>
        <p:nvSpPr>
          <p:cNvPr id="5" name="PlaceHolder 4"/>
          <p:cNvSpPr>
            <a:spLocks noGrp="1"/>
          </p:cNvSpPr>
          <p:nvPr>
            <p:ph type="sldNum" idx="6"/>
          </p:nvPr>
        </p:nvSpPr>
        <p:spPr/>
        <p:txBody>
          <a:bodyPr/>
          <a:p>
            <a:fld id="{EA515ADE-7C65-40CA-ADCF-878B682EA251}" type="slidenum">
              <a:t>1</a:t>
            </a:fld>
          </a:p>
        </p:txBody>
      </p:sp>
      <p:sp>
        <p:nvSpPr>
          <p:cNvPr id="6" name="PlaceHolder 5"/>
          <p:cNvSpPr>
            <a:spLocks noGrp="1"/>
          </p:cNvSpPr>
          <p:nvPr>
            <p:ph type="dt" idx="4"/>
          </p:nvPr>
        </p:nvSpPr>
        <p:spPr/>
        <p:txBody>
          <a:bodyPr/>
          <a:p>
            <a:r>
              <a:rPr lang="en-US"/>
              <a:t>July 25, 2003</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Printing</a:t>
            </a:r>
            <a:endParaRPr b="1" lang="en-US" sz="40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tDocument</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classe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argins</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ageSettings</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aperSize</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aperSource</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interResolution</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interSetting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3AFE0C7-5D4D-4A0A-86AD-9BC3D129A3DF}" type="slidenum">
              <a:t>10</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Design</a:t>
            </a:r>
            <a:endParaRPr b="1" lang="en-US" sz="40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olboxItem</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editor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itmapEditor</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ontEditor</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mageEditor</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D5F5A92-6491-4D4F-8BC2-5E5F1A7955C2}" type="slidenum">
              <a:t>11</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685800" y="26668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DI+?</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Process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BE622E3-C056-4ECC-BAB9-7DD2106E4CDF}" type="slidenum">
              <a:t>12</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ng</a:t>
            </a: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6 and VB .NET approache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fying color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ting Graphics Object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ns and Brush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A55D653-24C3-4F61-A75E-19D712ED220C}" type="slidenum">
              <a:t>13</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ng in VB 6</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propertie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l a drawing metho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F72AEE8-A38C-436F-BE12-C59EACE4620B}" type="slidenum">
              <a:t>14</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llipse in VB6</a:t>
            </a: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rivate Sub cmdDrawEllipse_Click()</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Me.DrawWidth = 3</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Me.FillColor = vbBlue</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Me.FillStyle = vbDownwardDiagonal</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Me.Circle (ScaleWidth / 2, ScaleHeight / 2), _</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caleWidth * 0.45, vbRed, , , _</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caleHeight / ScaleWidth</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nd Sub</a:t>
            </a:r>
            <a:endParaRPr b="0" lang="en-US" sz="1800" spc="-1" strike="noStrike">
              <a:solidFill>
                <a:srgbClr val="ffffff"/>
              </a:solidFill>
              <a:latin typeface="Tahoma"/>
            </a:endParaRPr>
          </a:p>
        </p:txBody>
      </p:sp>
      <p:sp>
        <p:nvSpPr>
          <p:cNvPr id="157" name=""/>
          <p:cNvSpPr/>
          <p:nvPr/>
        </p:nvSpPr>
        <p:spPr>
          <a:xfrm>
            <a:off x="5715000" y="4191120"/>
            <a:ext cx="2971800" cy="1828800"/>
          </a:xfrm>
          <a:prstGeom prst="ellipse">
            <a:avLst/>
          </a:prstGeom>
          <a:blipFill rotWithShape="0">
            <a:blip r:embed="rId1"/>
            <a:srcRect/>
            <a:tile tx="0" ty="0" sx="100000" sy="100000" algn="ctr"/>
          </a:blip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19A632A-F021-4749-8825-E8E24E39D2E2}" type="slidenum">
              <a:t>15</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ng in VB .NET</a:t>
            </a: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drawing object (Graphic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drawing property objects (Pen and Brush)</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l drawing object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142B100-F4E3-490A-8917-7252627D7FF1}" type="slidenum">
              <a:t>16</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llipse in VB .NET</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Imports System.Drawing.Drawing2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rivate Sub btnDrawEllipse_Click(...)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Dim gr As Graphics = Me.CreateGraphic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Dim ellipse_brush As New HatchBrush( _</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HatchStyle.BackwardDiagonal, _</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olor.Blue, Me.BackColo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gr.FillEllipse(ellipse_brush, 0, 0, _</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Me.ClientSize.Width, Me.ClientSize.Heigh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Dim ellipse_pen As New Pen(Color.Red, 5)</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gr.DrawEllipse(ellipse_pen, 0, 0, _</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Me.ClientSize.Width, Me.ClientSize.Heigh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nd Su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DF440FD-FC61-4A68-9B24-3300EA98CDB2}" type="slidenum">
              <a:t>17</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ecifying Colors</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d colors</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urier New"/>
              </a:rPr>
              <a:t>Color.Red</a:t>
            </a:r>
            <a:endParaRPr b="0" lang="en-US" sz="2800" spc="-1" strike="noStrike">
              <a:solidFill>
                <a:srgbClr val="ffffcc"/>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name</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urier New"/>
              </a:rPr>
              <a:t>Color.FromName("DarkMagenta")</a:t>
            </a:r>
            <a:endParaRPr b="0" lang="en-US" sz="2800" spc="-1" strike="noStrike">
              <a:solidFill>
                <a:srgbClr val="ffffcc"/>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ARGB values</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urier New"/>
              </a:rPr>
              <a:t>Color.FromArgb(a, r, g, b)</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AB26A59-2DC5-467C-9FF1-878E3BFFF57B}" type="slidenum">
              <a:t>18</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tting Graphics Objects</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int event handler</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Graphic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9131772-3086-4C90-AC1D-65D5594D1CAA}" type="slidenum">
              <a:t>19</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685800" y="2057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DI+?</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Process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CA20FDE-E1FD-4848-89FB-25174A0C0F3C}" type="slidenum">
              <a:t>2</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int Event Handler</a:t>
            </a:r>
            <a:endParaRPr b="1" lang="en-US" sz="4400" spc="-1" strike="noStrike">
              <a:solidFill>
                <a:srgbClr val="eaeaea"/>
              </a:solidFill>
              <a:latin typeface="Tahoma"/>
            </a:endParaRPr>
          </a:p>
        </p:txBody>
      </p:sp>
      <p:sp>
        <p:nvSpPr>
          <p:cNvPr id="16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Draw lines using the Graphics objec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provided by the event handle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ivate Sub Form1_Paint(ByVal sender As Object,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ByVal e As System.Windows.Forms.PaintEventArgs)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Handles MyBase.Pain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99cc00"/>
                </a:solidFill>
                <a:latin typeface="Courier New"/>
              </a:rPr>
              <a:t>' Create a Pe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im orange_pen As New Pen(Color.Orange, 3)</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99cc00"/>
                </a:solidFill>
                <a:latin typeface="Courier New"/>
              </a:rPr>
              <a:t>' Draw lin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Graphics.DrawLine(orange_pen,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0, 0, ClientSize.Width, ClientSize.Heigh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Graphics.DrawLine(orange_pen,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0, ClientSize.Height, ClientSize.Width, 0)</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Graphics.DrawRectangle(orange_pen,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1, 1, ClientSize.Width - 3, ClientSize.Height - 3)</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nd Sub</a:t>
            </a:r>
            <a:endParaRPr b="0" lang="en-US" sz="1600" spc="-1" strike="noStrike">
              <a:solidFill>
                <a:srgbClr val="ffffff"/>
              </a:solidFill>
              <a:latin typeface="Tahoma"/>
            </a:endParaRPr>
          </a:p>
        </p:txBody>
      </p:sp>
      <p:sp>
        <p:nvSpPr>
          <p:cNvPr id="168" name=""/>
          <p:cNvSpPr/>
          <p:nvPr/>
        </p:nvSpPr>
        <p:spPr>
          <a:xfrm rot="10800000">
            <a:off x="228600" y="4505040"/>
            <a:ext cx="454680" cy="1682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in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61C5C18-6BE1-4E7A-8A0A-587279E95D98}" type="slidenum">
              <a:t>20</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int Event Handler (2)</a:t>
            </a:r>
            <a:endParaRPr b="1" lang="en-US" sz="4400" spc="-1" strike="noStrike">
              <a:solidFill>
                <a:srgbClr val="eaeaea"/>
              </a:solidFill>
              <a:latin typeface="Tahoma"/>
            </a:endParaRPr>
          </a:p>
        </p:txBody>
      </p:sp>
      <p:pic>
        <p:nvPicPr>
          <p:cNvPr id="170" name="" descr=""/>
          <p:cNvPicPr/>
          <p:nvPr/>
        </p:nvPicPr>
        <p:blipFill>
          <a:blip r:embed="rId1"/>
          <a:stretch/>
        </p:blipFill>
        <p:spPr>
          <a:xfrm>
            <a:off x="3548160" y="2533680"/>
            <a:ext cx="2733480" cy="308592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9B24FABF-B2FC-4F23-A8B2-EC826F5E26BD}" type="slidenum">
              <a:t>21</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eateGraphics</a:t>
            </a:r>
            <a:endParaRPr b="1" lang="en-US" sz="4400" spc="-1" strike="noStrike">
              <a:solidFill>
                <a:srgbClr val="eaeaea"/>
              </a:solidFill>
              <a:latin typeface="Tahoma"/>
            </a:endParaRPr>
          </a:p>
        </p:txBody>
      </p:sp>
      <p:sp>
        <p:nvSpPr>
          <p:cNvPr id="17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ivate Sub Form1_Paint(ByVal sender As Object, _</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ByVal e As System.Windows.Forms.PaintEventArgs) _</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Handles MyBase.Paint</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99cc00"/>
                </a:solidFill>
                <a:latin typeface="Courier New"/>
              </a:rPr>
              <a:t>' Create a Pen.</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im orange_pen As New Pen(Color.Orange, 3)</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99cc00"/>
                </a:solidFill>
                <a:latin typeface="Courier New"/>
              </a:rPr>
              <a:t>' Create a Graphics object.</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im gr As Graphics = CreateGraphics()</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99cc00"/>
                </a:solidFill>
                <a:latin typeface="Courier New"/>
              </a:rPr>
              <a:t>' Draw lines.</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r.DrawLine(orange_pen, _</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0, 0, ClientSize.Width, ClientSize.Height)</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r.DrawLine(orange_pen, _</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0, ClientSize.Height, ClientSize.Width, 0)</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r.DrawRectangle(orange_pen, _</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1, 1, ClientSize.Width - 3, ClientSize.Height - 3)</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nd Sub</a:t>
            </a:r>
            <a:endParaRPr b="0" lang="en-US" sz="1600" spc="-1" strike="noStrike">
              <a:solidFill>
                <a:srgbClr val="ffffff"/>
              </a:solidFill>
              <a:latin typeface="Tahoma"/>
            </a:endParaRPr>
          </a:p>
        </p:txBody>
      </p:sp>
      <p:sp>
        <p:nvSpPr>
          <p:cNvPr id="173" name=""/>
          <p:cNvSpPr/>
          <p:nvPr/>
        </p:nvSpPr>
        <p:spPr>
          <a:xfrm rot="10800000">
            <a:off x="228600" y="4375440"/>
            <a:ext cx="454680" cy="1813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int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399B876-7D76-47AB-A687-39F4957B933D}" type="slidenum">
              <a:t>22</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eateGraphics (2)</a:t>
            </a:r>
            <a:endParaRPr b="1" lang="en-US" sz="4400" spc="-1" strike="noStrike">
              <a:solidFill>
                <a:srgbClr val="eaeaea"/>
              </a:solidFill>
              <a:latin typeface="Tahoma"/>
            </a:endParaRPr>
          </a:p>
        </p:txBody>
      </p:sp>
      <p:sp>
        <p:nvSpPr>
          <p:cNvPr id="175" name=""/>
          <p:cNvSpPr/>
          <p:nvPr/>
        </p:nvSpPr>
        <p:spPr>
          <a:xfrm>
            <a:off x="4191120" y="4800600"/>
            <a:ext cx="464796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To erase before drawing, add this.</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gr.FillRectangle( _</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SolidBrush(Me.BackColor), _</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e.DisplayRectangle)</a:t>
            </a:r>
            <a:endParaRPr b="0" lang="en-US" sz="1600" spc="-1" strike="noStrike">
              <a:solidFill>
                <a:srgbClr val="ffffff"/>
              </a:solidFill>
              <a:latin typeface="Arial"/>
            </a:endParaRPr>
          </a:p>
        </p:txBody>
      </p:sp>
      <p:pic>
        <p:nvPicPr>
          <p:cNvPr id="176" name="" descr=""/>
          <p:cNvPicPr/>
          <p:nvPr/>
        </p:nvPicPr>
        <p:blipFill>
          <a:blip r:embed="rId1"/>
          <a:stretch/>
        </p:blipFill>
        <p:spPr>
          <a:xfrm>
            <a:off x="1219320" y="2286000"/>
            <a:ext cx="2638440" cy="308628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6463D7A8-E979-4AE1-B208-A1C1F098AE0A}" type="slidenum">
              <a:t>23</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aphics Methods</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Arc</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Bezier, DrawBezier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ClosedCurve</a:t>
            </a:r>
            <a:r>
              <a:rPr b="0" lang="en-US" sz="2000" spc="-1" strike="noStrike">
                <a:solidFill>
                  <a:srgbClr val="ffffff"/>
                </a:solidFill>
                <a:latin typeface="Tahoma"/>
              </a:rPr>
              <a:t>, DrawCurv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Ellips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Icon, DrawIconUnstretched, DrawImage, DrawImageUnscaled</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Line, DrawLin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Path</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Pi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Polygon</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Rectangle, DrawRectangl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Strin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E0D8B1D-3852-4866-A0D4-9BC8C667DDC0}" type="slidenum">
              <a:t>24</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validate</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ntrol’s Invalidate method sends a Paint event covering the entire contro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D2A7620-930F-4F83-8301-DFD1FE0561A9}" type="slidenum">
              <a:t>25</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ens and Brushes</a:t>
            </a:r>
            <a:endParaRPr b="1" lang="en-US" sz="4400" spc="-1" strike="noStrike">
              <a:solidFill>
                <a:srgbClr val="eaeaea"/>
              </a:solidFill>
              <a:latin typeface="Tahoma"/>
            </a:endParaRPr>
          </a:p>
        </p:txBody>
      </p:sp>
      <p:sp>
        <p:nvSpPr>
          <p:cNvPr id="18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ushes</a:t>
            </a:r>
            <a:endParaRPr b="0" lang="en-US" sz="32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ock Brushes</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olidBrush</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atchBrush</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extureBrush</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LinearGradientBrush</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athGradientBrush</a:t>
            </a:r>
            <a:endParaRPr b="0" lang="en-US" sz="2800" spc="-1" strike="noStrike">
              <a:solidFill>
                <a:srgbClr val="ffffcc"/>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ns</a:t>
            </a:r>
            <a:endParaRPr b="0" lang="en-US" sz="32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ock Pens</a:t>
            </a:r>
            <a:endParaRPr b="0" lang="en-US" sz="2800" spc="-1" strike="noStrike">
              <a:solidFill>
                <a:srgbClr val="ffffcc"/>
              </a:solidFill>
              <a:latin typeface="Tahoma"/>
            </a:endParaRPr>
          </a:p>
        </p:txBody>
      </p:sp>
      <p:sp>
        <p:nvSpPr>
          <p:cNvPr id="183" name=""/>
          <p:cNvSpPr/>
          <p:nvPr/>
        </p:nvSpPr>
        <p:spPr>
          <a:xfrm rot="10800000">
            <a:off x="228600" y="2728440"/>
            <a:ext cx="454680" cy="353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t>
            </a:r>
            <a:r>
              <a:rPr b="0" lang="en-US" sz="1800" spc="-1" strike="noStrike">
                <a:solidFill>
                  <a:srgbClr val="ffffff"/>
                </a:solidFill>
                <a:latin typeface="Tahoma"/>
              </a:rPr>
              <a:t>StockPensAndBrush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EC29070-0C68-4C36-B5B1-08F16758221C}" type="slidenum">
              <a:t>26</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ock Pens and Brushes</a:t>
            </a:r>
            <a:endParaRPr b="1" lang="en-US" sz="4400" spc="-1" strike="noStrike">
              <a:solidFill>
                <a:srgbClr val="eaeaea"/>
              </a:solidFill>
              <a:latin typeface="Tahoma"/>
            </a:endParaRPr>
          </a:p>
        </p:txBody>
      </p:sp>
      <p:sp>
        <p:nvSpPr>
          <p:cNvPr id="185"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rect As New Rectangle(10, 10,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e.ClientSize.Width - 20,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e.ClientSize.Height - 20)</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Fill a rectangle with a solid Aqua brush.</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Graphics.FillRectangle(Brushes.Aqua(), rec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Outline the rectangle with 1-pixel line.</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Graphics.DrawRectangle(Pens.Blue(), rect)</a:t>
            </a:r>
            <a:endParaRPr b="0" lang="en-US" sz="1600" spc="-1" strike="noStrike">
              <a:solidFill>
                <a:srgbClr val="ffffff"/>
              </a:solidFill>
              <a:latin typeface="Tahoma"/>
            </a:endParaRPr>
          </a:p>
        </p:txBody>
      </p:sp>
      <p:sp>
        <p:nvSpPr>
          <p:cNvPr id="186" name=""/>
          <p:cNvSpPr/>
          <p:nvPr/>
        </p:nvSpPr>
        <p:spPr>
          <a:xfrm rot="10800000">
            <a:off x="228600" y="2728440"/>
            <a:ext cx="454680" cy="353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t>
            </a:r>
            <a:r>
              <a:rPr b="0" lang="en-US" sz="1800" spc="-1" strike="noStrike">
                <a:solidFill>
                  <a:srgbClr val="ffffff"/>
                </a:solidFill>
                <a:latin typeface="Tahoma"/>
              </a:rPr>
              <a:t>StockPensAndBrushes</a:t>
            </a:r>
            <a:endParaRPr b="0" lang="en-US" sz="1800" spc="-1" strike="noStrike">
              <a:solidFill>
                <a:srgbClr val="ffffff"/>
              </a:solidFill>
              <a:latin typeface="Arial"/>
            </a:endParaRPr>
          </a:p>
        </p:txBody>
      </p:sp>
      <p:pic>
        <p:nvPicPr>
          <p:cNvPr id="187" name="" descr=""/>
          <p:cNvPicPr/>
          <p:nvPr/>
        </p:nvPicPr>
        <p:blipFill>
          <a:blip r:embed="rId1"/>
          <a:stretch/>
        </p:blipFill>
        <p:spPr>
          <a:xfrm>
            <a:off x="7321680" y="1600200"/>
            <a:ext cx="1504800" cy="138096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DEAF205-4BD0-42FC-91AB-F7D6BD0B4AC9}" type="slidenum">
              <a:t>27</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lidBrush</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im rect As New Rectangle(10, 10,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e.ClientSize.Width - 20,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e.ClientSize.Height - 20)</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Fill a rectangle with a solid magenta brush.</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Graphics.FillRectangle(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SolidBrush(Color.Magenta), rec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Outline the rectangle with 10-pixel lin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Graphics.DrawRectangle(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Pen(Color.DarkMagenta, 10), rect)</a:t>
            </a:r>
            <a:endParaRPr b="0" lang="en-US" sz="1600" spc="-1" strike="noStrike">
              <a:solidFill>
                <a:srgbClr val="ffffff"/>
              </a:solidFill>
              <a:latin typeface="Tahoma"/>
            </a:endParaRPr>
          </a:p>
        </p:txBody>
      </p:sp>
      <p:sp>
        <p:nvSpPr>
          <p:cNvPr id="190" name=""/>
          <p:cNvSpPr/>
          <p:nvPr/>
        </p:nvSpPr>
        <p:spPr>
          <a:xfrm rot="10800000">
            <a:off x="228600" y="3925080"/>
            <a:ext cx="454680" cy="2292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olid</a:t>
            </a:r>
            <a:r>
              <a:rPr b="0" lang="en-US" sz="1800" spc="-1" strike="noStrike">
                <a:solidFill>
                  <a:srgbClr val="ffffff"/>
                </a:solidFill>
                <a:latin typeface="Tahoma"/>
              </a:rPr>
              <a:t>Brush</a:t>
            </a:r>
            <a:endParaRPr b="0" lang="en-US" sz="1800" spc="-1" strike="noStrike">
              <a:solidFill>
                <a:srgbClr val="ffffff"/>
              </a:solidFill>
              <a:latin typeface="Arial"/>
            </a:endParaRPr>
          </a:p>
        </p:txBody>
      </p:sp>
      <p:pic>
        <p:nvPicPr>
          <p:cNvPr id="191" name="" descr=""/>
          <p:cNvPicPr/>
          <p:nvPr/>
        </p:nvPicPr>
        <p:blipFill>
          <a:blip r:embed="rId1"/>
          <a:stretch/>
        </p:blipFill>
        <p:spPr>
          <a:xfrm>
            <a:off x="7350120" y="1600200"/>
            <a:ext cx="1476360" cy="145728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C9F078E-C880-49D1-A2E8-834C0F18569D}" type="slidenum">
              <a:t>28</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tchBrush</a:t>
            </a:r>
            <a:endParaRPr b="1" lang="en-US" sz="4400" spc="-1" strike="noStrike">
              <a:solidFill>
                <a:srgbClr val="eaeaea"/>
              </a:solidFill>
              <a:latin typeface="Tahoma"/>
            </a:endParaRPr>
          </a:p>
        </p:txBody>
      </p:sp>
      <p:sp>
        <p:nvSpPr>
          <p:cNvPr id="193"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Fill a closed curve a hatched brush.</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Graphics.FillClosedCurve( _</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HatchBrush(HatchStyle.LargeConfetti, _</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olor.Blue, Color.LightBlue), _</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ts)</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Make a pen.</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a_pen As New Pen(Color.DarkSlateBlue, 3)</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dash_pattern As Single() = {10, 2, 5, 2}</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_pen.DashPattern = dash_pattern</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_pen.DashStyle = DashStyle.Custom</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Outline the closed curve.</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Graphics.DrawClosedCurve(a_pen, pts)</a:t>
            </a:r>
            <a:endParaRPr b="0" lang="en-US" sz="1600" spc="-1" strike="noStrike">
              <a:solidFill>
                <a:srgbClr val="ffffff"/>
              </a:solidFill>
              <a:latin typeface="Tahoma"/>
            </a:endParaRPr>
          </a:p>
        </p:txBody>
      </p:sp>
      <p:sp>
        <p:nvSpPr>
          <p:cNvPr id="194" name=""/>
          <p:cNvSpPr/>
          <p:nvPr/>
        </p:nvSpPr>
        <p:spPr>
          <a:xfrm rot="10800000">
            <a:off x="228600" y="3824280"/>
            <a:ext cx="454680" cy="2400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Hatch</a:t>
            </a:r>
            <a:r>
              <a:rPr b="0" lang="en-US" sz="1800" spc="-1" strike="noStrike">
                <a:solidFill>
                  <a:srgbClr val="ffffff"/>
                </a:solidFill>
                <a:latin typeface="Tahoma"/>
              </a:rPr>
              <a:t>Brush</a:t>
            </a:r>
            <a:endParaRPr b="0" lang="en-US" sz="1800" spc="-1" strike="noStrike">
              <a:solidFill>
                <a:srgbClr val="ffffff"/>
              </a:solidFill>
              <a:latin typeface="Arial"/>
            </a:endParaRPr>
          </a:p>
        </p:txBody>
      </p:sp>
      <p:pic>
        <p:nvPicPr>
          <p:cNvPr id="195" name="" descr=""/>
          <p:cNvPicPr/>
          <p:nvPr/>
        </p:nvPicPr>
        <p:blipFill>
          <a:blip r:embed="rId1"/>
          <a:stretch/>
        </p:blipFill>
        <p:spPr>
          <a:xfrm>
            <a:off x="7531200" y="1600200"/>
            <a:ext cx="1295280" cy="175248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312CEFD-8710-47D0-B4B3-059C6A760F96}" type="slidenum">
              <a:t>29</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GDI+?</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DI = Graphic Device Interfa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DI+ = GDI.NE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EACA3C7-FDEA-41A7-9907-8D682D216E2F}" type="slidenum">
              <a:t>3</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extureBrush</a:t>
            </a:r>
            <a:endParaRPr b="1" lang="en-US" sz="4400" spc="-1" strike="noStrike">
              <a:solidFill>
                <a:srgbClr val="eaeaea"/>
              </a:solidFill>
              <a:latin typeface="Tahoma"/>
            </a:endParaRPr>
          </a:p>
        </p:txBody>
      </p:sp>
      <p:sp>
        <p:nvSpPr>
          <p:cNvPr id="197"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pts() As Point = { _</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Point(20, 5), ... , New Point(5, 60) _</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Fill a polygon with a textured brush.</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Graphics.FillPolygon( _</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TextureBrush(picFace.Image), pts)</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Make a pen.</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a_pen As New Pen(Color.Tomato, 3)</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_pen.DashStyle = Drawing.Drawing2D.DashStyle.Dash</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Outline the polygon.</a:t>
            </a:r>
            <a:endParaRPr b="0" lang="en-US" sz="16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Graphics.DrawPolygon(a_pen, pts)</a:t>
            </a:r>
            <a:endParaRPr b="0" lang="en-US" sz="1600" spc="-1" strike="noStrike">
              <a:solidFill>
                <a:srgbClr val="ffffff"/>
              </a:solidFill>
              <a:latin typeface="Tahoma"/>
            </a:endParaRPr>
          </a:p>
        </p:txBody>
      </p:sp>
      <p:sp>
        <p:nvSpPr>
          <p:cNvPr id="198" name=""/>
          <p:cNvSpPr/>
          <p:nvPr/>
        </p:nvSpPr>
        <p:spPr>
          <a:xfrm rot="10800000">
            <a:off x="228600" y="3630240"/>
            <a:ext cx="454680" cy="2593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Texture</a:t>
            </a:r>
            <a:r>
              <a:rPr b="0" lang="en-US" sz="1800" spc="-1" strike="noStrike">
                <a:solidFill>
                  <a:srgbClr val="ffffff"/>
                </a:solidFill>
                <a:latin typeface="Tahoma"/>
              </a:rPr>
              <a:t>Brush</a:t>
            </a:r>
            <a:endParaRPr b="0" lang="en-US" sz="1800" spc="-1" strike="noStrike">
              <a:solidFill>
                <a:srgbClr val="ffffff"/>
              </a:solidFill>
              <a:latin typeface="Arial"/>
            </a:endParaRPr>
          </a:p>
        </p:txBody>
      </p:sp>
      <p:pic>
        <p:nvPicPr>
          <p:cNvPr id="199" name="" descr=""/>
          <p:cNvPicPr/>
          <p:nvPr/>
        </p:nvPicPr>
        <p:blipFill>
          <a:blip r:embed="rId1"/>
          <a:stretch/>
        </p:blipFill>
        <p:spPr>
          <a:xfrm>
            <a:off x="7454880" y="1600200"/>
            <a:ext cx="1371600" cy="175248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755DA25-E2C3-40A7-B45B-1F1FEE4C7116}" type="slidenum">
              <a:t>30</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nearGradientBrush (1)</a:t>
            </a:r>
            <a:endParaRPr b="1" lang="en-US" sz="4400" spc="-1" strike="noStrike">
              <a:solidFill>
                <a:srgbClr val="eaeaea"/>
              </a:solidFill>
              <a:latin typeface="Tahoma"/>
            </a:endParaRPr>
          </a:p>
        </p:txBody>
      </p:sp>
      <p:sp>
        <p:nvSpPr>
          <p:cNvPr id="201"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xt = " VB" &amp; vbCrLf &amp; ".NE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ont_size As Single = 64</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ext_path As New Graphics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ont_family As New FontFamily("Comic Sans MS")</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text to the 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ext_path.AddString(txt, font_family,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ystem.Drawing.FontStyle.Bold,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nt_size, New PointF(5, 5),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ystem.Drawing.StringFormat.GenericDefaul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text's width and heigh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xt_size As SizeF =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MeasureString(txt,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Font(font_family, font_size,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ntStyle.Bold, GraphicsUnit.Pixel))</a:t>
            </a:r>
            <a:endParaRPr b="0" lang="en-US" sz="1400" spc="-1" strike="noStrike">
              <a:solidFill>
                <a:srgbClr val="ffffff"/>
              </a:solidFill>
              <a:latin typeface="Tahoma"/>
            </a:endParaRPr>
          </a:p>
        </p:txBody>
      </p:sp>
      <p:sp>
        <p:nvSpPr>
          <p:cNvPr id="202" name=""/>
          <p:cNvSpPr/>
          <p:nvPr/>
        </p:nvSpPr>
        <p:spPr>
          <a:xfrm rot="10800000">
            <a:off x="228600" y="2884680"/>
            <a:ext cx="454680" cy="3384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nearGradient</a:t>
            </a:r>
            <a:r>
              <a:rPr b="0" lang="en-US" sz="1800" spc="-1" strike="noStrike">
                <a:solidFill>
                  <a:srgbClr val="ffffff"/>
                </a:solidFill>
                <a:latin typeface="Tahoma"/>
              </a:rPr>
              <a:t>Brush</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C74565A-E90B-4A55-827D-47D8A391B333}" type="slidenum">
              <a:t>31</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nearGradientBrush (2)</a:t>
            </a:r>
            <a:endParaRPr b="1" lang="en-US" sz="4400" spc="-1" strike="noStrike">
              <a:solidFill>
                <a:srgbClr val="eaeaea"/>
              </a:solidFill>
              <a:latin typeface="Tahoma"/>
            </a:endParaRPr>
          </a:p>
        </p:txBody>
      </p:sp>
      <p:sp>
        <p:nvSpPr>
          <p:cNvPr id="204"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the path with a gradien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FillPath(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System.Drawing.Drawing2D.LinearGradientBrush(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5, 5),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5 + txt_size.Width, 5 + txt_size.Height),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lor.Red,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lor.Blue),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ext_pat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Outline the pat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Path(Pens.Black, text_path)</a:t>
            </a:r>
            <a:endParaRPr b="0" lang="en-US" sz="1400" spc="-1" strike="noStrike">
              <a:solidFill>
                <a:srgbClr val="ffffff"/>
              </a:solidFill>
              <a:latin typeface="Tahoma"/>
            </a:endParaRPr>
          </a:p>
        </p:txBody>
      </p:sp>
      <p:sp>
        <p:nvSpPr>
          <p:cNvPr id="205" name=""/>
          <p:cNvSpPr/>
          <p:nvPr/>
        </p:nvSpPr>
        <p:spPr>
          <a:xfrm rot="10800000">
            <a:off x="228600" y="2884680"/>
            <a:ext cx="454680" cy="3384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nearGradient</a:t>
            </a:r>
            <a:r>
              <a:rPr b="0" lang="en-US" sz="1800" spc="-1" strike="noStrike">
                <a:solidFill>
                  <a:srgbClr val="ffffff"/>
                </a:solidFill>
                <a:latin typeface="Tahoma"/>
              </a:rPr>
              <a:t>Brush</a:t>
            </a:r>
            <a:endParaRPr b="0" lang="en-US" sz="1800" spc="-1" strike="noStrike">
              <a:solidFill>
                <a:srgbClr val="ffffff"/>
              </a:solidFill>
              <a:latin typeface="Arial"/>
            </a:endParaRPr>
          </a:p>
        </p:txBody>
      </p:sp>
      <p:pic>
        <p:nvPicPr>
          <p:cNvPr id="206" name="" descr=""/>
          <p:cNvPicPr/>
          <p:nvPr/>
        </p:nvPicPr>
        <p:blipFill>
          <a:blip r:embed="rId1"/>
          <a:stretch/>
        </p:blipFill>
        <p:spPr>
          <a:xfrm>
            <a:off x="6873840" y="3886200"/>
            <a:ext cx="1952640" cy="213372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8C42BAA-658A-4EE5-8183-8D672192F313}" type="slidenum">
              <a:t>32</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thGradientBrush (1)</a:t>
            </a:r>
            <a:endParaRPr b="1" lang="en-US" sz="4400" spc="-1" strike="noStrike">
              <a:solidFill>
                <a:srgbClr val="eaeaea"/>
              </a:solidFill>
              <a:latin typeface="Tahoma"/>
            </a:endParaRPr>
          </a:p>
        </p:txBody>
      </p:sp>
      <p:sp>
        <p:nvSpPr>
          <p:cNvPr id="208"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pts() As Point = { ... }</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urve_path As New Graphics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urve_path.AddClosedCurve(pts, 0.5)</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efine the brus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urve_brush As New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ystem.Drawing.Drawing2D.PathGradientBrush(curve_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surround_colors() As Color = {Color.Blu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urve_brush.SurroundColors = surround_colors</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urve_brush.CenterColor = Color.Green</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the shap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FillPath(curve_brush, curve_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Outline the shap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Path(Pens.Black, curve_path)</a:t>
            </a:r>
            <a:endParaRPr b="0" lang="en-US" sz="1400" spc="-1" strike="noStrike">
              <a:solidFill>
                <a:srgbClr val="ffffff"/>
              </a:solidFill>
              <a:latin typeface="Tahoma"/>
            </a:endParaRPr>
          </a:p>
        </p:txBody>
      </p:sp>
      <p:sp>
        <p:nvSpPr>
          <p:cNvPr id="209" name=""/>
          <p:cNvSpPr/>
          <p:nvPr/>
        </p:nvSpPr>
        <p:spPr>
          <a:xfrm rot="10800000">
            <a:off x="228600" y="3061800"/>
            <a:ext cx="454680" cy="3201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thGradient</a:t>
            </a:r>
            <a:r>
              <a:rPr b="0" lang="en-US" sz="1800" spc="-1" strike="noStrike">
                <a:solidFill>
                  <a:srgbClr val="ffffff"/>
                </a:solidFill>
                <a:latin typeface="Tahoma"/>
              </a:rPr>
              <a:t>Brush</a:t>
            </a:r>
            <a:endParaRPr b="0" lang="en-US" sz="1800" spc="-1" strike="noStrike">
              <a:solidFill>
                <a:srgbClr val="ffffff"/>
              </a:solidFill>
              <a:latin typeface="Arial"/>
            </a:endParaRPr>
          </a:p>
        </p:txBody>
      </p:sp>
      <p:pic>
        <p:nvPicPr>
          <p:cNvPr id="210" name="" descr=""/>
          <p:cNvPicPr/>
          <p:nvPr/>
        </p:nvPicPr>
        <p:blipFill>
          <a:blip r:embed="rId1"/>
          <a:stretch/>
        </p:blipFill>
        <p:spPr>
          <a:xfrm>
            <a:off x="7264440" y="1600200"/>
            <a:ext cx="1562040" cy="166680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9A3EB86-4D6E-4712-B4FB-F1450E6A73B3}" type="slidenum">
              <a:t>33</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thGradientBrush (2)</a:t>
            </a:r>
            <a:endParaRPr b="1" lang="en-US" sz="4400" spc="-1" strike="noStrike">
              <a:solidFill>
                <a:srgbClr val="eaeaea"/>
              </a:solidFill>
              <a:latin typeface="Tahoma"/>
            </a:endParaRPr>
          </a:p>
        </p:txBody>
      </p:sp>
      <p:sp>
        <p:nvSpPr>
          <p:cNvPr id="21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urve_brush.CenterPoint =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PointF(wid * 0.4, hgt * 0.4)</a:t>
            </a:r>
            <a:endParaRPr b="0" lang="en-US" sz="1600" spc="-1" strike="noStrike">
              <a:solidFill>
                <a:srgbClr val="ffffff"/>
              </a:solidFill>
              <a:latin typeface="Tahoma"/>
            </a:endParaRPr>
          </a:p>
        </p:txBody>
      </p:sp>
      <p:sp>
        <p:nvSpPr>
          <p:cNvPr id="213" name=""/>
          <p:cNvSpPr/>
          <p:nvPr/>
        </p:nvSpPr>
        <p:spPr>
          <a:xfrm rot="10800000">
            <a:off x="228600" y="2935080"/>
            <a:ext cx="454680" cy="3332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thGradient</a:t>
            </a:r>
            <a:r>
              <a:rPr b="0" lang="en-US" sz="1800" spc="-1" strike="noStrike">
                <a:solidFill>
                  <a:srgbClr val="ffffff"/>
                </a:solidFill>
                <a:latin typeface="Tahoma"/>
              </a:rPr>
              <a:t>Brush2</a:t>
            </a:r>
            <a:endParaRPr b="0" lang="en-US" sz="1800" spc="-1" strike="noStrike">
              <a:solidFill>
                <a:srgbClr val="ffffff"/>
              </a:solidFill>
              <a:latin typeface="Arial"/>
            </a:endParaRPr>
          </a:p>
        </p:txBody>
      </p:sp>
      <p:pic>
        <p:nvPicPr>
          <p:cNvPr id="214" name="" descr=""/>
          <p:cNvPicPr/>
          <p:nvPr/>
        </p:nvPicPr>
        <p:blipFill>
          <a:blip r:embed="rId1"/>
          <a:stretch/>
        </p:blipFill>
        <p:spPr>
          <a:xfrm>
            <a:off x="7245360" y="1600200"/>
            <a:ext cx="1581120" cy="180972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8BA84B0-78BA-46C2-BCEA-2828226AA782}" type="slidenum">
              <a:t>34</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
          <p:cNvSpPr/>
          <p:nvPr/>
        </p:nvSpPr>
        <p:spPr>
          <a:xfrm>
            <a:off x="685800" y="327672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DI+?</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Process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A18D53C-B715-4A0D-8563-A80C00C3B36B}" type="slidenum">
              <a:t>35</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B .NET</a:t>
            </a:r>
            <a:br>
              <a:rPr sz="4400"/>
            </a:br>
            <a:r>
              <a:rPr b="1" lang="en-US" sz="4400" spc="-1" strike="noStrike">
                <a:solidFill>
                  <a:srgbClr val="eaeaea"/>
                </a:solidFill>
                <a:latin typeface="Tahoma"/>
              </a:rPr>
              <a:t>Image Processing Rocks!</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emory bitmap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ving GIFs and JPEG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ing pixel-by-pixel operation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tating and transforming imag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pha blending and transparenc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30284C1-915E-45CE-83A6-8E438E75147C}" type="slidenum">
              <a:t>36</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oading Images</a:t>
            </a:r>
            <a:endParaRPr b="1" lang="en-US" sz="4400" spc="-1" strike="noStrike">
              <a:solidFill>
                <a:srgbClr val="eaeaea"/>
              </a:solidFill>
              <a:latin typeface="Tahoma"/>
            </a:endParaRPr>
          </a:p>
        </p:txBody>
      </p:sp>
      <p:sp>
        <p:nvSpPr>
          <p:cNvPr id="22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Compose the picture's file name.</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file_name As String = Application.ExecutablePath</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ile_name =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ile_name.Substring(0, file_name.LastIndexOf("\bin")) &amp;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VBHelper2.jpg"</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Load the picture into a Bitmap.</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bm As New Bitmap(file_name)</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Display the results.</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icImage.Image = bm</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icImage.SizeMode = PictureBoxSizeMode.AutoSize</a:t>
            </a:r>
            <a:endParaRPr b="0" lang="en-US" sz="1600" spc="-1" strike="noStrike">
              <a:solidFill>
                <a:srgbClr val="ffffff"/>
              </a:solidFill>
              <a:latin typeface="Tahoma"/>
            </a:endParaRPr>
          </a:p>
        </p:txBody>
      </p:sp>
      <p:sp>
        <p:nvSpPr>
          <p:cNvPr id="222" name=""/>
          <p:cNvSpPr/>
          <p:nvPr/>
        </p:nvSpPr>
        <p:spPr>
          <a:xfrm rot="10800000">
            <a:off x="228600" y="3810240"/>
            <a:ext cx="454680" cy="2415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oadPictur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38058B8-E345-4920-85D5-BA514A5E6826}" type="slidenum">
              <a:t>37</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mory Bitmaps</a:t>
            </a:r>
            <a:endParaRPr b="1" lang="en-US" sz="4400" spc="-1" strike="noStrike">
              <a:solidFill>
                <a:srgbClr val="eaeaea"/>
              </a:solidFill>
              <a:latin typeface="Tahoma"/>
            </a:endParaRPr>
          </a:p>
        </p:txBody>
      </p:sp>
      <p:sp>
        <p:nvSpPr>
          <p:cNvPr id="224"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Make a Bitmap matching the PictureBox's size.</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bm As New Bitmap(picImage.Width, picImage.Heigh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Make a Graphics object to draw on the Bitmap.</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gr As Graphics = Graphics.FromImage(bm)</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Draw on the Graphics objec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gr.FillRectangle(...)</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Display the resul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icImage.Image = bm</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C84FAC4-AA67-412C-83A6-B430B6649646}" type="slidenum">
              <a:t>38</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ing Images</a:t>
            </a:r>
            <a:endParaRPr b="1" lang="en-US" sz="4400" spc="-1" strike="noStrike">
              <a:solidFill>
                <a:srgbClr val="eaeaea"/>
              </a:solidFill>
              <a:latin typeface="Tahoma"/>
            </a:endParaRPr>
          </a:p>
        </p:txBody>
      </p:sp>
      <p:sp>
        <p:nvSpPr>
          <p:cNvPr id="226"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Get a Bitmap.</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bm As Bitmap = picImage.Image</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Save the picture as a bitmap, JPEG, and GIF.</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bm.Save(file_name &amp; "bmp",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ystem.Drawing.Imaging.ImageFormat.Bmp)</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bm.Save(file_name &amp; "jpg",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ystem.Drawing.Imaging.ImageFormat.Jpeg)</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bm.Save(file_name &amp; "gif", _</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ystem.Drawing.Imaging.ImageFormat.Gif)</a:t>
            </a:r>
            <a:endParaRPr b="0" lang="en-US" sz="1600" spc="-1" strike="noStrike">
              <a:solidFill>
                <a:srgbClr val="ffffff"/>
              </a:solidFill>
              <a:latin typeface="Tahoma"/>
            </a:endParaRPr>
          </a:p>
        </p:txBody>
      </p:sp>
      <p:sp>
        <p:nvSpPr>
          <p:cNvPr id="227" name=""/>
          <p:cNvSpPr/>
          <p:nvPr/>
        </p:nvSpPr>
        <p:spPr>
          <a:xfrm rot="10800000">
            <a:off x="228600" y="3826080"/>
            <a:ext cx="454680" cy="2386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vePictur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70B848E-49A8-4D81-AAB4-B28CB17D5961}" type="slidenum">
              <a:t>39</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
          <p:cNvSpPr/>
          <p:nvPr/>
        </p:nvSpPr>
        <p:spPr>
          <a:xfrm>
            <a:off x="1371600" y="2057400"/>
            <a:ext cx="5334120" cy="53352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1371600" y="2590920"/>
            <a:ext cx="5334120" cy="53316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DI+ Namespaces</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Drawing</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Drawing2D</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Imaging</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Text</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Printing</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Design</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5263C95-AE1B-4CAD-A33E-9C1BDE7C4F06}" type="slidenum">
              <a:t>4</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e Parameters</a:t>
            </a:r>
            <a:endParaRPr b="1" lang="en-US" sz="4400" spc="-1" strike="noStrike">
              <a:solidFill>
                <a:srgbClr val="eaeaea"/>
              </a:solidFill>
              <a:latin typeface="Tahoma"/>
            </a:endParaRPr>
          </a:p>
        </p:txBody>
      </p:sp>
      <p:sp>
        <p:nvSpPr>
          <p:cNvPr id="229" name="PlaceHolder 2"/>
          <p:cNvSpPr>
            <a:spLocks noGrp="1"/>
          </p:cNvSpPr>
          <p:nvPr>
            <p:ph/>
          </p:nvPr>
        </p:nvSpPr>
        <p:spPr>
          <a:xfrm>
            <a:off x="1066680" y="1980720"/>
            <a:ext cx="7467840" cy="20574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tina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ring</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ream</a:t>
            </a:r>
            <a:endParaRPr b="0" lang="en-US" sz="2400" spc="-1" strike="noStrike">
              <a:solidFill>
                <a:srgbClr val="ffffcc"/>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stem.Drawing.Imaging.ImageFormat</a:t>
            </a:r>
            <a:endParaRPr b="0" lang="en-US" sz="2800" spc="-1" strike="noStrike">
              <a:solidFill>
                <a:srgbClr val="ffffff"/>
              </a:solidFill>
              <a:latin typeface="Tahoma"/>
            </a:endParaRPr>
          </a:p>
        </p:txBody>
      </p:sp>
      <p:sp>
        <p:nvSpPr>
          <p:cNvPr id="230" name=""/>
          <p:cNvSpPr/>
          <p:nvPr/>
        </p:nvSpPr>
        <p:spPr>
          <a:xfrm>
            <a:off x="1066680" y="3962520"/>
            <a:ext cx="3048120" cy="19047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Bmp</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Emf</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Exif</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ui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con</a:t>
            </a:r>
            <a:endParaRPr b="0" lang="en-US" sz="2400" spc="-1" strike="noStrike">
              <a:solidFill>
                <a:srgbClr val="ffffff"/>
              </a:solidFill>
              <a:latin typeface="Arial"/>
            </a:endParaRPr>
          </a:p>
        </p:txBody>
      </p:sp>
      <p:sp>
        <p:nvSpPr>
          <p:cNvPr id="231" name=""/>
          <p:cNvSpPr/>
          <p:nvPr/>
        </p:nvSpPr>
        <p:spPr>
          <a:xfrm>
            <a:off x="5029200" y="3962520"/>
            <a:ext cx="3048120" cy="19047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Jpe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emoryBmp</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iff</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mf</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6CBF62E-F842-46F9-B208-F96B1B5E4010}" type="slidenum">
              <a:t>40</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ixel-by-Pixel Operations</a:t>
            </a:r>
            <a:endParaRPr b="1" lang="en-US" sz="4400" spc="-1" strike="noStrike">
              <a:solidFill>
                <a:srgbClr val="eaeaea"/>
              </a:solidFill>
              <a:latin typeface="Tahoma"/>
            </a:endParaRPr>
          </a:p>
        </p:txBody>
      </p:sp>
      <p:sp>
        <p:nvSpPr>
          <p:cNvPr id="233"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bitmap and its dimension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 As Bitmap = picImage.Imag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ax = bm.Width - 1</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ymax = bm.Height - 1</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nvert the pixels to grayscal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y = 0 To ymax</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x = 0 To xmax</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onvert this pixel.</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ith bm.GetPixel(x, 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r = 0.3 * .R + 0.5 * .G + 0.2 * .B</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With</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m.SetPixel(x, y,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lor.FromArgb(255, clr, clr, cl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x</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 = bm</a:t>
            </a:r>
            <a:endParaRPr b="0" lang="en-US" sz="1400" spc="-1" strike="noStrike">
              <a:solidFill>
                <a:srgbClr val="ffffff"/>
              </a:solidFill>
              <a:latin typeface="Tahoma"/>
            </a:endParaRPr>
          </a:p>
        </p:txBody>
      </p:sp>
      <p:sp>
        <p:nvSpPr>
          <p:cNvPr id="234" name=""/>
          <p:cNvSpPr/>
          <p:nvPr/>
        </p:nvSpPr>
        <p:spPr>
          <a:xfrm rot="10800000">
            <a:off x="228600" y="3809880"/>
            <a:ext cx="454680" cy="2413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ixelByPixel</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C248734-130B-4C31-B302-F1BAB4A87C2F}" type="slidenum">
              <a:t>41</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aphics.DrawImage</a:t>
            </a:r>
            <a:endParaRPr b="1" lang="en-US" sz="4400" spc="-1" strike="noStrike">
              <a:solidFill>
                <a:srgbClr val="eaeaea"/>
              </a:solidFill>
              <a:latin typeface="Tahoma"/>
            </a:endParaRPr>
          </a:p>
        </p:txBody>
      </p:sp>
      <p:sp>
        <p:nvSpPr>
          <p:cNvPr id="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 overloaded version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py an image onto another image</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py part of an image</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py part of an image to a particular location, possibly resizing i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ap an image’s corner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EB1B1D7-84F3-40C5-9545-F90A2A01D64F}" type="slidenum">
              <a:t>42</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py an image onto another image (1)</a:t>
            </a:r>
            <a:endParaRPr b="1" lang="en-US" sz="4400" spc="-1" strike="noStrike">
              <a:solidFill>
                <a:srgbClr val="eaeaea"/>
              </a:solidFill>
              <a:latin typeface="Tahoma"/>
            </a:endParaRPr>
          </a:p>
        </p:txBody>
      </p:sp>
      <p:sp>
        <p:nvSpPr>
          <p:cNvPr id="2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Note that fr_bm and to_bm must be different.</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fr_bm As New Bitmap(picImage.Image)</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to_bm As New Bitmap(picImage.Image)</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Get a Graphics object for fr_bm.</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gr As Graphics = Graphics.FromImage(to_bm)</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Copy the image and a box around it.</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rect As New Rectangle(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_bm.Width * 0.1, fr_bm.Height * 0.1,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_bm.Width * 0.4, fr_bm.Height * 0.4)</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gr.DrawImage(fr_bm, rect)</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gr.DrawRectangle(Pens.Red, rect)</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Display the result.</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icImage.Image = to_bm</a:t>
            </a:r>
            <a:endParaRPr b="0" lang="en-US" sz="1600" spc="-1" strike="noStrike">
              <a:solidFill>
                <a:srgbClr val="ffffff"/>
              </a:solidFill>
              <a:latin typeface="Tahoma"/>
            </a:endParaRPr>
          </a:p>
        </p:txBody>
      </p:sp>
      <p:sp>
        <p:nvSpPr>
          <p:cNvPr id="239" name=""/>
          <p:cNvSpPr/>
          <p:nvPr/>
        </p:nvSpPr>
        <p:spPr>
          <a:xfrm rot="10800000">
            <a:off x="228600" y="3303000"/>
            <a:ext cx="454680" cy="2931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Cop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E041A71-B265-424A-8A1C-CCA2B197F897}" type="slidenum">
              <a:t>43</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py an image onto another image (2)</a:t>
            </a:r>
            <a:endParaRPr b="1" lang="en-US" sz="4400" spc="-1" strike="noStrike">
              <a:solidFill>
                <a:srgbClr val="eaeaea"/>
              </a:solidFill>
              <a:latin typeface="Tahoma"/>
            </a:endParaRPr>
          </a:p>
        </p:txBody>
      </p:sp>
      <p:pic>
        <p:nvPicPr>
          <p:cNvPr id="241" name="" descr=""/>
          <p:cNvPicPr/>
          <p:nvPr/>
        </p:nvPicPr>
        <p:blipFill>
          <a:blip r:embed="rId1"/>
          <a:stretch/>
        </p:blipFill>
        <p:spPr>
          <a:xfrm>
            <a:off x="2857680" y="2590920"/>
            <a:ext cx="4114800" cy="2971800"/>
          </a:xfrm>
          <a:prstGeom prst="rect">
            <a:avLst/>
          </a:prstGeom>
          <a:ln w="0">
            <a:noFill/>
          </a:ln>
        </p:spPr>
      </p:pic>
      <p:sp>
        <p:nvSpPr>
          <p:cNvPr id="242" name=""/>
          <p:cNvSpPr/>
          <p:nvPr/>
        </p:nvSpPr>
        <p:spPr>
          <a:xfrm rot="10800000">
            <a:off x="228600" y="3303000"/>
            <a:ext cx="454680" cy="2931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Copy</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26BF2502-41A1-4D4A-8D41-2EB69A6E3C92}" type="slidenum">
              <a:t>44</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py part of an image (1)</a:t>
            </a:r>
            <a:endParaRPr b="1" lang="en-US" sz="4400" spc="-1" strike="noStrike">
              <a:solidFill>
                <a:srgbClr val="eaeaea"/>
              </a:solidFill>
              <a:latin typeface="Tahoma"/>
            </a:endParaRPr>
          </a:p>
        </p:txBody>
      </p:sp>
      <p:sp>
        <p:nvSpPr>
          <p:cNvPr id="2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Get the Bitmaps and a Graphics object</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for the destination Bitmap.</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fr_bm As New Bitmap(picImage.Image)</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to_bm As New Bitmap(picImage.Image)</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gr As Graphics = Graphics.FromImage(to_bm)</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Get source and destination rectangles.</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fr_rect As New Rectangle(240, 20, 130, 100)</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to_rect As New Rectangle(10, 10, 130, 100)</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Draw from the source to the destination.</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gr.DrawImage(fr_bm, to_rect, fr_rect, GraphicsUnit.Pixel)</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gr.DrawRectangle(Pens.Red, to_rect)</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Display the results.</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icImage.Image = to_bm</a:t>
            </a:r>
            <a:endParaRPr b="0" lang="en-US" sz="1600" spc="-1" strike="noStrike">
              <a:solidFill>
                <a:srgbClr val="ffffff"/>
              </a:solidFill>
              <a:latin typeface="Tahoma"/>
            </a:endParaRPr>
          </a:p>
        </p:txBody>
      </p:sp>
      <p:sp>
        <p:nvSpPr>
          <p:cNvPr id="245" name=""/>
          <p:cNvSpPr/>
          <p:nvPr/>
        </p:nvSpPr>
        <p:spPr>
          <a:xfrm rot="10800000">
            <a:off x="228600" y="2878200"/>
            <a:ext cx="454680" cy="3375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CopyPar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70443B0-3A38-4799-BD16-2B0B2D43E260}" type="slidenum">
              <a:t>45</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py part of an image (2)</a:t>
            </a:r>
            <a:endParaRPr b="1" lang="en-US" sz="4400" spc="-1" strike="noStrike">
              <a:solidFill>
                <a:srgbClr val="eaeaea"/>
              </a:solidFill>
              <a:latin typeface="Tahoma"/>
            </a:endParaRPr>
          </a:p>
        </p:txBody>
      </p:sp>
      <p:pic>
        <p:nvPicPr>
          <p:cNvPr id="247" name="" descr=""/>
          <p:cNvPicPr/>
          <p:nvPr/>
        </p:nvPicPr>
        <p:blipFill>
          <a:blip r:embed="rId1"/>
          <a:stretch/>
        </p:blipFill>
        <p:spPr>
          <a:xfrm>
            <a:off x="2857680" y="2590920"/>
            <a:ext cx="4114800" cy="2971800"/>
          </a:xfrm>
          <a:prstGeom prst="rect">
            <a:avLst/>
          </a:prstGeom>
          <a:ln w="0">
            <a:noFill/>
          </a:ln>
        </p:spPr>
      </p:pic>
      <p:sp>
        <p:nvSpPr>
          <p:cNvPr id="248" name=""/>
          <p:cNvSpPr/>
          <p:nvPr/>
        </p:nvSpPr>
        <p:spPr>
          <a:xfrm rot="10800000">
            <a:off x="228600" y="2878200"/>
            <a:ext cx="454680" cy="3375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CopyPar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AC42A9BA-4206-405C-AE02-A616CEF6C6E8}" type="slidenum">
              <a:t>46</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p an image’s corners (1)</a:t>
            </a:r>
            <a:endParaRPr b="1" lang="en-US" sz="4400" spc="-1" strike="noStrike">
              <a:solidFill>
                <a:srgbClr val="eaeaea"/>
              </a:solidFill>
              <a:latin typeface="Tahoma"/>
            </a:endParaRPr>
          </a:p>
        </p:txBody>
      </p:sp>
      <p:sp>
        <p:nvSpPr>
          <p:cNvPr id="2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Bitmaps and Graphics obj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r_bm As New Bitmap(picImage.Im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o_bm As New Bitmap(fr_bm.Width, fr_bm.Heigh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gr As Graphics = Graphics.FromImage(to_b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the destination Bitmap with a backgroun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FillRectangle(Brushes.PapayaWhip,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o_bm.GetBounds(System.Drawing.GraphicsUnit.Pixel))</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efine the destination paralelogra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dest_pts() As Point = {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150, 0),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fr_bm.Width, 50),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0, fr_bm.Height - 50)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aw the im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DrawImage(fr_bm, dest_pts)</a:t>
            </a:r>
            <a:endParaRPr b="0" lang="en-US" sz="1400" spc="-1" strike="noStrike">
              <a:solidFill>
                <a:srgbClr val="ffffff"/>
              </a:solidFill>
              <a:latin typeface="Tahoma"/>
            </a:endParaRPr>
          </a:p>
        </p:txBody>
      </p:sp>
      <p:sp>
        <p:nvSpPr>
          <p:cNvPr id="251" name=""/>
          <p:cNvSpPr/>
          <p:nvPr/>
        </p:nvSpPr>
        <p:spPr>
          <a:xfrm rot="10800000">
            <a:off x="228600" y="2560320"/>
            <a:ext cx="454680" cy="3719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MapCorner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FD6A16A-7183-40D7-84DC-08B837B5BBC5}" type="slidenum">
              <a:t>47</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857680" y="2590920"/>
            <a:ext cx="4114800" cy="2971800"/>
          </a:xfrm>
          <a:prstGeom prst="rect">
            <a:avLst/>
          </a:prstGeom>
          <a:ln w="0">
            <a:noFill/>
          </a:ln>
        </p:spPr>
      </p:pic>
      <p:sp>
        <p:nvSpPr>
          <p:cNvPr id="253"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p an image’s corners (2)</a:t>
            </a:r>
            <a:endParaRPr b="1" lang="en-US" sz="4400" spc="-1" strike="noStrike">
              <a:solidFill>
                <a:srgbClr val="eaeaea"/>
              </a:solidFill>
              <a:latin typeface="Tahoma"/>
            </a:endParaRPr>
          </a:p>
        </p:txBody>
      </p:sp>
      <p:sp>
        <p:nvSpPr>
          <p:cNvPr id="254" name=""/>
          <p:cNvSpPr/>
          <p:nvPr/>
        </p:nvSpPr>
        <p:spPr>
          <a:xfrm>
            <a:off x="4191120" y="2666880"/>
            <a:ext cx="482400" cy="3682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UL</a:t>
            </a:r>
            <a:endParaRPr b="0" lang="en-US" sz="1800" spc="-1" strike="noStrike">
              <a:solidFill>
                <a:srgbClr val="ffffff"/>
              </a:solidFill>
              <a:latin typeface="Arial"/>
            </a:endParaRPr>
          </a:p>
        </p:txBody>
      </p:sp>
      <p:sp>
        <p:nvSpPr>
          <p:cNvPr id="255" name=""/>
          <p:cNvSpPr/>
          <p:nvPr/>
        </p:nvSpPr>
        <p:spPr>
          <a:xfrm>
            <a:off x="6636960" y="3200400"/>
            <a:ext cx="503640" cy="3682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UR</a:t>
            </a:r>
            <a:endParaRPr b="0" lang="en-US" sz="1800" spc="-1" strike="noStrike">
              <a:solidFill>
                <a:srgbClr val="ffffff"/>
              </a:solidFill>
              <a:latin typeface="Arial"/>
            </a:endParaRPr>
          </a:p>
        </p:txBody>
      </p:sp>
      <p:sp>
        <p:nvSpPr>
          <p:cNvPr id="256" name=""/>
          <p:cNvSpPr/>
          <p:nvPr/>
        </p:nvSpPr>
        <p:spPr>
          <a:xfrm>
            <a:off x="2821680" y="4724280"/>
            <a:ext cx="439920" cy="3682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LL</a:t>
            </a:r>
            <a:endParaRPr b="0" lang="en-US" sz="1800" spc="-1" strike="noStrike">
              <a:solidFill>
                <a:srgbClr val="ffffff"/>
              </a:solidFill>
              <a:latin typeface="Arial"/>
            </a:endParaRPr>
          </a:p>
        </p:txBody>
      </p:sp>
      <p:sp>
        <p:nvSpPr>
          <p:cNvPr id="257" name=""/>
          <p:cNvSpPr/>
          <p:nvPr/>
        </p:nvSpPr>
        <p:spPr>
          <a:xfrm rot="10800000">
            <a:off x="228600" y="2560320"/>
            <a:ext cx="454680" cy="3719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MapCorners</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A983E062-C7A8-49B1-987C-C2CB52786ADC}" type="slidenum">
              <a:t>48</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3067200" y="3352680"/>
            <a:ext cx="3695400" cy="2668680"/>
          </a:xfrm>
          <a:prstGeom prst="rect">
            <a:avLst/>
          </a:prstGeom>
          <a:ln w="0">
            <a:noFill/>
          </a:ln>
        </p:spPr>
      </p:pic>
      <p:sp>
        <p:nvSpPr>
          <p:cNvPr id="259"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p an image’s corners (3)</a:t>
            </a:r>
            <a:endParaRPr b="1" lang="en-US" sz="4400" spc="-1" strike="noStrike">
              <a:solidFill>
                <a:srgbClr val="eaeaea"/>
              </a:solidFill>
              <a:latin typeface="Tahoma"/>
            </a:endParaRPr>
          </a:p>
        </p:txBody>
      </p:sp>
      <p:sp>
        <p:nvSpPr>
          <p:cNvPr id="2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dest_pts() As Point = { _</a:t>
            </a:r>
            <a:endParaRPr b="0" lang="en-US" sz="1600" spc="-1" strike="noStrike">
              <a:solidFill>
                <a:srgbClr val="ffffff"/>
              </a:solidFill>
              <a:latin typeface="Tahoma"/>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Point(fr_bm.Width, 50), _</a:t>
            </a:r>
            <a:endParaRPr b="0" lang="en-US" sz="1600" spc="-1" strike="noStrike">
              <a:solidFill>
                <a:srgbClr val="ffffff"/>
              </a:solidFill>
              <a:latin typeface="Tahoma"/>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Point(150, 0), _</a:t>
            </a:r>
            <a:endParaRPr b="0" lang="en-US" sz="1600" spc="-1" strike="noStrike">
              <a:solidFill>
                <a:srgbClr val="ffffff"/>
              </a:solidFill>
              <a:latin typeface="Tahoma"/>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ew Point(fr_bm.Width - 150, fr_bm.Height) _</a:t>
            </a:r>
            <a:endParaRPr b="0" lang="en-US" sz="1600" spc="-1" strike="noStrike">
              <a:solidFill>
                <a:srgbClr val="ffffff"/>
              </a:solidFill>
              <a:latin typeface="Tahoma"/>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Tahoma"/>
            </a:endParaRPr>
          </a:p>
        </p:txBody>
      </p:sp>
      <p:sp>
        <p:nvSpPr>
          <p:cNvPr id="261" name=""/>
          <p:cNvSpPr/>
          <p:nvPr/>
        </p:nvSpPr>
        <p:spPr>
          <a:xfrm rot="10800000">
            <a:off x="228600" y="2560320"/>
            <a:ext cx="454680" cy="3719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MapCorners</a:t>
            </a:r>
            <a:endParaRPr b="0" lang="en-US" sz="1800" spc="-1" strike="noStrike">
              <a:solidFill>
                <a:srgbClr val="ffffff"/>
              </a:solidFill>
              <a:latin typeface="Arial"/>
            </a:endParaRPr>
          </a:p>
        </p:txBody>
      </p:sp>
      <p:sp>
        <p:nvSpPr>
          <p:cNvPr id="262" name=""/>
          <p:cNvSpPr/>
          <p:nvPr/>
        </p:nvSpPr>
        <p:spPr>
          <a:xfrm>
            <a:off x="6477120" y="3886200"/>
            <a:ext cx="482400" cy="3682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UL</a:t>
            </a:r>
            <a:endParaRPr b="0" lang="en-US" sz="1800" spc="-1" strike="noStrike">
              <a:solidFill>
                <a:srgbClr val="ffffff"/>
              </a:solidFill>
              <a:latin typeface="Arial"/>
            </a:endParaRPr>
          </a:p>
        </p:txBody>
      </p:sp>
      <p:sp>
        <p:nvSpPr>
          <p:cNvPr id="263" name=""/>
          <p:cNvSpPr/>
          <p:nvPr/>
        </p:nvSpPr>
        <p:spPr>
          <a:xfrm>
            <a:off x="4198680" y="3429000"/>
            <a:ext cx="503640" cy="3682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UR</a:t>
            </a:r>
            <a:endParaRPr b="0" lang="en-US" sz="1800" spc="-1" strike="noStrike">
              <a:solidFill>
                <a:srgbClr val="ffffff"/>
              </a:solidFill>
              <a:latin typeface="Arial"/>
            </a:endParaRPr>
          </a:p>
        </p:txBody>
      </p:sp>
      <p:sp>
        <p:nvSpPr>
          <p:cNvPr id="264" name=""/>
          <p:cNvSpPr/>
          <p:nvPr/>
        </p:nvSpPr>
        <p:spPr>
          <a:xfrm>
            <a:off x="5107680" y="5791320"/>
            <a:ext cx="439920" cy="3682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LL</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625A795-C49B-4904-AE22-7ED74B16F100}" type="slidenum">
              <a:t>49</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1371600" y="2895480"/>
            <a:ext cx="3505320" cy="762120"/>
          </a:xfrm>
          <a:prstGeom prst="rect">
            <a:avLst/>
          </a:prstGeom>
          <a:gradFill rotWithShape="0">
            <a:gsLst>
              <a:gs pos="0">
                <a:srgbClr val="000099"/>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371600" y="2438280"/>
            <a:ext cx="350532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ystem.Drawing</a:t>
            </a:r>
            <a:endParaRPr b="1" lang="en-US" sz="4400" spc="-1" strike="noStrike">
              <a:solidFill>
                <a:srgbClr val="eaeaea"/>
              </a:solidFill>
              <a:latin typeface="Tahoma"/>
            </a:endParaRPr>
          </a:p>
        </p:txBody>
      </p:sp>
      <p:sp>
        <p:nvSpPr>
          <p:cNvPr id="132"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e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raphics</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en, Pens</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Brush, Brushes</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mage</a:t>
            </a:r>
            <a:endParaRPr b="0" lang="en-US" sz="2400" spc="-1" strike="noStrike">
              <a:solidFill>
                <a:srgbClr val="ffffcc"/>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Bitmap</a:t>
            </a:r>
            <a:endParaRPr b="0" lang="en-US" sz="2000" spc="-1" strike="noStrike">
              <a:solidFill>
                <a:srgbClr val="ffcc99"/>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Icon</a:t>
            </a:r>
            <a:endParaRPr b="0" lang="en-US" sz="2000" spc="-1" strike="noStrike">
              <a:solidFill>
                <a:srgbClr val="ffcc99"/>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Metafile</a:t>
            </a:r>
            <a:endParaRPr b="0" lang="en-US" sz="2000" spc="-1" strike="noStrike">
              <a:solidFill>
                <a:srgbClr val="ffcc99"/>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ont, FontFamily</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gion</a:t>
            </a:r>
            <a:endParaRPr b="0" lang="en-US" sz="2400" spc="-1" strike="noStrike">
              <a:solidFill>
                <a:srgbClr val="ffffcc"/>
              </a:solidFill>
              <a:latin typeface="Tahoma"/>
            </a:endParaRPr>
          </a:p>
        </p:txBody>
      </p:sp>
      <p:sp>
        <p:nvSpPr>
          <p:cNvPr id="133" name="PlaceHolder 3"/>
          <p:cNvSpPr>
            <a:spLocks noGrp="1"/>
          </p:cNvSpPr>
          <p:nvPr>
            <p:ph/>
          </p:nvPr>
        </p:nvSpPr>
        <p:spPr>
          <a:xfrm>
            <a:off x="4915080" y="1981080"/>
            <a:ext cx="392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olor</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oint, PointF</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ctangle, RectangleF</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ize, SizeF</a:t>
            </a:r>
            <a:endParaRPr b="0" lang="en-US" sz="2400" spc="-1" strike="noStrike">
              <a:solidFill>
                <a:srgbClr val="ffffcc"/>
              </a:solidFill>
              <a:latin typeface="Tahoma"/>
            </a:endParaRPr>
          </a:p>
        </p:txBody>
      </p:sp>
      <p:sp>
        <p:nvSpPr>
          <p:cNvPr id="5" name="PlaceHolder 4"/>
          <p:cNvSpPr>
            <a:spLocks noGrp="1"/>
          </p:cNvSpPr>
          <p:nvPr>
            <p:ph type="ftr" idx="2"/>
          </p:nvPr>
        </p:nvSpPr>
        <p:spPr/>
        <p:txBody>
          <a:bodyPr/>
          <a:p>
            <a:r>
              <a:t>Denver Visual Studio Users Group</a:t>
            </a:r>
          </a:p>
        </p:txBody>
      </p:sp>
      <p:sp>
        <p:nvSpPr>
          <p:cNvPr id="6" name="PlaceHolder 5"/>
          <p:cNvSpPr>
            <a:spLocks noGrp="1"/>
          </p:cNvSpPr>
          <p:nvPr>
            <p:ph type="sldNum" idx="3"/>
          </p:nvPr>
        </p:nvSpPr>
        <p:spPr/>
        <p:txBody>
          <a:bodyPr/>
          <a:p>
            <a:fld id="{B1934948-25EF-41D7-9E19-6C442E945DBF}" type="slidenum">
              <a:t>5</a:t>
            </a:fld>
          </a:p>
        </p:txBody>
      </p:sp>
      <p:sp>
        <p:nvSpPr>
          <p:cNvPr id="7" name="PlaceHolder 6"/>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658880" y="2019240"/>
            <a:ext cx="6512040" cy="4114800"/>
          </a:xfrm>
          <a:prstGeom prst="rect">
            <a:avLst/>
          </a:prstGeom>
          <a:ln w="0">
            <a:noFill/>
          </a:ln>
        </p:spPr>
      </p:pic>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age Rotation (1)</a:t>
            </a:r>
            <a:endParaRPr b="1" lang="en-US" sz="4400" spc="-1" strike="noStrike">
              <a:solidFill>
                <a:srgbClr val="eaeaea"/>
              </a:solidFill>
              <a:latin typeface="Tahoma"/>
            </a:endParaRPr>
          </a:p>
        </p:txBody>
      </p:sp>
      <p:sp>
        <p:nvSpPr>
          <p:cNvPr id="267"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sp>
        <p:nvSpPr>
          <p:cNvPr id="268" name=""/>
          <p:cNvSpPr/>
          <p:nvPr/>
        </p:nvSpPr>
        <p:spPr>
          <a:xfrm>
            <a:off x="1535040" y="243828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a:t>
            </a:r>
            <a:endParaRPr b="0" lang="en-US" sz="1000" spc="-1" strike="noStrike">
              <a:solidFill>
                <a:srgbClr val="ffffff"/>
              </a:solidFill>
              <a:latin typeface="Arial"/>
            </a:endParaRPr>
          </a:p>
        </p:txBody>
      </p:sp>
      <p:sp>
        <p:nvSpPr>
          <p:cNvPr id="269" name=""/>
          <p:cNvSpPr/>
          <p:nvPr/>
        </p:nvSpPr>
        <p:spPr>
          <a:xfrm>
            <a:off x="4278240" y="243828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a:t>
            </a:r>
            <a:endParaRPr b="0" lang="en-US" sz="1000" spc="-1" strike="noStrike">
              <a:solidFill>
                <a:srgbClr val="ffffff"/>
              </a:solidFill>
              <a:latin typeface="Arial"/>
            </a:endParaRPr>
          </a:p>
        </p:txBody>
      </p:sp>
      <p:sp>
        <p:nvSpPr>
          <p:cNvPr id="270" name=""/>
          <p:cNvSpPr/>
          <p:nvPr/>
        </p:nvSpPr>
        <p:spPr>
          <a:xfrm>
            <a:off x="1535040" y="487692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a:t>
            </a:r>
            <a:endParaRPr b="0" lang="en-US" sz="1000" spc="-1" strike="noStrike">
              <a:solidFill>
                <a:srgbClr val="ffffff"/>
              </a:solidFill>
              <a:latin typeface="Arial"/>
            </a:endParaRPr>
          </a:p>
        </p:txBody>
      </p:sp>
      <p:sp>
        <p:nvSpPr>
          <p:cNvPr id="271" name=""/>
          <p:cNvSpPr/>
          <p:nvPr/>
        </p:nvSpPr>
        <p:spPr>
          <a:xfrm rot="19960200">
            <a:off x="4352400" y="380988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a:t>
            </a:r>
            <a:endParaRPr b="0" lang="en-US" sz="1000" spc="-1" strike="noStrike">
              <a:solidFill>
                <a:srgbClr val="ffffff"/>
              </a:solidFill>
              <a:latin typeface="Arial"/>
            </a:endParaRPr>
          </a:p>
        </p:txBody>
      </p:sp>
      <p:sp>
        <p:nvSpPr>
          <p:cNvPr id="272" name=""/>
          <p:cNvSpPr/>
          <p:nvPr/>
        </p:nvSpPr>
        <p:spPr>
          <a:xfrm rot="19960200">
            <a:off x="6714720" y="243828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a:t>
            </a:r>
            <a:endParaRPr b="0" lang="en-US" sz="1000" spc="-1" strike="noStrike">
              <a:solidFill>
                <a:srgbClr val="ffffff"/>
              </a:solidFill>
              <a:latin typeface="Arial"/>
            </a:endParaRPr>
          </a:p>
        </p:txBody>
      </p:sp>
      <p:sp>
        <p:nvSpPr>
          <p:cNvPr id="273" name=""/>
          <p:cNvSpPr/>
          <p:nvPr/>
        </p:nvSpPr>
        <p:spPr>
          <a:xfrm rot="19960200">
            <a:off x="5571720" y="594360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a:t>
            </a:r>
            <a:endParaRPr b="0" lang="en-US" sz="10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775B9D50-222D-487A-8D75-A3A4FA7DDF07}" type="slidenum">
              <a:t>50</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age Rotation (2)</a:t>
            </a:r>
            <a:endParaRPr b="1" lang="en-US" sz="4400" spc="-1" strike="noStrike">
              <a:solidFill>
                <a:srgbClr val="eaeaea"/>
              </a:solidFill>
              <a:latin typeface="Tahoma"/>
            </a:endParaRPr>
          </a:p>
        </p:txBody>
      </p:sp>
      <p:sp>
        <p:nvSpPr>
          <p:cNvPr id="275"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Copy the output bitmap from the source image.</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bm_in As New Bitmap(picSource.Image)</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Make an array of points defining the image's corner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wid As Single = bm_in.Width</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hgt As Single = bm_in.Height</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corners As Point() = { _</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New Point(0, 0), _</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New Point(wid, 0), _</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New Point(0, hgt), _</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New Point(wid, hgt)}</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Translate to center the bounding box at the origin.</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cx As Single = wid / 2</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cy As Single = hgt / 2</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i As Long</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For i = 0 To 3</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corners(i).X -= cx</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corners(i).Y -= cy</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Next i</a:t>
            </a:r>
            <a:endParaRPr b="0" lang="en-US" sz="1300" spc="-1" strike="noStrike">
              <a:solidFill>
                <a:srgbClr val="ffffff"/>
              </a:solidFill>
              <a:latin typeface="Tahoma"/>
            </a:endParaRPr>
          </a:p>
        </p:txBody>
      </p:sp>
      <p:sp>
        <p:nvSpPr>
          <p:cNvPr id="276"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071C73C-1A5A-4EAA-8E17-48F2F58B032E}" type="slidenum">
              <a:t>51</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age Rotation (3)</a:t>
            </a:r>
            <a:endParaRPr b="1" lang="en-US" sz="4400" spc="-1" strike="noStrike">
              <a:solidFill>
                <a:srgbClr val="eaeaea"/>
              </a:solidFill>
              <a:latin typeface="Tahoma"/>
            </a:endParaRPr>
          </a:p>
        </p:txBody>
      </p:sp>
      <p:sp>
        <p:nvSpPr>
          <p:cNvPr id="278"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Rotate.</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theta As Single = Single.Parse(txtAngle.Text) * PI / 180.0</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Courier New"/>
              </a:rPr>
              <a:t>Dim sin_theta As Single = Sin(theta)</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Courier New"/>
              </a:rPr>
              <a:t>Dim cos_theta As Single = Cos(theta)</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X As Single</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Y As Single</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For i = 0 To 3</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X = corners(i).X</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Y = corners(i).Y</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corners(i).X = X * cos_theta + Y * sin_theta</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corners(i).Y = -X * sin_theta + Y * cos_theta</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Next i</a:t>
            </a:r>
            <a:endParaRPr b="0" lang="en-US" sz="1300" spc="-1" strike="noStrike">
              <a:solidFill>
                <a:srgbClr val="ffffff"/>
              </a:solidFill>
              <a:latin typeface="Tahoma"/>
            </a:endParaRPr>
          </a:p>
        </p:txBody>
      </p:sp>
      <p:sp>
        <p:nvSpPr>
          <p:cNvPr id="279"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0EE772B-5EB6-4C56-A78B-A0B02A943E24}" type="slidenum">
              <a:t>52</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age Rotation (4)</a:t>
            </a:r>
            <a:endParaRPr b="1" lang="en-US" sz="4400" spc="-1" strike="noStrike">
              <a:solidFill>
                <a:srgbClr val="eaeaea"/>
              </a:solidFill>
              <a:latin typeface="Tahoma"/>
            </a:endParaRPr>
          </a:p>
        </p:txBody>
      </p:sp>
      <p:sp>
        <p:nvSpPr>
          <p:cNvPr id="281"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Translate so X &gt;= 0 and Y &gt;=0 for all corner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xmin As Single = corners(0).X</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ymin As Single = corners(0).Y</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For i = 1 To 3</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If xmin &gt; corners(i).X Then xmin = corners(i).X</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If ymin &gt; corners(i).Y Then ymin = corners(i).Y</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Next i</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For i = 0 To 3</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corners(i).X -= xmin</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corners(i).Y -= ymin</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Next i</a:t>
            </a:r>
            <a:endParaRPr b="0" lang="en-US" sz="1300" spc="-1" strike="noStrike">
              <a:solidFill>
                <a:srgbClr val="ffffff"/>
              </a:solidFill>
              <a:latin typeface="Tahoma"/>
            </a:endParaRPr>
          </a:p>
        </p:txBody>
      </p:sp>
      <p:sp>
        <p:nvSpPr>
          <p:cNvPr id="282"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8F85A8A-0C3E-4C39-9395-F638461EAC8F}" type="slidenum">
              <a:t>53</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age Rotation (5)</a:t>
            </a:r>
            <a:endParaRPr b="1" lang="en-US" sz="4400" spc="-1" strike="noStrike">
              <a:solidFill>
                <a:srgbClr val="eaeaea"/>
              </a:solidFill>
              <a:latin typeface="Tahoma"/>
            </a:endParaRPr>
          </a:p>
        </p:txBody>
      </p:sp>
      <p:sp>
        <p:nvSpPr>
          <p:cNvPr id="284"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Create an output Bitmap and Graphics object.</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bm_out As New Bitmap(CInt(-2 * xmin), CInt(-2 * ymin))</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Dim gr_out As Graphics = Graphics.FromImage(bm_out)</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Drop the last corner lest we confuse DrawImage, </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which expects an array of three corner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ReDim Preserve corners(2)</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Draw the result onto the output Bitmap.</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gr_out.DrawImage(bm_in, corner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Display the result.</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picDest.Image = bm_out</a:t>
            </a:r>
            <a:endParaRPr b="0" lang="en-US" sz="1300" spc="-1" strike="noStrike">
              <a:solidFill>
                <a:srgbClr val="ffffff"/>
              </a:solidFill>
              <a:latin typeface="Tahoma"/>
            </a:endParaRPr>
          </a:p>
        </p:txBody>
      </p:sp>
      <p:sp>
        <p:nvSpPr>
          <p:cNvPr id="285"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6D922CA-97DE-416B-BDD4-3C3E4C15B279}" type="slidenum">
              <a:t>54</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age Rotation (6)</a:t>
            </a:r>
            <a:endParaRPr b="1" lang="en-US" sz="4400" spc="-1" strike="noStrike">
              <a:solidFill>
                <a:srgbClr val="eaeaea"/>
              </a:solidFill>
              <a:latin typeface="Tahoma"/>
            </a:endParaRPr>
          </a:p>
        </p:txBody>
      </p:sp>
      <p:sp>
        <p:nvSpPr>
          <p:cNvPr id="287"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pic>
        <p:nvPicPr>
          <p:cNvPr id="288" name="" descr=""/>
          <p:cNvPicPr/>
          <p:nvPr/>
        </p:nvPicPr>
        <p:blipFill>
          <a:blip r:embed="rId1"/>
          <a:stretch/>
        </p:blipFill>
        <p:spPr>
          <a:xfrm>
            <a:off x="1658880" y="2019240"/>
            <a:ext cx="6512040" cy="411480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314844F2-D278-42CB-AD9E-22339FE4C56C}" type="slidenum">
              <a:t>55</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ither AutoRedraw?</a:t>
            </a:r>
            <a:endParaRPr b="1" lang="en-US" sz="4400" spc="-1" strike="noStrike">
              <a:solidFill>
                <a:srgbClr val="eaeaea"/>
              </a:solidFill>
              <a:latin typeface="Tahoma"/>
            </a:endParaRPr>
          </a:p>
        </p:txBody>
      </p:sp>
      <p:sp>
        <p:nvSpPr>
          <p:cNvPr id="2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NET doesn’t have AutoRedraw</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7F76EFF-6725-46FE-901B-A195BD9283F5}" type="slidenum">
              <a:t>56</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utoRedraw in VB .NET</a:t>
            </a:r>
            <a:endParaRPr b="1" lang="en-US" sz="4400" spc="-1" strike="noStrike">
              <a:solidFill>
                <a:srgbClr val="eaeaea"/>
              </a:solidFill>
              <a:latin typeface="Tahoma"/>
            </a:endParaRPr>
          </a:p>
        </p:txBody>
      </p:sp>
      <p:sp>
        <p:nvSpPr>
          <p:cNvPr id="29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Courier New"/>
              </a:rPr>
              <a:t>' Draw some stuff permanently.</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Private Sub Form1_Load(...) Handles MyBase.Load</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99cc00"/>
                </a:solidFill>
                <a:latin typeface="Courier New"/>
              </a:rPr>
              <a:t>' Make picCanvas fill the form.</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picCanvas.SetBounds(0, 0, _</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Me.ClientSize.Width, Me.ClientSize.Height)</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99cc00"/>
                </a:solidFill>
                <a:latin typeface="Courier New"/>
              </a:rPr>
              <a:t>' Make a Bitmap and draw on it.</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Dim bm As New Bitmap(picCanvas.Width, picCanvas.Height)</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Dim gr As Graphics = Graphics.FromImage(bm)</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gr.Clear(Color.SkyBlue)</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99cc00"/>
                </a:solidFill>
                <a:latin typeface="Courier New"/>
              </a:rPr>
              <a:t>' Draw stuff...</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99cc00"/>
                </a:solidFill>
                <a:latin typeface="Courier New"/>
              </a:rPr>
              <a:t>' Display the results.</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picCanvas.Image = bm</a:t>
            </a:r>
            <a:endParaRPr b="0" lang="en-US" sz="1300" spc="-1" strike="noStrike">
              <a:solidFill>
                <a:srgbClr val="ffffff"/>
              </a:solidFill>
              <a:latin typeface="Tahoma"/>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End Sub</a:t>
            </a:r>
            <a:endParaRPr b="0" lang="en-US" sz="1300" spc="-1" strike="noStrike">
              <a:solidFill>
                <a:srgbClr val="ffffff"/>
              </a:solidFill>
              <a:latin typeface="Tahoma"/>
            </a:endParaRPr>
          </a:p>
        </p:txBody>
      </p:sp>
      <p:sp>
        <p:nvSpPr>
          <p:cNvPr id="293" name=""/>
          <p:cNvSpPr/>
          <p:nvPr/>
        </p:nvSpPr>
        <p:spPr>
          <a:xfrm rot="10800000">
            <a:off x="228600" y="3768120"/>
            <a:ext cx="454680" cy="2454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9D0E9A4-D9DE-420F-B4BF-FE09B547D128}" type="slidenum">
              <a:t>57</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1)</a:t>
            </a:r>
            <a:endParaRPr b="1" lang="en-US" sz="4000" spc="-1" strike="noStrike">
              <a:solidFill>
                <a:srgbClr val="eaeaea"/>
              </a:solidFill>
              <a:latin typeface="Tahoma"/>
            </a:endParaRPr>
          </a:p>
        </p:txBody>
      </p:sp>
      <p:sp>
        <p:nvSpPr>
          <p:cNvPr id="295"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Objects used to refresh the current pictur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m_Bitmap As Bitmap</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m_Graphics As Graphics</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Variables used to draw rubberband lines.</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m_Drawing As Boolean</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m_X1 As Integer</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m_Y1 As Integer</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Initialize m_Bitmap and m_Graphics.</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Sub Form1_Load(...) Handles MyBase.Load</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Bitmap = New Bitmap(Me.ClientSize.Width, Me.ClientSize.Height)</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Graphics = Graphics.FromImage(m_Bitmap)</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Set the background color.</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Graphics.Clear(Me.BackColor)</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p:txBody>
      </p:sp>
      <p:sp>
        <p:nvSpPr>
          <p:cNvPr id="296"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96799CF-B69A-440F-8A69-EB0FF02FCFBC}" type="slidenum">
              <a:t>58</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2)</a:t>
            </a:r>
            <a:endParaRPr b="1" lang="en-US" sz="4000" spc="-1" strike="noStrike">
              <a:solidFill>
                <a:srgbClr val="eaeaea"/>
              </a:solidFill>
              <a:latin typeface="Tahoma"/>
            </a:endParaRPr>
          </a:p>
        </p:txBody>
      </p:sp>
      <p:sp>
        <p:nvSpPr>
          <p:cNvPr id="298"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Draw whatever is in m_Bitmap.</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Sub Form1_Paint(ByVal sender As Object, _</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ByVal e As System.Windows.Forms.PaintEventArgs) Handles MyBase.Paint</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Graphics.DrawImage(m_Bitmap, 0, 0)</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p:txBody>
      </p:sp>
      <p:sp>
        <p:nvSpPr>
          <p:cNvPr id="299"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284F82B-B795-45ED-AFFE-D26271798929}" type="slidenum">
              <a:t>59</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Drawing2D</a:t>
            </a:r>
            <a:endParaRPr b="1" lang="en-US" sz="4000" spc="-1" strike="noStrike">
              <a:solidFill>
                <a:srgbClr val="eaeaea"/>
              </a:solidFill>
              <a:latin typeface="Tahoma"/>
            </a:endParaRPr>
          </a:p>
        </p:txBody>
      </p:sp>
      <p:sp>
        <p:nvSpPr>
          <p:cNvPr id="135" name="PlaceHolder 2"/>
          <p:cNvSpPr>
            <a:spLocks noGrp="1"/>
          </p:cNvSpPr>
          <p:nvPr>
            <p:ph/>
          </p:nvPr>
        </p:nvSpPr>
        <p:spPr>
          <a:xfrm>
            <a:off x="1066320" y="1981080"/>
            <a:ext cx="396252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atchBrush</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nearGradientBrush</a:t>
            </a:r>
            <a:endParaRPr b="0" lang="en-US" sz="2400" spc="-1" strike="noStrike">
              <a:solidFill>
                <a:srgbClr val="ffffcc"/>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Blend</a:t>
            </a:r>
            <a:endParaRPr b="0" lang="en-US" sz="2000" spc="-1" strike="noStrike">
              <a:solidFill>
                <a:srgbClr val="ffcc99"/>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athGradientBrush</a:t>
            </a:r>
            <a:endParaRPr b="0" lang="en-US" sz="2400" spc="-1" strike="noStrike">
              <a:solidFill>
                <a:srgbClr val="ffffcc"/>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ColorBlend</a:t>
            </a:r>
            <a:endParaRPr b="0" lang="en-US" sz="2000" spc="-1" strike="noStrike">
              <a:solidFill>
                <a:srgbClr val="ffcc99"/>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raphicsPath</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ne cap classes</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trix</a:t>
            </a:r>
            <a:endParaRPr b="0" lang="en-US" sz="2400" spc="-1" strike="noStrike">
              <a:solidFill>
                <a:srgbClr val="ffffcc"/>
              </a:solidFill>
              <a:latin typeface="Tahoma"/>
            </a:endParaRPr>
          </a:p>
        </p:txBody>
      </p:sp>
      <p:sp>
        <p:nvSpPr>
          <p:cNvPr id="136" name="PlaceHolder 3"/>
          <p:cNvSpPr>
            <a:spLocks noGrp="1"/>
          </p:cNvSpPr>
          <p:nvPr>
            <p:ph/>
          </p:nvPr>
        </p:nvSpPr>
        <p:spPr>
          <a:xfrm>
            <a:off x="4915080" y="1981080"/>
            <a:ext cx="39240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um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ashCap, DashStyle</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neCap, LineJoin</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atchStyle</a:t>
            </a:r>
            <a:endParaRPr b="0" lang="en-US" sz="2400" spc="-1" strike="noStrike">
              <a:solidFill>
                <a:srgbClr val="ffffcc"/>
              </a:solidFill>
              <a:latin typeface="Tahoma"/>
            </a:endParaRPr>
          </a:p>
        </p:txBody>
      </p:sp>
      <p:sp>
        <p:nvSpPr>
          <p:cNvPr id="5" name="PlaceHolder 4"/>
          <p:cNvSpPr>
            <a:spLocks noGrp="1"/>
          </p:cNvSpPr>
          <p:nvPr>
            <p:ph type="ftr" idx="2"/>
          </p:nvPr>
        </p:nvSpPr>
        <p:spPr/>
        <p:txBody>
          <a:bodyPr/>
          <a:p>
            <a:r>
              <a:t>Denver Visual Studio Users Group</a:t>
            </a:r>
          </a:p>
        </p:txBody>
      </p:sp>
      <p:sp>
        <p:nvSpPr>
          <p:cNvPr id="6" name="PlaceHolder 5"/>
          <p:cNvSpPr>
            <a:spLocks noGrp="1"/>
          </p:cNvSpPr>
          <p:nvPr>
            <p:ph type="sldNum" idx="3"/>
          </p:nvPr>
        </p:nvSpPr>
        <p:spPr/>
        <p:txBody>
          <a:bodyPr/>
          <a:p>
            <a:fld id="{85B4433D-B13E-4D7B-AFEC-2EA7ADE3A362}" type="slidenum">
              <a:t>6</a:t>
            </a:fld>
          </a:p>
        </p:txBody>
      </p:sp>
      <p:sp>
        <p:nvSpPr>
          <p:cNvPr id="7" name="PlaceHolder 6"/>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3)</a:t>
            </a:r>
            <a:endParaRPr b="1" lang="en-US" sz="4000" spc="-1" strike="noStrike">
              <a:solidFill>
                <a:srgbClr val="eaeaea"/>
              </a:solidFill>
              <a:latin typeface="Tahoma"/>
            </a:endParaRPr>
          </a:p>
        </p:txBody>
      </p:sp>
      <p:sp>
        <p:nvSpPr>
          <p:cNvPr id="301"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Enlarge m_Bitmap if necessary.</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Sub Form1_Resize(...) Handles MyBase.Resiz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If m_Bitmap is big enough, do nothing.</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Note that width and height are 0 when minimized.</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m_Bitmap.Width &gt;= Me.ClientSize.Width And _</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Bitmap.Height &gt;= Me.ClientSize.Height _</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Then Exit Sub</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Get the new dimensions we need.</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m new_wid As Integer = Max(m_Bitmap.Width, Me.ClientSize.Width)</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m new_hgt As Integer = Max(m_Bitmap.Height, Me.ClientSize.Height)</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Create a new Bitmap.</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m new_bitmap As New Bitmap(new_wid, new_hgt)</a:t>
            </a:r>
            <a:endParaRPr b="0" lang="en-US" sz="1200" spc="-1" strike="noStrike">
              <a:solidFill>
                <a:srgbClr val="ffffff"/>
              </a:solidFill>
              <a:latin typeface="Tahoma"/>
            </a:endParaRPr>
          </a:p>
        </p:txBody>
      </p:sp>
      <p:sp>
        <p:nvSpPr>
          <p:cNvPr id="302"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C5E2F15-1C63-4DF3-A4D7-2FB6DF9C14EA}" type="slidenum">
              <a:t>60</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4)</a:t>
            </a:r>
            <a:endParaRPr b="1" lang="en-US" sz="4000" spc="-1" strike="noStrike">
              <a:solidFill>
                <a:srgbClr val="eaeaea"/>
              </a:solidFill>
              <a:latin typeface="Tahoma"/>
            </a:endParaRPr>
          </a:p>
        </p:txBody>
      </p:sp>
      <p:sp>
        <p:nvSpPr>
          <p:cNvPr id="304"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Copy the existing picture into the new Bitmap.</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m new_graphics As Graphics = Graphics.FromImage(new_bitmap)</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new_graphics.Clear(Me.BackColor)</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new_graphics.DrawImage(m_Bitmap, 0, 0)</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Replace the old Bitmap and Graphic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with the new one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Bitmap = new_bitmap</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Graphics = new_graphic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Start drawin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Sub Form1_MouseDown(...) Handles MyBase.MouseDown</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Drawing = Tru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X1 = e.X</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Y1 = e.Y</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p:txBody>
      </p:sp>
      <p:sp>
        <p:nvSpPr>
          <p:cNvPr id="305"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E054DCF-54A8-47E1-AB72-26965B0C62EA}" type="slidenum">
              <a:t>61</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5)</a:t>
            </a:r>
            <a:endParaRPr b="1" lang="en-US" sz="4000" spc="-1" strike="noStrike">
              <a:solidFill>
                <a:srgbClr val="eaeaea"/>
              </a:solidFill>
              <a:latin typeface="Tahoma"/>
            </a:endParaRPr>
          </a:p>
        </p:txBody>
      </p:sp>
      <p:sp>
        <p:nvSpPr>
          <p:cNvPr id="307"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Continue drawing.</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Sub Form1_MouseMove(...) Handles MyBase.MouseMov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Do nothing if we're not drawing.</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Not m_Drawing Then Exit Sub</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Make a copy of the current pictur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m bm As New Bitmap(m_Bitmap)</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m gr As Graphics = Graphics.FromImage(bm)</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Draw the new lin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gr.DrawLine(Pens.Green, m_X1, m_Y1, e.X, e.Y)</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Display the result.</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e.CreateGraphics().DrawImage(bm, 0, 0)</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p:txBody>
      </p:sp>
      <p:sp>
        <p:nvSpPr>
          <p:cNvPr id="308"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A01E17F-5877-4452-AE79-1C8AFB8246BB}" type="slidenum">
              <a:t>62</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6)</a:t>
            </a:r>
            <a:endParaRPr b="1" lang="en-US" sz="4000" spc="-1" strike="noStrike">
              <a:solidFill>
                <a:srgbClr val="eaeaea"/>
              </a:solidFill>
              <a:latin typeface="Tahoma"/>
            </a:endParaRPr>
          </a:p>
        </p:txBody>
      </p:sp>
      <p:sp>
        <p:nvSpPr>
          <p:cNvPr id="310"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Finish drawing.</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Sub Form1_MouseUp(...) Handles MyBase.MouseUp</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Do nothing if we're not drawing.</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Not m_Drawing Then Exit Sub</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Drawing = Fals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Draw the new lin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Graphics.DrawLine(Pens.Black, m_X1, m_Y1, e.X, e.Y)</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Display the result.</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e.CreateGraphics().DrawImage(m_Bitmap, 0, 0)</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p:txBody>
      </p:sp>
      <p:sp>
        <p:nvSpPr>
          <p:cNvPr id="311"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767A45C-41B0-4EDD-9EDB-3C3F6D3DE24B}" type="slidenum">
              <a:t>63</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cribble (1)</a:t>
            </a:r>
            <a:endParaRPr b="1" lang="en-US" sz="4400" spc="-1" strike="noStrike">
              <a:solidFill>
                <a:srgbClr val="eaeaea"/>
              </a:solidFill>
              <a:latin typeface="Tahoma"/>
            </a:endParaRPr>
          </a:p>
        </p:txBody>
      </p:sp>
      <p:sp>
        <p:nvSpPr>
          <p:cNvPr id="313"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Start drawing.</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Sub Form1_MouseDown(...) Handles MyBase.MouseDown</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Drawing = Tru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LastX = e.X</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LastY = e.Y</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Finish drawing.</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Sub Form1_MouseUp(...) Handles MyBase.MouseUp</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Drawing = Fals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p:txBody>
      </p:sp>
      <p:sp>
        <p:nvSpPr>
          <p:cNvPr id="314" name=""/>
          <p:cNvSpPr/>
          <p:nvPr/>
        </p:nvSpPr>
        <p:spPr>
          <a:xfrm rot="10800000">
            <a:off x="228600" y="4217760"/>
            <a:ext cx="454680" cy="199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cribb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9564A18-3CEC-490B-B994-7B4A5535D2C1}" type="slidenum">
              <a:t>64</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cribble (2)</a:t>
            </a:r>
            <a:endParaRPr b="1" lang="en-US" sz="4400" spc="-1" strike="noStrike">
              <a:solidFill>
                <a:srgbClr val="eaeaea"/>
              </a:solidFill>
              <a:latin typeface="Tahoma"/>
            </a:endParaRPr>
          </a:p>
        </p:txBody>
      </p:sp>
      <p:sp>
        <p:nvSpPr>
          <p:cNvPr id="316"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Continue drawing.</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rivate Sub Form1_MouseMove(...) Handles MyBase.MouseMov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Do nothing if we're not drawing.</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Not m_Drawing Then Exit Sub</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Draw the new line.</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Graphics.DrawLine(Pens.Black, m_LastX, m_LastY, e.X, e.Y)</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Save the new point.</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LastX = e.X</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_LastY = e.Y</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Display the result.</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e.CreateGraphics().DrawImage(m_Bitmap, 0, 0)</a:t>
            </a:r>
            <a:endParaRPr b="0" lang="en-US" sz="1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p:txBody>
      </p:sp>
      <p:sp>
        <p:nvSpPr>
          <p:cNvPr id="317" name=""/>
          <p:cNvSpPr/>
          <p:nvPr/>
        </p:nvSpPr>
        <p:spPr>
          <a:xfrm rot="10800000">
            <a:off x="228600" y="4217760"/>
            <a:ext cx="454680" cy="199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cribb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C520196-8933-4953-9AF2-B76C2E2BCA7B}" type="slidenum">
              <a:t>65</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pha blending</a:t>
            </a:r>
            <a:endParaRPr b="1" lang="en-US" sz="4400" spc="-1" strike="noStrike">
              <a:solidFill>
                <a:srgbClr val="eaeaea"/>
              </a:solidFill>
              <a:latin typeface="Tahoma"/>
            </a:endParaRPr>
          </a:p>
        </p:txBody>
      </p:sp>
      <p:sp>
        <p:nvSpPr>
          <p:cNvPr id="319"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p:txBody>
      </p:sp>
      <p:sp>
        <p:nvSpPr>
          <p:cNvPr id="320" name=""/>
          <p:cNvSpPr/>
          <p:nvPr/>
        </p:nvSpPr>
        <p:spPr>
          <a:xfrm>
            <a:off x="1066680" y="1981080"/>
            <a:ext cx="7543800" cy="4114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rs have four components:</a:t>
            </a:r>
            <a:endParaRPr b="0" lang="en-US" sz="3200" spc="-1" strike="noStrike">
              <a:solidFill>
                <a:srgbClr val="ffffff"/>
              </a:solidFill>
              <a:latin typeface="Arial"/>
            </a:endParaRPr>
          </a:p>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a:t>
            </a:r>
            <a:endParaRPr b="0" lang="en-US" sz="3200" spc="-1" strike="noStrike">
              <a:solidFill>
                <a:srgbClr val="ffffff"/>
              </a:solidFill>
              <a:latin typeface="Arial"/>
            </a:endParaRPr>
          </a:p>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een</a:t>
            </a:r>
            <a:endParaRPr b="0" lang="en-US" sz="3200" spc="-1" strike="noStrike">
              <a:solidFill>
                <a:srgbClr val="ffffff"/>
              </a:solidFill>
              <a:latin typeface="Arial"/>
            </a:endParaRPr>
          </a:p>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ue</a:t>
            </a:r>
            <a:endParaRPr b="0" lang="en-US" sz="3200" spc="-1" strike="noStrike">
              <a:solidFill>
                <a:srgbClr val="ffffff"/>
              </a:solidFill>
              <a:latin typeface="Arial"/>
            </a:endParaRPr>
          </a:p>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ph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1BFE3E3-E55A-4C93-A0DB-A8182BD2E5A5}" type="slidenum">
              <a:t>66</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pha (1)</a:t>
            </a:r>
            <a:endParaRPr b="1" lang="en-US" sz="4400" spc="-1" strike="noStrike">
              <a:solidFill>
                <a:srgbClr val="eaeaea"/>
              </a:solidFill>
              <a:latin typeface="Tahoma"/>
            </a:endParaRPr>
          </a:p>
        </p:txBody>
      </p:sp>
      <p:sp>
        <p:nvSpPr>
          <p:cNvPr id="32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Examine the pixels in the label. Make red pixels grow more transparen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to the right and green pixels grow less transparent to the righ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im bm_label As New Bitmap(picLabel.Imag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Courier New"/>
              </a:rPr>
              <a:t>Dim alpha As Integer</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Courier New"/>
              </a:rPr>
              <a:t>Dim clr As Color</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Courier New"/>
              </a:rPr>
              <a:t>Dim x As Integer</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Courier New"/>
              </a:rPr>
              <a:t>Dim y As Integer</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For y = 0 To bm_label.Height - 1</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or x = 0 To bm_label.Width – 1</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pt-BR" sz="1200" spc="-1" strike="noStrike">
                <a:solidFill>
                  <a:srgbClr val="ffffff"/>
                </a:solidFill>
                <a:latin typeface="Courier New"/>
              </a:rPr>
              <a:t>clr = bm_label.GetPixel(x, y)</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clr.G = 0 Then</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99cc00"/>
                </a:solidFill>
                <a:latin typeface="Courier New"/>
              </a:rPr>
              <a:t>' A red pixel.</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pt-BR" sz="1200" spc="-1" strike="noStrike">
                <a:solidFill>
                  <a:srgbClr val="ffffff"/>
                </a:solidFill>
                <a:latin typeface="Courier New"/>
              </a:rPr>
              <a:t>alpha = 255 - CInt(255 * x / bm_label.Width)</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ls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99cc00"/>
                </a:solidFill>
                <a:latin typeface="Courier New"/>
              </a:rPr>
              <a:t>' A green pixel. Set alpha = 127.</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lpha = CInt(255 * x / bm_label.Width)</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nd If</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bm_label.SetPixel(x, y, _</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lor.FromArgb(alpha, clr.R, clr.G, clr.B))</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Next x</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Next y</a:t>
            </a:r>
            <a:endParaRPr b="0" lang="en-US" sz="1200" spc="-1" strike="noStrike">
              <a:solidFill>
                <a:srgbClr val="ffffff"/>
              </a:solidFill>
              <a:latin typeface="Tahoma"/>
            </a:endParaRPr>
          </a:p>
        </p:txBody>
      </p:sp>
      <p:sp>
        <p:nvSpPr>
          <p:cNvPr id="323" name=""/>
          <p:cNvSpPr/>
          <p:nvPr/>
        </p:nvSpPr>
        <p:spPr>
          <a:xfrm rot="10800000">
            <a:off x="228600" y="4452480"/>
            <a:ext cx="454680" cy="1747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lpha</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1877D53-0313-45A4-A341-E1A1BF6BED06}" type="slidenum">
              <a:t>67</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pha (2)</a:t>
            </a:r>
            <a:endParaRPr b="1" lang="en-US" sz="4400" spc="-1" strike="noStrike">
              <a:solidFill>
                <a:srgbClr val="eaeaea"/>
              </a:solidFill>
              <a:latin typeface="Tahoma"/>
            </a:endParaRPr>
          </a:p>
        </p:txBody>
      </p:sp>
      <p:sp>
        <p:nvSpPr>
          <p:cNvPr id="325"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Display the resul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icLabel.Image = bm_label</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Copy the label onto the main pictur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im bm_dog As New Bitmap(picDog.Imag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im gr As Graphics = Graphics.FromImage(bm_do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gr.DrawImage(bm_label, _</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bm_dog.Width - bm_label.Width) \ 2, _</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bm_dog.Height - bm_label.Heigh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Display the resul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icDog.Image = bm_dog</a:t>
            </a:r>
            <a:endParaRPr b="0" lang="en-US" sz="1200" spc="-1" strike="noStrike">
              <a:solidFill>
                <a:srgbClr val="ffffff"/>
              </a:solidFill>
              <a:latin typeface="Tahoma"/>
            </a:endParaRPr>
          </a:p>
        </p:txBody>
      </p:sp>
      <p:sp>
        <p:nvSpPr>
          <p:cNvPr id="326" name=""/>
          <p:cNvSpPr/>
          <p:nvPr/>
        </p:nvSpPr>
        <p:spPr>
          <a:xfrm rot="10800000">
            <a:off x="228600" y="4452480"/>
            <a:ext cx="454680" cy="1747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lpha</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625708A-3A76-4224-8A58-61192330909F}" type="slidenum">
              <a:t>68</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pha (3)</a:t>
            </a:r>
            <a:endParaRPr b="1" lang="en-US" sz="4400" spc="-1" strike="noStrike">
              <a:solidFill>
                <a:srgbClr val="eaeaea"/>
              </a:solidFill>
              <a:latin typeface="Tahoma"/>
            </a:endParaRPr>
          </a:p>
        </p:txBody>
      </p:sp>
      <p:sp>
        <p:nvSpPr>
          <p:cNvPr id="328" name=""/>
          <p:cNvSpPr/>
          <p:nvPr/>
        </p:nvSpPr>
        <p:spPr>
          <a:xfrm rot="10800000">
            <a:off x="228600" y="4452480"/>
            <a:ext cx="454680" cy="1747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lpha</a:t>
            </a:r>
            <a:endParaRPr b="0" lang="en-US" sz="1800" spc="-1" strike="noStrike">
              <a:solidFill>
                <a:srgbClr val="ffffff"/>
              </a:solidFill>
              <a:latin typeface="Arial"/>
            </a:endParaRPr>
          </a:p>
        </p:txBody>
      </p:sp>
      <p:pic>
        <p:nvPicPr>
          <p:cNvPr id="329" name="" descr=""/>
          <p:cNvPicPr/>
          <p:nvPr/>
        </p:nvPicPr>
        <p:blipFill>
          <a:blip r:embed="rId1"/>
          <a:stretch/>
        </p:blipFill>
        <p:spPr>
          <a:xfrm>
            <a:off x="2857680" y="2247840"/>
            <a:ext cx="4114800" cy="365760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3CFDAC98-F3D4-4939-B98B-9AAD7F988F86}" type="slidenum">
              <a:t>69</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Imaging</a:t>
            </a:r>
            <a:endParaRPr b="1" lang="en-US" sz="40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Format</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mp, emf, exif, gif, icon, jpeg,</a:t>
            </a:r>
            <a:endParaRPr b="0" lang="en-US" sz="2800" spc="-1" strike="noStrike">
              <a:solidFill>
                <a:srgbClr val="ffff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emory bitmap, png, tiff, wmf</a:t>
            </a:r>
            <a:endParaRPr b="0" lang="en-US" sz="2800" spc="-1" strike="noStrike">
              <a:solidFill>
                <a:srgbClr val="ffffcc"/>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rMap, ColorMatrix, ColorPalet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file, MetafileHeader, MetaHeader</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fPlaceableFileHeade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05CD72A-CCF2-4576-810B-DFA16A0C6037}" type="slidenum">
              <a:t>7</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Bitmap.MakeTransparent (1)</a:t>
            </a:r>
            <a:endParaRPr b="1" lang="en-US" sz="3600" spc="-1" strike="noStrike">
              <a:solidFill>
                <a:srgbClr val="eaeaea"/>
              </a:solidFill>
              <a:latin typeface="Tahoma"/>
            </a:endParaRPr>
          </a:p>
        </p:txBody>
      </p:sp>
      <p:sp>
        <p:nvSpPr>
          <p:cNvPr id="331"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Tahoma"/>
              </a:rPr>
              <a:t> </a:t>
            </a:r>
            <a:r>
              <a:rPr b="0" lang="en-US" sz="1600" spc="-1" strike="noStrike">
                <a:solidFill>
                  <a:srgbClr val="99cc00"/>
                </a:solidFill>
                <a:latin typeface="Tahoma"/>
              </a:rPr>
              <a:t>' Use MakeTransparent to make red pixels transparen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bm_label As New Bitmap(picLabel.Imag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bm_label.MakeTransparent(Color.Red)</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Display the resul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icLabel.Image = bm_label</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Copy the label onto the main pictur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bm_dog As New Bitmap(picDog.Imag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im gr As Graphics = Graphics.FromImage(bm_dog)</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gr.DrawImage(bm_label,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bm_dog.Width - bm_label.Width) \ 2,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bm_dog.Height - bm_label.Heigh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Courier New"/>
              </a:rPr>
              <a:t>' Display the resul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icDog.Image = bm_dog</a:t>
            </a:r>
            <a:endParaRPr b="0" lang="en-US" sz="1600" spc="-1" strike="noStrike">
              <a:solidFill>
                <a:srgbClr val="ffffff"/>
              </a:solidFill>
              <a:latin typeface="Tahoma"/>
            </a:endParaRPr>
          </a:p>
        </p:txBody>
      </p:sp>
      <p:sp>
        <p:nvSpPr>
          <p:cNvPr id="332" name=""/>
          <p:cNvSpPr/>
          <p:nvPr/>
        </p:nvSpPr>
        <p:spPr>
          <a:xfrm rot="10800000">
            <a:off x="228600" y="3216960"/>
            <a:ext cx="454680" cy="3035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keTransparen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5BB9343-8AD0-407C-9D2D-1352322C66C3}" type="slidenum">
              <a:t>70</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Bitmap.MakeTransparent (2)</a:t>
            </a:r>
            <a:endParaRPr b="1" lang="en-US" sz="3600" spc="-1" strike="noStrike">
              <a:solidFill>
                <a:srgbClr val="eaeaea"/>
              </a:solidFill>
              <a:latin typeface="Tahoma"/>
            </a:endParaRPr>
          </a:p>
        </p:txBody>
      </p:sp>
      <p:sp>
        <p:nvSpPr>
          <p:cNvPr id="334" name=""/>
          <p:cNvSpPr/>
          <p:nvPr/>
        </p:nvSpPr>
        <p:spPr>
          <a:xfrm rot="10800000">
            <a:off x="228600" y="3216960"/>
            <a:ext cx="454680" cy="3035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keTransparent</a:t>
            </a:r>
            <a:endParaRPr b="0" lang="en-US" sz="1800" spc="-1" strike="noStrike">
              <a:solidFill>
                <a:srgbClr val="ffffff"/>
              </a:solidFill>
              <a:latin typeface="Arial"/>
            </a:endParaRPr>
          </a:p>
        </p:txBody>
      </p:sp>
      <p:pic>
        <p:nvPicPr>
          <p:cNvPr id="335" name="" descr=""/>
          <p:cNvPicPr/>
          <p:nvPr/>
        </p:nvPicPr>
        <p:blipFill>
          <a:blip r:embed="rId1"/>
          <a:stretch/>
        </p:blipFill>
        <p:spPr>
          <a:xfrm>
            <a:off x="2819520" y="2247840"/>
            <a:ext cx="4190760" cy="365760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07F0834E-B631-48D5-96A1-FFA254A3BF0D}" type="slidenum">
              <a:t>71</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parencyKey</a:t>
            </a:r>
            <a:endParaRPr b="1" lang="en-US" sz="4400" spc="-1" strike="noStrike">
              <a:solidFill>
                <a:srgbClr val="eaeaea"/>
              </a:solidFill>
              <a:latin typeface="Tahoma"/>
            </a:endParaRPr>
          </a:p>
        </p:txBody>
      </p:sp>
      <p:sp>
        <p:nvSpPr>
          <p:cNvPr id="337"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ControlBox = Fals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FormBorderStyle = _</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ystem.Windows.Forms. _</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ormBorderStyle.Non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ShowInTaskbar = Fals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ransparencyKey = _</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ystem.Drawing.Color.Purple</a:t>
            </a:r>
            <a:endParaRPr b="0" lang="en-US" sz="1800" spc="-1" strike="noStrike">
              <a:solidFill>
                <a:srgbClr val="ffffff"/>
              </a:solidFill>
              <a:latin typeface="Tahoma"/>
            </a:endParaRPr>
          </a:p>
        </p:txBody>
      </p:sp>
      <p:sp>
        <p:nvSpPr>
          <p:cNvPr id="338" name=""/>
          <p:cNvSpPr/>
          <p:nvPr/>
        </p:nvSpPr>
        <p:spPr>
          <a:xfrm rot="10800000">
            <a:off x="228600" y="3234600"/>
            <a:ext cx="454680" cy="3014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TransparentForm</a:t>
            </a:r>
            <a:endParaRPr b="0" lang="en-US" sz="1800" spc="-1" strike="noStrike">
              <a:solidFill>
                <a:srgbClr val="ffffff"/>
              </a:solidFill>
              <a:latin typeface="Arial"/>
            </a:endParaRPr>
          </a:p>
        </p:txBody>
      </p:sp>
      <p:pic>
        <p:nvPicPr>
          <p:cNvPr id="339" name="" descr=""/>
          <p:cNvPicPr/>
          <p:nvPr/>
        </p:nvPicPr>
        <p:blipFill>
          <a:blip r:embed="rId1"/>
          <a:stretch/>
        </p:blipFill>
        <p:spPr>
          <a:xfrm>
            <a:off x="5130720" y="1600200"/>
            <a:ext cx="3695760" cy="374004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A1060C0-FE08-49E5-9D77-B0B4B47DD067}" type="slidenum">
              <a:t>72</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pacity (1)</a:t>
            </a:r>
            <a:endParaRPr b="1" lang="en-US" sz="4400" spc="-1" strike="noStrike">
              <a:solidFill>
                <a:srgbClr val="eaeaea"/>
              </a:solidFill>
              <a:latin typeface="Tahoma"/>
            </a:endParaRPr>
          </a:p>
        </p:txBody>
      </p:sp>
      <p:sp>
        <p:nvSpPr>
          <p:cNvPr id="341"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ivate Sub hbarOpacity_Scroll(...) Handles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hbarOpacity.Scroll</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e.Opacity = 0.1 + hbarOpacity.Value / 100</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e.Text = Me.Opacity.ToString</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nd Sub</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ivate Sub btnClose_Click(...) Handles btnClose.Click</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imer1.Enabled = Tru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nd Sub</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ivate Sub Timer1_Tick(...) Handles Timer1.Tick</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e.Opacity = Me.Opacity - 0.1</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Me.Opacity &lt;= 0 Then Me.Clos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nd Sub</a:t>
            </a:r>
            <a:endParaRPr b="0" lang="en-US" sz="1600" spc="-1" strike="noStrike">
              <a:solidFill>
                <a:srgbClr val="ffffff"/>
              </a:solidFill>
              <a:latin typeface="Tahoma"/>
            </a:endParaRPr>
          </a:p>
        </p:txBody>
      </p:sp>
      <p:sp>
        <p:nvSpPr>
          <p:cNvPr id="342" name=""/>
          <p:cNvSpPr/>
          <p:nvPr/>
        </p:nvSpPr>
        <p:spPr>
          <a:xfrm rot="10800000">
            <a:off x="228600" y="3715920"/>
            <a:ext cx="454680" cy="2512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FormOpacit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929F4CA-48FE-477C-98D2-DA511B5ED2EA}" type="slidenum">
              <a:t>73</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pacity (2)</a:t>
            </a:r>
            <a:endParaRPr b="1" lang="en-US" sz="4400" spc="-1" strike="noStrike">
              <a:solidFill>
                <a:srgbClr val="eaeaea"/>
              </a:solidFill>
              <a:latin typeface="Tahoma"/>
            </a:endParaRPr>
          </a:p>
        </p:txBody>
      </p:sp>
      <p:sp>
        <p:nvSpPr>
          <p:cNvPr id="344" name=""/>
          <p:cNvSpPr/>
          <p:nvPr/>
        </p:nvSpPr>
        <p:spPr>
          <a:xfrm rot="10800000">
            <a:off x="228600" y="3715920"/>
            <a:ext cx="454680" cy="2512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FormOpacity</a:t>
            </a:r>
            <a:endParaRPr b="0" lang="en-US" sz="1800" spc="-1" strike="noStrike">
              <a:solidFill>
                <a:srgbClr val="ffffff"/>
              </a:solidFill>
              <a:latin typeface="Arial"/>
            </a:endParaRPr>
          </a:p>
        </p:txBody>
      </p:sp>
      <p:pic>
        <p:nvPicPr>
          <p:cNvPr id="345" name="" descr=""/>
          <p:cNvPicPr/>
          <p:nvPr/>
        </p:nvPicPr>
        <p:blipFill>
          <a:blip r:embed="rId1"/>
          <a:stretch/>
        </p:blipFill>
        <p:spPr>
          <a:xfrm>
            <a:off x="3224160" y="3038400"/>
            <a:ext cx="3381480" cy="207648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41E8A66A-61FB-4860-B0E1-3C1139F28B06}" type="slidenum">
              <a:t>74</a:t>
            </a:fld>
          </a:p>
        </p:txBody>
      </p:sp>
      <p:sp>
        <p:nvSpPr>
          <p:cNvPr id="5" name="PlaceHolder 4"/>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685800" y="38098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3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DI+?</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Process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9A093B0-13F0-4734-8DF6-2AF835A6696A}" type="slidenum">
              <a:t>75</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
        <p:nvSpPr>
          <p:cNvPr id="350" name="PlaceHolder 2"/>
          <p:cNvSpPr>
            <a:spLocks noGrp="1"/>
          </p:cNvSpPr>
          <p:nvPr>
            <p:ph/>
          </p:nvPr>
        </p:nvSpPr>
        <p:spPr>
          <a:xfrm>
            <a:off x="3200400" y="761760"/>
            <a:ext cx="2666880" cy="6095880"/>
          </a:xfrm>
          <a:prstGeom prst="rect">
            <a:avLst/>
          </a:prstGeom>
          <a:noFill/>
          <a:ln w="0">
            <a:noFill/>
          </a:ln>
        </p:spPr>
        <p:txBody>
          <a:bodyPr lIns="90000" rIns="90000" tIns="46800" bIns="46800" anchor="t">
            <a:normAutofit fontScale="98000"/>
          </a:bodyPr>
          <a:p>
            <a:pPr marL="597240" indent="0">
              <a:lnSpc>
                <a:spcPct val="100000"/>
              </a:lnSpc>
              <a:spcBef>
                <a:spcPts val="10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0" spc="-1" strike="noStrike">
                <a:solidFill>
                  <a:srgbClr val="66ccff"/>
                </a:solidFill>
                <a:latin typeface="Times New Roman"/>
              </a:rPr>
              <a:t>?</a:t>
            </a:r>
            <a:endParaRPr b="0" lang="en-US" sz="400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3814538-2AE2-426C-A282-914C4FCD45EB}" type="slidenum">
              <a:t>76</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Text</a:t>
            </a:r>
            <a:endParaRPr b="1" lang="en-US" sz="40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ntCollec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alledFontCollec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ateFontCollecti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DF7D0D7-5DD5-4F10-BC83-A67465235FC7}" type="slidenum">
              <a:t>8</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stalledFontCollection</a:t>
            </a:r>
            <a:endParaRPr b="1" lang="en-US" sz="4400" spc="-1" strike="noStrike">
              <a:solidFill>
                <a:srgbClr val="eaeaea"/>
              </a:solidFill>
              <a:latin typeface="Tahoma"/>
            </a:endParaRPr>
          </a:p>
        </p:txBody>
      </p:sp>
      <p:sp>
        <p:nvSpPr>
          <p:cNvPr id="14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installed fonts collectio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installed_fonts As New InstalledFontCollectio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font familiie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ont_families() As FontFamily = installed_fonts.Familie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font familie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xt As Str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i As Integer</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 = 0 To font_families.Length - 1</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font_families(i).Name &amp; vbCrLf</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i</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extBox1.Text = txt</a:t>
            </a:r>
            <a:endParaRPr b="0" lang="en-US" sz="1400" spc="-1" strike="noStrike">
              <a:solidFill>
                <a:srgbClr val="ffffff"/>
              </a:solidFill>
              <a:latin typeface="Tahoma"/>
            </a:endParaRPr>
          </a:p>
        </p:txBody>
      </p:sp>
      <p:sp>
        <p:nvSpPr>
          <p:cNvPr id="143" name=""/>
          <p:cNvSpPr/>
          <p:nvPr/>
        </p:nvSpPr>
        <p:spPr>
          <a:xfrm rot="10800000">
            <a:off x="228600" y="4108680"/>
            <a:ext cx="454680" cy="2095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stFont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8017941-0F38-47F0-B88E-4CE282048B78}" type="slidenum">
              <a:t>9</a:t>
            </a:fld>
          </a:p>
        </p:txBody>
      </p:sp>
      <p:sp>
        <p:nvSpPr>
          <p:cNvPr id="6" name="PlaceHolder 5"/>
          <p:cNvSpPr>
            <a:spLocks noGrp="1"/>
          </p:cNvSpPr>
          <p:nvPr>
            <p:ph type="dt" idx="1"/>
          </p:nvPr>
        </p:nvSpPr>
        <p:spPr/>
        <p:txBody>
          <a:bodyPr/>
          <a:p>
            <a:r>
              <a:rPr lang="en-US"/>
              <a:t>July 25,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cp:lastModifiedBy>
  <dcterms:modified xsi:type="dcterms:W3CDTF">2003-07-28T15:02:58Z</dcterms:modified>
  <cp:revision>56</cp:revision>
  <dc:subject/>
  <dc:title>Fun with GDI+</dc:title>
</cp:coreProperties>
</file>