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0641-06E1-4BD4-A9B8-790154C97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pares Direct3D for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does not use light sources. Instead it explicitly sets colors for all of the triangles that it draw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creates the vertex information. It allocates a vertex buffer and locks it to get an array of PositionedColored objects that it can initialize. PositionedColored objects hold vertex information with a position and color for each vertex.</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uses the MakeTriangle convenience subroutine to save vertex information. It then unlocks the vertex buff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routine MakeTriangle initializes the vertex coordinates and colors for the three vertices that make up a triang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routine Render does the actual dra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s no device, there’s no point so we b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lears the drawing surface and calls BeginScene to prepare Direct3D to make a new sce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ine then calls SetupMatrices to define the transformation and projection for the scene. This tells it how to rotate the objects and defines the camera ang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tells the device where to find its vertex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tells the device what type of data is stored in the vertex buff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calls DrawPrimatives to do the actual drawing. It passes in a parameter indicating that the vertex data defines a list of triangles rather than something else such as a triangle strip or f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Render subroutine ends the scene and tells Direct3D to present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routine SetupMatrices defines the matrices that Direct3D uses to transform the objects and draw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matrix defines how it should transform the objects. In this example, the world matrix rotates the objects around the Y axis though an angle that depends on the number of clock ticks that have pass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matrix defines the “camera angle.” It determines where the camera is, where it is pointed, and which way is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ion matrix defines how the three-dimensional scene is converted into a two-dimensional picture. The project defines the field of view (wide versus narrow angle), the aspect ratio (I don’t know why you’d want anything other than 1:1), and clipping planes. Anything outside of the clipping planes is not draw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X is a library of APIs for high-performance multi-media app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3D is the 3D graphics par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started, download and install the DirectX SDK. You can get it either from the Download Center or from the DirectX Resource C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Microsoft plans updates to the SDK four times per ye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you get a version of the SDK that will work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version is DirectX 10, which only works with the Windows Vista operating system. Microsoft does not plan to offer support for DirectX 10 in earlier operating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nly get the best performance from DirectX 10 if you have DirectX 10-compatible hardware (right now I think that’s is uncomm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you get a version of the SDK that will work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version is DirectX 10, which only works with the Windows Vista operating system. Microsoft does not plan to offer support for DirectX 10 in earlier operating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nly get the best performance from DirectX 10 if you have DirectX 10-compatible hardware (right now I think that’s is uncomm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 Main creates the form, initializes the graphics system, and then enters a rendering loop. While the form is still valid, it calls the form’s Render metho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ice variable represents the Direct3D dev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variables are for holding vertex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97D8C-168B-4DD8-A362-3209960E1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39156-8353-4B06-B492-CDF79C82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4EE48-D912-4178-87C2-FF7674AF5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F5BA1-D40B-4FA3-9D28-811E445D4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37441-3AD0-4BF7-84C0-8F5A9E73A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467C6-678E-4F8E-990C-DD6A4C467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FA443-000A-4107-B3AD-8DFBB51C2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C211A-EBB3-4BFC-9D87-93D14B79B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A8FC5-7232-4283-9D5F-67499D2FB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7BABD-90C8-4B7B-BF13-2B9E40CC7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9F4C2-036A-4D8F-9653-6C6858075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7A4E-D8C3-435B-AEB3-E377BE97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B0378-91F8-41D2-B4CC-2E5DCA7E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D6882-CD07-4C56-860C-0E122E8C8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896D3-E236-413D-A3E9-CDA91C25D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836E9-4EDD-45DB-8F09-D62DA1E4A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7DD58-D348-46EE-A19F-416F5EA51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C305-6942-4791-8F1A-7B7A96582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9729-A80D-45FC-9EBA-05A26E82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B02B-2E54-42E8-8D64-F3049259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5A9D-04B0-4E3A-9043-67FEF448B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ED38-E6CA-43F8-93F3-EAA785605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A115A-B4BD-4381-B512-1DE07BBD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3CE2-17B7-4B38-BFCF-F85E6458B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1322-31FE-431D-8228-1DB91A8BCCF3}"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7E53-7BEA-4A7B-BB53-2D82F2F0E471}"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msdn2.microsoft.com/en-us/xna/default.aspx"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www.microsoft.com/downloads"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
          <p:cNvSpPr/>
          <p:nvPr/>
        </p:nvSpPr>
        <p:spPr>
          <a:xfrm>
            <a:off x="304920" y="1676520"/>
            <a:ext cx="8458200" cy="533160"/>
          </a:xfrm>
          <a:prstGeom prst="rect">
            <a:avLst/>
          </a:prstGeom>
          <a:gradFill rotWithShape="0">
            <a:gsLst>
              <a:gs pos="0">
                <a:srgbClr val="eaeaea"/>
              </a:gs>
              <a:gs pos="100000">
                <a:srgbClr val="6b6b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rect3D Roadmap</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Direct3D?</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verview</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 Code</a:t>
            </a: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DBD09EA-D99B-4C4E-9298-B90B4718AE67}" type="slidenum">
              <a:t>1</a:t>
            </a:fld>
          </a:p>
        </p:txBody>
      </p:sp>
      <p:sp>
        <p:nvSpPr>
          <p:cNvPr id="6" name="PlaceHolder 5"/>
          <p:cNvSpPr>
            <a:spLocks noGrp="1"/>
          </p:cNvSpPr>
          <p:nvPr>
            <p:ph type="dt" idx="1"/>
          </p:nvPr>
        </p:nvSpPr>
        <p:spPr/>
        <p:txBody>
          <a:bodyPr/>
          <a:p>
            <a:r>
              <a:rPr lang="en-US"/>
              <a:t>April 24,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itializeGraphics</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Initialize the graphics device. Return True if successful.</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ublic Function InitializeGraphics() As Boolean</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Try</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Dim params As New PresentParameters</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params.Windowed = True</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params.SwapEffect = SwapEffect.Discard</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009900"/>
                </a:solidFill>
                <a:latin typeface="Courier New"/>
              </a:rPr>
              <a:t>' Use hardware vertex processing if supported.</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 = New Device(0, DeviceType.Hardware, Me, _</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reateFlags.SoftwareVertexProcessing, params)</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009900"/>
                </a:solidFill>
                <a:latin typeface="Courier New"/>
              </a:rPr>
              <a:t>' Turn off D3D lighting because </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we set the vertex colors explicitly.</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RenderState.Lighting = False</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009900"/>
                </a:solidFill>
                <a:latin typeface="Courier New"/>
              </a:rPr>
              <a:t>' Create the vertex data.</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ff0000"/>
                </a:solidFill>
                <a:latin typeface="Courier New"/>
              </a:rPr>
              <a:t>CreateVertexBuffer()</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Return True</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CEA063E-3C83-4EAC-9351-9AA43AF4E375}" type="slidenum">
              <a:t>1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itializeGraphics</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atch ex As Exception</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essageBox.Show("Error initializing Direct3D" &amp; _</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vbCrLf &amp; vbCrLf &amp; ex.Message, _</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Direct3D Error", MessageBoxButtons.OK)</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Return False</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End Try</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End Function</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BD6E124-B753-4E10-BBA6-F951C572EAD9}" type="slidenum">
              <a:t>1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eateVertexBuffer</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Create a vertex buffer for the device.</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ublic Sub CreateVertexBuffer()</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009900"/>
                </a:solidFill>
                <a:latin typeface="Courier New"/>
              </a:rPr>
              <a:t>' Create a vertex buffer.</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VertexBuffer = New VertexBuffer(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GetType(CustomVertex.PositionColored),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NUM_POINTS, m_Device, 0,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ustomVertex.PositionColored.Format,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Pool.Default)</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009900"/>
                </a:solidFill>
                <a:latin typeface="Courier New"/>
              </a:rPr>
              <a:t>' Lock the vertex buffer. </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Lock returns an array of PositionColored objects.</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54547a"/>
                </a:solidFill>
                <a:latin typeface="Courier New"/>
              </a:rPr>
              <a:t>Dim vertices As CustomVertex.PositionColored() =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Type(m_VertexBuffer.Lock(0, 0),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ustomVertex.PositionColored())</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3C2A779-479E-4D01-865C-0E37FAF6B1AA}" type="slidenum">
              <a:t>1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eateVertexBuffer</a:t>
            </a:r>
            <a:endParaRPr b="0" lang="en-US" sz="4400" spc="-1" strike="noStrike">
              <a:solidFill>
                <a:srgbClr val="ccecff"/>
              </a:solidFill>
              <a:latin typeface="Arial"/>
            </a:endParaRPr>
          </a:p>
        </p:txBody>
      </p:sp>
      <p:sp>
        <p:nvSpPr>
          <p:cNvPr id="246"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Dim start_index As Integer = 0</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onst WID As Single = 2</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ff0000"/>
                </a:solidFill>
                <a:latin typeface="Courier New"/>
              </a:rPr>
              <a:t>MakeTriangle</a:t>
            </a:r>
            <a:r>
              <a:rPr b="1" lang="en-US" sz="1600" spc="-1" strike="noStrike">
                <a:solidFill>
                  <a:srgbClr val="54547a"/>
                </a:solidFill>
                <a:latin typeface="Courier New"/>
              </a:rPr>
              <a:t>(vertices, start_index, Color.Red,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0, WID, 0,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0, 0, WID,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WID, 0, 0)</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ff0000"/>
                </a:solidFill>
                <a:latin typeface="Courier New"/>
              </a:rPr>
              <a:t>MakeTriangle</a:t>
            </a:r>
            <a:r>
              <a:rPr b="1" lang="en-US" sz="1600" spc="-1" strike="noStrike">
                <a:solidFill>
                  <a:srgbClr val="54547a"/>
                </a:solidFill>
                <a:latin typeface="Courier New"/>
              </a:rPr>
              <a:t>(vertices, start_index, Color.Yellow,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0, WID, 0,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WID, 0, 0,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0, 0, -WID)</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VertexBuffer.Unlock()</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End Sub</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F4B092D-07A8-444C-891D-9C2CAE11808B}" type="slidenum">
              <a:t>1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keTriangle</a:t>
            </a:r>
            <a:endParaRPr b="0" lang="en-US" sz="44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Private Sub MakeTriangle(...)</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With vertices(start_index)</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X = x1 : .Y = y1 : .Z = z1</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Color = clr.ToArgb()</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End With</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start_index += 1</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With vertices(start_index)</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X = x2 : .Y = y2 : .Z = z2</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Color = clr.ToArgb()</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End With</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start_index += 1</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With vertices(start_index)</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X = x3 : .Y = y3 : .Z = z3</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Color = clr.ToArgb()</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End With</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    </a:t>
            </a:r>
            <a:r>
              <a:rPr b="1" lang="en-US" sz="1400" spc="-1" strike="noStrike">
                <a:solidFill>
                  <a:srgbClr val="54547a"/>
                </a:solidFill>
                <a:latin typeface="Courier New"/>
              </a:rPr>
              <a:t>start_index += 1</a:t>
            </a:r>
            <a:endParaRPr b="0" lang="en-US" sz="1400" spc="-1" strike="noStrike">
              <a:solidFill>
                <a:srgbClr val="eaeaea"/>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a"/>
                </a:solidFill>
                <a:latin typeface="Courier New"/>
              </a:rPr>
              <a:t>End Sub</a:t>
            </a:r>
            <a:endParaRPr b="0" lang="en-US" sz="14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9E4568A-500E-4ECA-A418-88ACB38A6447}" type="slidenum">
              <a:t>1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nder</a:t>
            </a:r>
            <a:endParaRPr b="0" lang="en-US" sz="4400" spc="-1" strike="noStrike">
              <a:solidFill>
                <a:srgbClr val="ccecff"/>
              </a:solidFill>
              <a:latin typeface="Arial"/>
            </a:endParaRPr>
          </a:p>
        </p:txBody>
      </p:sp>
      <p:sp>
        <p:nvSpPr>
          <p:cNvPr id="250"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ublic Sub Render()</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If m_Device Is Nothing Then Exit Sub</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Clear the back buffer.</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Clear(ClearFlags.Target, Me.BackColor, 1, 0)</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Make a scene.</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BeginScene()</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Setup the world, view, and projection matrices.</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ff0000"/>
                </a:solidFill>
                <a:latin typeface="Courier New"/>
              </a:rPr>
              <a:t>SetupMatrices()</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Set the device's data stream source</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the vertex buffer).</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SetStreamSource(0, m_VertexBuffer, 0)</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4D47BA9-E51D-4A6A-8546-AA376814D1D7}" type="slidenum">
              <a:t>1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nder</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Tell the device the format of the vertices.</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VertexFormat = _</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ustomVertex.PositionColored.Format</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Draw the primitives in the data stream.</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DrawPrimitives(PrimitiveType.TriangleList, _</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0, NUM_TRIANGLES)</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End the scene and display.</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EndScene()</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Present()</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End Sub</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A6E62E2-9489-4D78-B75F-47DE9B1558E4}" type="slidenum">
              <a:t>1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upMatrices</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Setup the world, view, and projection matrices.</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rivate Sub SetupMatrices()</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World Matrix:</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Rotate the object around the Y axis by</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2 * Pi radians per 2000 ticks (2 seconds).</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Const TICKS_PER_REV As Integer = 2000</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Dim ms_rotated As Integer =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Environment.TickCount Mod TICKS_PER_REV</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Dim angle As Double =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s_rotated * (2 * Math.PI) / TICKS_PER_REV</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Transform.World = Matrix.RotationY(CSng(angle))</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33FB4D4-663E-422F-8A6C-29ACF9CA4456}" type="slidenum">
              <a:t>1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upMatrices</a:t>
            </a:r>
            <a:endParaRPr b="0" lang="en-US" sz="4400" spc="-1" strike="noStrike">
              <a:solidFill>
                <a:srgbClr val="ccecff"/>
              </a:solidFill>
              <a:latin typeface="Arial"/>
            </a:endParaRPr>
          </a:p>
        </p:txBody>
      </p:sp>
      <p:sp>
        <p:nvSpPr>
          <p:cNvPr id="256"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View Matrix:</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This is defined by giving:</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An eye point            (0, 3, -10)</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A point to look at      (0, 0, 0)</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An "up" direction       &lt;0, 1, 0&gt;</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Transform.View = Matrix.LookAtLH(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New Vector3(0, 3, -10),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New Vector3(0, 0, 0),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New Vector3(0, 1, 0))</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EF48074-C963-4F66-B7CF-2F191BCF7DFA}" type="slidenum">
              <a:t>1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upMatrices</a:t>
            </a:r>
            <a:endParaRPr b="0" lang="en-US" sz="4400" spc="-1" strike="noStrike">
              <a:solidFill>
                <a:srgbClr val="ccecff"/>
              </a:solidFill>
              <a:latin typeface="Arial"/>
            </a:endParaRPr>
          </a:p>
        </p:txBody>
      </p:sp>
      <p:sp>
        <p:nvSpPr>
          <p:cNvPr id="258"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Projection Matrix:</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Perspective transformation defined by:</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Field of view           Pi / 4</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Aspect ratio            1</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Near clipping plane     Z = 1</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Far clipping plane      Z = 100</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_Device.Transform.Projection = _</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Matrix.PerspectiveFovLH(Math.PI / 4, 1, 1, 100)</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End Sub</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8F9C6F7-8826-486B-8403-C2EE29189515}" type="slidenum">
              <a:t>1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Direct3D?</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rectX</a:t>
            </a:r>
            <a:endParaRPr b="0" lang="en-US" sz="32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performance multi-media APIs</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udio</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ideo</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put devices</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c.</a:t>
            </a:r>
            <a:endParaRPr b="0" lang="en-US" sz="28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rect3D is the 3D graphics piece</a:t>
            </a: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8F13FA6-EFA2-4FCE-94A5-C6F5D88E69C6}" type="slidenum">
              <a:t>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Features</a:t>
            </a:r>
            <a:endParaRPr b="0" lang="en-US" sz="4400" spc="-1" strike="noStrike">
              <a:solidFill>
                <a:srgbClr val="ccecff"/>
              </a:solidFill>
              <a:latin typeface="Arial"/>
            </a:endParaRPr>
          </a:p>
        </p:txBody>
      </p:sp>
      <p:sp>
        <p:nvSpPr>
          <p:cNvPr id="26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ight sources</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face properties</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xtures</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ulling</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awing types:</a:t>
            </a:r>
            <a:endParaRPr b="0" lang="en-US" sz="32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iangle list, strip, fan</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ne list, strip</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int list</a:t>
            </a:r>
            <a:endParaRPr b="0" lang="en-US" sz="28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62FCEEB-A444-4377-8600-5523C9591496}" type="slidenum">
              <a:t>2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ere Next?</a:t>
            </a:r>
            <a:endParaRPr b="0" lang="en-US" sz="4400" spc="-1" strike="noStrike">
              <a:solidFill>
                <a:srgbClr val="ccecff"/>
              </a:solidFill>
              <a:latin typeface="Arial"/>
            </a:endParaRPr>
          </a:p>
        </p:txBody>
      </p:sp>
      <p:sp>
        <p:nvSpPr>
          <p:cNvPr id="26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XNA</a:t>
            </a:r>
            <a:endParaRPr b="0" lang="en-US" sz="3200" spc="-1" strike="noStrike">
              <a:solidFill>
                <a:srgbClr val="eaeaea"/>
              </a:solidFill>
              <a:latin typeface="Arial"/>
            </a:endParaRPr>
          </a:p>
          <a:p>
            <a:pPr lvl="1" marL="990720" indent="-53352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5b2ff"/>
                </a:solidFill>
                <a:uFillTx/>
                <a:latin typeface="Arial"/>
                <a:hlinkClick r:id="rId1"/>
              </a:rPr>
              <a:t>http://msdn2.microsoft.com/en-us/xna/default.aspx</a:t>
            </a:r>
            <a:endParaRPr b="0" lang="en-US" sz="24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ources for Microsoft game platforms</a:t>
            </a: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E62832A-D8E9-43EA-8FD4-F737292DAA68}" type="slidenum">
              <a:t>2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5400" y="2423880"/>
            <a:ext cx="8226360" cy="3671640"/>
          </a:xfrm>
          <a:prstGeom prst="rect">
            <a:avLst/>
          </a:prstGeom>
          <a:noFill/>
          <a:ln w="0">
            <a:noFill/>
          </a:ln>
        </p:spPr>
        <p:txBody>
          <a:bodyPr lIns="90000" rIns="90000" tIns="46800" bIns="46800" anchor="t">
            <a:norm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Back</a:t>
            </a:r>
            <a:endParaRPr b="0" lang="en-US" sz="4800" spc="-1" strike="noStrike">
              <a:solidFill>
                <a:srgbClr val="eaeaea"/>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FC51D6B6-E095-4996-A858-F1EF4BDA4191}" type="slidenum">
              <a:t>22</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ownload the DirectX SDK</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ither:</a:t>
            </a:r>
            <a:endParaRPr b="0" lang="en-US" sz="32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o to the Download Center </a:t>
            </a:r>
            <a:r>
              <a:rPr b="0" lang="en-US" sz="2800" spc="-1" strike="noStrike" u="sng">
                <a:solidFill>
                  <a:srgbClr val="65b2ff"/>
                </a:solidFill>
                <a:uFillTx/>
                <a:latin typeface="Arial"/>
                <a:hlinkClick r:id="rId1"/>
              </a:rPr>
              <a:t>www.microsoft.com/downloads</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arch for the DirectX SDK </a:t>
            </a:r>
            <a:endParaRPr b="0" lang="en-US" sz="28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r:</a:t>
            </a:r>
            <a:endParaRPr b="0" lang="en-US" sz="32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o to the DirectX Resource Center msdn2.microsoft.com/xna/aa937781.aspx</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 for links to the latest version</a:t>
            </a:r>
            <a:endParaRPr b="0" lang="en-US" sz="28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20D0B92-65AF-427E-87BF-BA9D73ED1ACB}" type="slidenum">
              <a:t>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 the Right Version!</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urrent version is DirectX 10</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uns only in Vista</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st performance with DirectX 10 hardware</a:t>
            </a: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EC2173E-0D96-481B-A86C-6249075AE7F1}" type="slidenum">
              <a:t>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
          <p:cNvSpPr/>
          <p:nvPr/>
        </p:nvSpPr>
        <p:spPr>
          <a:xfrm>
            <a:off x="304920" y="2209680"/>
            <a:ext cx="8458200" cy="533520"/>
          </a:xfrm>
          <a:prstGeom prst="rect">
            <a:avLst/>
          </a:prstGeom>
          <a:gradFill rotWithShape="0">
            <a:gsLst>
              <a:gs pos="0">
                <a:srgbClr val="eaeaea"/>
              </a:gs>
              <a:gs pos="100000">
                <a:srgbClr val="6b6b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rect3D Roadmap</a:t>
            </a:r>
            <a:endParaRPr b="0" lang="en-US" sz="4400" spc="-1" strike="noStrike">
              <a:solidFill>
                <a:srgbClr val="ccecff"/>
              </a:solidFill>
              <a:latin typeface="Arial"/>
            </a:endParaRPr>
          </a:p>
        </p:txBody>
      </p:sp>
      <p:sp>
        <p:nvSpPr>
          <p:cNvPr id="229" name="PlaceHolder 2"/>
          <p:cNvSpPr>
            <a:spLocks noGrp="1"/>
          </p:cNvSpPr>
          <p:nvPr>
            <p:ph/>
          </p:nvPr>
        </p:nvSpPr>
        <p:spPr>
          <a:xfrm>
            <a:off x="456840" y="1599840"/>
            <a:ext cx="8226360" cy="449748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Direct3D?</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verview</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 Code</a:t>
            </a: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C78DB81-42A0-4471-ACA3-603E4E3E002B}" type="slidenum">
              <a:t>5</a:t>
            </a:fld>
          </a:p>
        </p:txBody>
      </p:sp>
      <p:sp>
        <p:nvSpPr>
          <p:cNvPr id="6" name="PlaceHolder 5"/>
          <p:cNvSpPr>
            <a:spLocks noGrp="1"/>
          </p:cNvSpPr>
          <p:nvPr>
            <p:ph type="dt" idx="1"/>
          </p:nvPr>
        </p:nvSpPr>
        <p:spPr/>
        <p:txBody>
          <a:bodyPr/>
          <a:p>
            <a:r>
              <a:rPr lang="en-US"/>
              <a:t>April 24,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stall the DirectX SDK</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a Windows Forms application</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d references to:</a:t>
            </a:r>
            <a:endParaRPr b="0" lang="en-US" sz="32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icrosoft.DirectX</a:t>
            </a:r>
            <a:endParaRPr b="0" lang="en-US" sz="2800" spc="-1" strike="noStrike">
              <a:solidFill>
                <a:srgbClr val="eaeaea"/>
              </a:solidFill>
              <a:latin typeface="Arial"/>
            </a:endParaRPr>
          </a:p>
          <a:p>
            <a:pPr lvl="1" marL="990720" indent="-53352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icrosoft.DirectX.Direct3D </a:t>
            </a:r>
            <a:endParaRPr b="0" lang="en-US" sz="28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Sub Main to run the event loop</a:t>
            </a:r>
            <a:endParaRPr b="0" lang="en-US" sz="3200" spc="-1" strike="noStrike">
              <a:solidFill>
                <a:srgbClr val="eaeaea"/>
              </a:solidFill>
              <a:latin typeface="Arial"/>
            </a:endParaRPr>
          </a:p>
          <a:p>
            <a:pPr marL="609480" indent="-60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d code to the form’s class to draw</a:t>
            </a: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0D810C8-48E4-4733-BB21-D4328334EF14}" type="slidenum">
              <a:t>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2" name=""/>
          <p:cNvSpPr/>
          <p:nvPr/>
        </p:nvSpPr>
        <p:spPr>
          <a:xfrm>
            <a:off x="304920" y="2819520"/>
            <a:ext cx="8458200" cy="533160"/>
          </a:xfrm>
          <a:prstGeom prst="rect">
            <a:avLst/>
          </a:prstGeom>
          <a:gradFill rotWithShape="0">
            <a:gsLst>
              <a:gs pos="0">
                <a:srgbClr val="eaeaea"/>
              </a:gs>
              <a:gs pos="100000">
                <a:srgbClr val="6b6b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rect3D Roadmap</a:t>
            </a:r>
            <a:endParaRPr b="0" lang="en-US" sz="4400" spc="-1" strike="noStrike">
              <a:solidFill>
                <a:srgbClr val="ccecff"/>
              </a:solidFill>
              <a:latin typeface="Arial"/>
            </a:endParaRPr>
          </a:p>
        </p:txBody>
      </p:sp>
      <p:sp>
        <p:nvSpPr>
          <p:cNvPr id="234" name="PlaceHolder 2"/>
          <p:cNvSpPr>
            <a:spLocks noGrp="1"/>
          </p:cNvSpPr>
          <p:nvPr>
            <p:ph/>
          </p:nvPr>
        </p:nvSpPr>
        <p:spPr>
          <a:xfrm>
            <a:off x="456840" y="1599840"/>
            <a:ext cx="8226360" cy="4497480"/>
          </a:xfrm>
          <a:prstGeom prst="rect">
            <a:avLst/>
          </a:prstGeom>
          <a:noFill/>
          <a:ln w="0">
            <a:noFill/>
          </a:ln>
        </p:spPr>
        <p:txBody>
          <a:bodyPr lIns="90000" rIns="90000" tIns="46800" bIns="46800"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Direct3D?</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verview</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 Code</a:t>
            </a: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0D58A17-B7A2-4420-8E06-B4351DFCF893}" type="slidenum">
              <a:t>7</a:t>
            </a:fld>
          </a:p>
        </p:txBody>
      </p:sp>
      <p:sp>
        <p:nvSpPr>
          <p:cNvPr id="6" name="PlaceHolder 5"/>
          <p:cNvSpPr>
            <a:spLocks noGrp="1"/>
          </p:cNvSpPr>
          <p:nvPr>
            <p:ph type="dt" idx="1"/>
          </p:nvPr>
        </p:nvSpPr>
        <p:spPr/>
        <p:txBody>
          <a:bodyPr/>
          <a:p>
            <a:r>
              <a:rPr lang="en-US"/>
              <a:t>April 24,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 Main</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ublic Sub Main()</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009900"/>
                </a:solidFill>
                <a:latin typeface="Courier New"/>
              </a:rPr>
              <a:t>' Make the form.</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Dim frm As New OctahedronForm</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Initialize Direct3D.</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If </a:t>
            </a:r>
            <a:r>
              <a:rPr b="1" lang="en-US" sz="1600" spc="-1" strike="noStrike">
                <a:solidFill>
                  <a:srgbClr val="ff0000"/>
                </a:solidFill>
                <a:latin typeface="Courier New"/>
              </a:rPr>
              <a:t>frm.InitializeGraphics()</a:t>
            </a:r>
            <a:r>
              <a:rPr b="1" lang="en-US" sz="1600" spc="-1" strike="noStrike">
                <a:solidFill>
                  <a:srgbClr val="54547a"/>
                </a:solidFill>
                <a:latin typeface="Courier New"/>
              </a:rPr>
              <a:t> Then</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frm.Show()</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While the form is valid,</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a:t>
            </a:r>
            <a:r>
              <a:rPr b="1" lang="en-US" sz="1600" spc="-1" strike="noStrike">
                <a:solidFill>
                  <a:srgbClr val="009900"/>
                </a:solidFill>
                <a:latin typeface="Courier New"/>
              </a:rPr>
              <a:t>' render the scene and process messages.</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Do While frm.Created</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ff0000"/>
                </a:solidFill>
                <a:latin typeface="Courier New"/>
              </a:rPr>
              <a:t>frm.Render()</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Application.DoEvents()</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Loop</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    </a:t>
            </a:r>
            <a:r>
              <a:rPr b="1" lang="en-US" sz="1600" spc="-1" strike="noStrike">
                <a:solidFill>
                  <a:srgbClr val="54547a"/>
                </a:solidFill>
                <a:latin typeface="Courier New"/>
              </a:rPr>
              <a:t>End If</a:t>
            </a:r>
            <a:endParaRPr b="0" lang="en-US" sz="1600" spc="-1" strike="noStrike">
              <a:solidFill>
                <a:srgbClr val="eaeaea"/>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End Sub</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B48BB11-D9FD-42AD-8127-5B9B95A0C3DB}" type="slidenum">
              <a:t>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riables</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solidFill>
            <a:srgbClr val="ccecff"/>
          </a:solidFill>
          <a:ln w="9360">
            <a:solidFill>
              <a:srgbClr val="54547a"/>
            </a:solidFill>
            <a:miter/>
          </a:ln>
        </p:spPr>
        <p:txBody>
          <a:bodyPr lIns="90000" rIns="90000" tIns="46800" bIns="46800" anchor="t">
            <a:normAutofit/>
          </a:bodyPr>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The Direct3D device.</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rivate m_Device As Device</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Data variables.</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rivate Const NUM_TRIANGLES As Integer = 8</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rivate Const NUM_POINTS As Integer = 3 * NUM_TRIANGLES</a:t>
            </a:r>
            <a:endParaRPr b="0" lang="en-US" sz="1600" spc="-1" strike="noStrike">
              <a:solidFill>
                <a:srgbClr val="eaeaea"/>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urier New"/>
              </a:rPr>
              <a:t>' The vertex buffer that holds drawing data.</a:t>
            </a:r>
            <a:endParaRPr b="0" lang="en-US" sz="1600" spc="-1" strike="noStrike">
              <a:solidFill>
                <a:srgbClr val="eaeaea"/>
              </a:solidFill>
              <a:latin typeface="Arial"/>
            </a:endParaRPr>
          </a:p>
          <a:p>
            <a:pPr marL="609480" indent="-6094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a"/>
                </a:solidFill>
                <a:latin typeface="Courier New"/>
              </a:rPr>
              <a:t>Private m_VertexBuffer As VertexBuffer = Nothing</a:t>
            </a:r>
            <a:endParaRPr b="0" lang="en-US" sz="1600" spc="-1" strike="noStrike">
              <a:solidFill>
                <a:srgbClr val="eaeaea"/>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A5B7484-4346-4214-8AE6-13E486A835FA}" type="slidenum">
              <a:t>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Stephens</cp:lastModifiedBy>
  <dcterms:modified xsi:type="dcterms:W3CDTF">2007-10-05T18:46:09Z</dcterms:modified>
  <cp:revision>152</cp:revision>
  <dc:subject/>
  <dc:title>Fun with GDI+</dc:title>
</cp:coreProperties>
</file>