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8AE3-F4DA-455F-B6EB-A9847E61A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ncryption schemes such as DES basically focus on making a better random number generat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uses a large set of big arrays containing numb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nerate a random number, the algorithm combines the entries in the arrays in some mysterious way and spits out a numb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other mysterious connections among the array entries to modify the entries so they produce a different result next ti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hat, given a series of outputs, it should be very hard to guess the values inside the state arrays. If you could guess the values, then you could reproduce the series of random numbers and thus decrypt the me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high-level overview of encryption and decryption in Visual Stud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make a cryptographic service provider and initialize it some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can use its methods to encrypt and decrypt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more detailed description of the proc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a TripleDESCryptoServiceProvider, which applies the DES algorithm three times in a row. This code opens the input and output file streams, and creates the service provid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sizes depend on the cryptographic service provider and your version of Windows. For example, computers in the United States, Europe, and other countries may have different allowed key sizes due to export restr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ug.Assert statement verifies that we got some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asks the cryptographic service provider what the block size corresponding to the key size 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subroutine MakeKeyAndIV to make the encryption key and initialization vector (IV).</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a:t>
            </a:r>
            <a:r>
              <a:rPr b="0" lang="en-US" sz="500" spc="-1" strike="noStrike">
                <a:solidFill>
                  <a:srgbClr val="000000"/>
                </a:solidFill>
                <a:latin typeface="Courier New"/>
              </a:rPr>
              <a:t>MakeKeyAndIV creates a new PasswordDerivedBytes object to derive password bytes from a password string.</a:t>
            </a:r>
            <a:endParaRPr b="0" lang="en-US" sz="500" spc="-1" strike="noStrike">
              <a:solidFill>
                <a:srgbClr val="000000"/>
              </a:solidFill>
              <a:latin typeface="Arial"/>
            </a:endParaRPr>
          </a:p>
          <a:p>
            <a:pPr>
              <a:lnSpc>
                <a:spcPct val="100000"/>
              </a:lnSpc>
              <a:spcBef>
                <a:spcPts val="18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The Nothing parameter is a salt value. This example uses the SHA384 hash algorithm applied 1000 times.</a:t>
            </a:r>
            <a:endParaRPr b="0" lang="en-US" sz="500" spc="-1" strike="noStrike">
              <a:solidFill>
                <a:srgbClr val="000000"/>
              </a:solidFill>
              <a:latin typeface="Arial"/>
            </a:endParaRPr>
          </a:p>
          <a:p>
            <a:pPr>
              <a:lnSpc>
                <a:spcPct val="100000"/>
              </a:lnSpc>
              <a:spcBef>
                <a:spcPts val="18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The subroutine then uses GetBytes to get bytes from the PasswordDerivedBytes object. It gets the number of bytes needed to provide the proper number of key and IV bits.</a:t>
            </a:r>
            <a:endParaRPr b="0" lang="en-US" sz="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uses the cryptographic service provider to create an encryptor or decryptor, passing the constructor the key and IV b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ode can either encode or decode, it saves the new object in the variable crypto_transfor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hashing is to grind an input into “hash” that represents the inpu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makes a new CryptoStream object, passing its constructor the stream it should write into and the encryptor or decryp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program can process some data. This example reads data from the input stream in 1024 byte blocks and writes each block into the CryptoStr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inishes by cleaning up its stream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he example program uses subroutine Crypt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Encrypt button, the program uses CryptFile to encrypt a plaintext file into a ciphertext version. It then displays the result. (Function GrabFile simply returns the contents of a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Decrypt button, the program uses CryptFile to decrypt the ciphertext file into a deciphered version. It then displays the resul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cellent reference that explains how a whole bunch of cryptographic algorithms wor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hashing to tell two values apart so it should be unlikely that two different inputs should produce the same hash value. Of course if the number of possible inputs is greater than the number of possible hash values, then there must be some dup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nice if very similar inputs produced very different hash values. That makes it easier to tell that they are differ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difficult to guess an input value that will generate a particular hash value. If you could do that, then you could modify a file in such a way that it would have the same hash value as before you modified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ing is easy in Visual Studi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hash object. For example, you can use the SHA1Managed class. Use the object’s ComputeHash method to make the ha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hashing to see if a file has been tampered with. Hash the original file and save the hash value somewhere: within a program’s source code, in the Registry, in a file, etc. (Note: Be sure the attacker cannot modify the saved hash valu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rehash the file and compare the result to the saved valu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HashFile uses the code shown earl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kinds of encryption: asymmetric and symmetr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symmetric encryption, the sender and receiver use different keys to encrypt and decrypt. Also called “public key encryption” because the sender key can be made public so everyone can use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metric encryption, the sender and receiver use the same key to encrypt and decrypt. Also called “private key encryption” because the sender and receiver keys must be kept secret. Every sender/receiver pair must use a different key so others cannot eavesdro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file encryption uses symmetric encryption. You act as the sender when you encrypt the file and you act as the receiver when you decrypt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is faster. Sometimes a system will use asymmetric to generate private keys and then use those keys for symmetric encryp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 of encryption scheme takes random numbers and somehow combines them with message characters to produce the encrypted resul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could use Visual Studio’s Random class to generate random numbers. You could then combine them with Xor to produce the encrypted tex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crypt, you would produce the same sequence or random numbers and Xor then with the encrypted text to retrieve the original plain tex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e Random class doesn’t produce very random numbers. To read encyphered text, it would be fairly easy to try all of the sequences Random can generate until you find the one that turns the encyphered text into something that looks like plain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EA52B-95F8-432B-A05A-F25FACBC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1B86-4604-4AF5-9D60-0A3F1F82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A6F8-5AEC-4F09-B87C-5DAF20F2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E0C13-12C5-4DF2-8511-6355F4381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16DB-E13D-4FD6-ACDC-66E3C23E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026DD-995D-4382-96A5-898F00C76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81AD-4652-4CF0-BC57-E3DE93FBA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B313-5BD3-41B4-AFE7-FAFFC291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E5E2-23F3-41B9-ABB7-29D7C47E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5EB4-706A-4DCD-B75D-44B476F5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016F-6FBF-46B4-A317-6CC6E7D3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0CB5-8057-4186-AB30-4C759BE81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993300"/>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6633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3130-28ED-46E7-BF46-986BB543E3E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1" name=""/>
          <p:cNvSpPr/>
          <p:nvPr/>
        </p:nvSpPr>
        <p:spPr>
          <a:xfrm>
            <a:off x="685800" y="2057400"/>
            <a:ext cx="8001000" cy="457200"/>
          </a:xfrm>
          <a:prstGeom prst="rect">
            <a:avLst/>
          </a:prstGeom>
          <a:gradFill rotWithShape="0">
            <a:gsLst>
              <a:gs pos="0">
                <a:srgbClr val="9933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yptography Roadmap</a:t>
            </a:r>
            <a:endParaRPr b="1" lang="en-US" sz="4400" spc="-1" strike="noStrike">
              <a:solidFill>
                <a:srgbClr val="eaeaea"/>
              </a:solidFill>
              <a:latin typeface="Tahoma"/>
            </a:endParaRPr>
          </a:p>
        </p:txBody>
      </p:sp>
      <p:sp>
        <p:nvSpPr>
          <p:cNvPr id="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A4F335F-6BEB-489B-AD6A-23BE3793AE70}"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tter Random Numbers</a:t>
            </a:r>
            <a:endParaRPr b="1" lang="en-US" sz="4400" spc="-1" strike="noStrike">
              <a:solidFill>
                <a:srgbClr val="eaeaea"/>
              </a:solidFill>
              <a:latin typeface="Tahoma"/>
            </a:endParaRPr>
          </a:p>
        </p:txBody>
      </p:sp>
      <p:sp>
        <p:nvSpPr>
          <p:cNvPr id="98" name=""/>
          <p:cNvSpPr/>
          <p:nvPr/>
        </p:nvSpPr>
        <p:spPr>
          <a:xfrm>
            <a:off x="1127160" y="2165400"/>
            <a:ext cx="3825720" cy="39304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rPr>
              <a:t>Random Number Generator</a:t>
            </a:r>
            <a:endParaRPr b="0" lang="en-US" sz="2000" spc="-1" strike="noStrike">
              <a:solidFill>
                <a:srgbClr val="ffffff"/>
              </a:solidFill>
              <a:latin typeface="Arial"/>
            </a:endParaRPr>
          </a:p>
        </p:txBody>
      </p:sp>
      <p:graphicFrame>
        <p:nvGraphicFramePr>
          <p:cNvPr id="99" name=""/>
          <p:cNvGraphicFramePr/>
          <p:nvPr/>
        </p:nvGraphicFramePr>
        <p:xfrm>
          <a:off x="1905120" y="3048120"/>
          <a:ext cx="2286000" cy="85068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76</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33</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890</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3</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2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475</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778</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4</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5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52</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345</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890</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421</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53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65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879</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0" name=""/>
          <p:cNvGraphicFramePr/>
          <p:nvPr/>
        </p:nvGraphicFramePr>
        <p:xfrm>
          <a:off x="1905120" y="4038480"/>
          <a:ext cx="2286000" cy="85104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238</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67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9</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57</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13</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5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34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71</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25</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81</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87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1</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753</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5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84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8</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1" name=""/>
          <p:cNvGraphicFramePr/>
          <p:nvPr/>
        </p:nvGraphicFramePr>
        <p:xfrm>
          <a:off x="1905120" y="5029200"/>
          <a:ext cx="2286000" cy="85104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786</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870</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30</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48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12</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98</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8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9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18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875</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13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4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8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976</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251</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75</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1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8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655</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2" name=""/>
          <p:cNvSpPr/>
          <p:nvPr/>
        </p:nvSpPr>
        <p:spPr>
          <a:xfrm>
            <a:off x="1905120" y="26668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ahoma"/>
              </a:rPr>
              <a:t>State Arrays</a:t>
            </a:r>
            <a:endParaRPr b="0" lang="en-US" sz="1600" spc="-1" strike="noStrike">
              <a:solidFill>
                <a:srgbClr val="ffffff"/>
              </a:solidFill>
              <a:latin typeface="Arial"/>
            </a:endParaRPr>
          </a:p>
        </p:txBody>
      </p:sp>
      <p:sp>
        <p:nvSpPr>
          <p:cNvPr id="103" name=""/>
          <p:cNvSpPr/>
          <p:nvPr/>
        </p:nvSpPr>
        <p:spPr>
          <a:xfrm>
            <a:off x="4191120" y="3733920"/>
            <a:ext cx="533160" cy="16761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4191120" y="3505320"/>
            <a:ext cx="533160" cy="10666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V="1">
            <a:off x="4191120" y="43426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V="1">
            <a:off x="3657600" y="43426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2742480" y="3352680"/>
            <a:ext cx="228600" cy="9907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H="1">
            <a:off x="1371600" y="3505320"/>
            <a:ext cx="533520" cy="16761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1371600" y="3276720"/>
            <a:ext cx="533520" cy="10666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H="1" flipV="1">
            <a:off x="1675800" y="41140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2057400" y="3352680"/>
            <a:ext cx="3808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2514600" y="3733920"/>
            <a:ext cx="3808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H="1" flipV="1">
            <a:off x="2208960" y="4190400"/>
            <a:ext cx="228600" cy="990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00400" y="3276720"/>
            <a:ext cx="6094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57600" y="3657600"/>
            <a:ext cx="45720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V="1">
            <a:off x="3200400" y="4343400"/>
            <a:ext cx="228600" cy="8380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295280" y="3200400"/>
            <a:ext cx="609840" cy="25146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1295280" y="3276720"/>
            <a:ext cx="609840" cy="1600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flipV="1">
            <a:off x="1643040" y="4266360"/>
            <a:ext cx="262080" cy="11430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562360" y="3962520"/>
            <a:ext cx="3087000" cy="368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4F 59 A4 FB 9A 8D 19 91 AE</a:t>
            </a:r>
            <a:endParaRPr b="0" lang="en-US" sz="1800" spc="-1" strike="noStrike">
              <a:solidFill>
                <a:srgbClr val="ffffff"/>
              </a:solidFill>
              <a:latin typeface="Arial"/>
            </a:endParaRPr>
          </a:p>
        </p:txBody>
      </p:sp>
      <p:sp>
        <p:nvSpPr>
          <p:cNvPr id="121" name=""/>
          <p:cNvSpPr/>
          <p:nvPr/>
        </p:nvSpPr>
        <p:spPr>
          <a:xfrm>
            <a:off x="4952880" y="4114800"/>
            <a:ext cx="53352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3200400" y="3809160"/>
            <a:ext cx="228600" cy="10177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2743200" y="4114800"/>
            <a:ext cx="152280" cy="5335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4114800" y="533340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657600" y="510552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2285280" y="533340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flipV="1">
            <a:off x="1828080" y="510552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V="1">
            <a:off x="3657600" y="312408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flipV="1">
            <a:off x="2361600" y="335196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flipV="1">
            <a:off x="1904400" y="312408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B10F51BE-EA71-41DF-90A7-6306CCA30B8E}" type="slidenum">
              <a:t>10</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itialization Vector (IV)</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ries of bytes that the algorithm uses to initialize the state array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hardcode this into your progra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generate the IV by hashing a passwor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381E6FF-EEB0-4163-B57D-A12DF04370DA}"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32">
                                            <p:txEl>
                                              <p:pRg st="0" end="0"/>
                                            </p:txEl>
                                          </p:spTgt>
                                        </p:tgtEl>
                                        <p:attrNameLst>
                                          <p:attrName>style.visibility</p:attrName>
                                        </p:attrNameLst>
                                      </p:cBhvr>
                                      <p:to>
                                        <p:strVal val="visible"/>
                                      </p:to>
                                    </p:set>
                                    <p:anim calcmode="lin" valueType="num">
                                      <p:cBhvr additive="base">
                                        <p:cTn id="7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32">
                                            <p:txEl>
                                              <p:pRg st="1" end="1"/>
                                            </p:txEl>
                                          </p:spTgt>
                                        </p:tgtEl>
                                        <p:attrNameLst>
                                          <p:attrName>style.visibility</p:attrName>
                                        </p:attrNameLst>
                                      </p:cBhvr>
                                      <p:to>
                                        <p:strVal val="visible"/>
                                      </p:to>
                                    </p:set>
                                    <p:anim calcmode="lin" valueType="num">
                                      <p:cBhvr additive="base">
                                        <p:cTn id="8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2">
                                            <p:txEl>
                                              <p:pRg st="2" end="2"/>
                                            </p:txEl>
                                          </p:spTgt>
                                        </p:tgtEl>
                                        <p:attrNameLst>
                                          <p:attrName>style.visibility</p:attrName>
                                        </p:attrNameLst>
                                      </p:cBhvr>
                                      <p:to>
                                        <p:strVal val="visible"/>
                                      </p:to>
                                    </p:set>
                                    <p:anim calcmode="lin" valueType="num">
                                      <p:cBhvr additive="base">
                                        <p:cTn id="9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Decryption From 5,280 Feet</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n encryption service provider</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ize the service provider</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 or decrypt the dat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8331596-CD82-47CD-9061-8DAAB9B74B75}"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34">
                                            <p:txEl>
                                              <p:pRg st="0" end="0"/>
                                            </p:txEl>
                                          </p:spTgt>
                                        </p:tgtEl>
                                        <p:attrNameLst>
                                          <p:attrName>style.visibility</p:attrName>
                                        </p:attrNameLst>
                                      </p:cBhvr>
                                      <p:to>
                                        <p:strVal val="visible"/>
                                      </p:to>
                                    </p:set>
                                    <p:anim calcmode="lin" valueType="num">
                                      <p:cBhvr additive="base">
                                        <p:cTn id="99"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34">
                                            <p:txEl>
                                              <p:pRg st="1" end="1"/>
                                            </p:txEl>
                                          </p:spTgt>
                                        </p:tgtEl>
                                        <p:attrNameLst>
                                          <p:attrName>style.visibility</p:attrName>
                                        </p:attrNameLst>
                                      </p:cBhvr>
                                      <p:to>
                                        <p:strVal val="visible"/>
                                      </p:to>
                                    </p:set>
                                    <p:anim calcmode="lin" valueType="num">
                                      <p:cBhvr additive="base">
                                        <p:cTn id="105"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34">
                                            <p:txEl>
                                              <p:pRg st="2" end="2"/>
                                            </p:txEl>
                                          </p:spTgt>
                                        </p:tgtEl>
                                        <p:attrNameLst>
                                          <p:attrName>style.visibility</p:attrName>
                                        </p:attrNameLst>
                                      </p:cBhvr>
                                      <p:to>
                                        <p:strVal val="visible"/>
                                      </p:to>
                                    </p:set>
                                    <p:anim calcmode="lin" valueType="num">
                                      <p:cBhvr additive="base">
                                        <p:cTn id="111"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Decryption</a:t>
            </a:r>
            <a:br>
              <a:rPr sz="4400"/>
            </a:br>
            <a:r>
              <a:rPr b="1" lang="en-US" sz="4400" spc="-1" strike="noStrike">
                <a:solidFill>
                  <a:srgbClr val="eaeaea"/>
                </a:solidFill>
                <a:latin typeface="Tahoma"/>
              </a:rPr>
              <a:t>in Visual Studio</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ake an encryption service provider</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ick an encryption key size</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Get the corresponding block size</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Make the encryption key and initialization vector (IV)</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reate the encryptor or decryptor</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Attach a CryptoStream to the output stream</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Encrypt or decrypt in blocks</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Close the stream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1CC78A7-B4C4-4C8E-BA34-9EBA5C9F46CE}"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1. Make an encryption service provider</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Encrypt or decrypt a file, saving the results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in another fil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rivate Sub CryptFile(ByVal password As String,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in_file As String, ByVal out_file As String,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encrypt As Boolea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Create input and output file stream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in_stream As New FileStream(in_file,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Mode.Open, FileAccess.Read)</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out_stream As New FileStream(out_file,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Mode.Create, FileAccess.Writ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Make a triple DES service provide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des_provider As New TripleDESCryptoServiceProvider</a:t>
            </a:r>
            <a:endParaRPr b="0" lang="en-US" sz="1400" spc="-1" strike="noStrike">
              <a:solidFill>
                <a:srgbClr val="ffffff"/>
              </a:solidFill>
              <a:latin typeface="Tahoma"/>
            </a:endParaRPr>
          </a:p>
        </p:txBody>
      </p:sp>
      <p:sp>
        <p:nvSpPr>
          <p:cNvPr id="139"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828E526-BDDF-4F8B-8A79-6A4B23F888D8}"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2. Pick an encryption key size</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Find a valid key size for this provider.</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key_size_bits As Integer = 0</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 i As Integer = 1024 To 1 Step -1</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des_provider.ValidKeySize(i) Then</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key_size_bits = i</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xit For</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nd If</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xt i</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bug.Assert(key_size_bits &gt; 0)</a:t>
            </a:r>
            <a:endParaRPr b="0" lang="en-US" sz="1800" spc="-1" strike="noStrike">
              <a:solidFill>
                <a:srgbClr val="ffffff"/>
              </a:solidFill>
              <a:latin typeface="Tahoma"/>
            </a:endParaRPr>
          </a:p>
        </p:txBody>
      </p:sp>
      <p:sp>
        <p:nvSpPr>
          <p:cNvPr id="142"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9400751-147B-4474-8957-B8CD70D8EB7C}"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3. Get the corresponding block size</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Get the block size for this provide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block_size_bits As Integer = des_provider.BlockSize</a:t>
            </a:r>
            <a:endParaRPr b="0" lang="en-US" sz="1400" spc="-1" strike="noStrike">
              <a:solidFill>
                <a:srgbClr val="ffffff"/>
              </a:solidFill>
              <a:latin typeface="Tahoma"/>
            </a:endParaRPr>
          </a:p>
        </p:txBody>
      </p:sp>
      <p:sp>
        <p:nvSpPr>
          <p:cNvPr id="145"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A8E4099-26B8-420B-846D-272958C1E57A}"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4. Make the encryption key and initialization vector (IV)</a:t>
            </a:r>
            <a:endParaRPr b="1" lang="en-US" sz="4000" spc="-1" strike="noStrike">
              <a:solidFill>
                <a:srgbClr val="eaeaea"/>
              </a:solidFill>
              <a:latin typeface="Tahoma"/>
            </a:endParaRPr>
          </a:p>
        </p:txBody>
      </p:sp>
      <p:sp>
        <p:nvSpPr>
          <p:cNvPr id="147" name="PlaceHolder 2"/>
          <p:cNvSpPr>
            <a:spLocks noGrp="1"/>
          </p:cNvSpPr>
          <p:nvPr>
            <p:ph/>
          </p:nvPr>
        </p:nvSpPr>
        <p:spPr>
          <a:xfrm>
            <a:off x="1066320" y="1981080"/>
            <a:ext cx="7543800" cy="243864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Generate the key and initialization vecto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key As Byte() = Noth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iv As Byte() = Noth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Courier New"/>
              </a:rPr>
              <a:t> </a:t>
            </a:r>
            <a:r>
              <a:rPr b="0" lang="en-US" sz="1400" spc="-1" strike="noStrike">
                <a:solidFill>
                  <a:srgbClr val="ffffff"/>
                </a:solidFill>
                <a:latin typeface="Courier New"/>
              </a:rPr>
              <a:t>   </a:t>
            </a:r>
            <a:r>
              <a:rPr b="1" sz="1400" spc="-1" strike="noStrike">
                <a:solidFill>
                  <a:srgbClr val="ffffff"/>
                </a:solidFill>
                <a:latin typeface="Courier New"/>
              </a:rPr>
              <a:t>Dim salt As Byte() = {&amp;H10, &amp;H20, &amp;H12, &amp;H23, &amp;H37, &amp;HA4, &amp;HC5,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amp;HA6, &amp;HF1, &amp;HF0, &amp;HEE, &amp;H21, &amp;H22, &amp;H45}</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MakeKeyAndIV(password, salt, key_size_bits,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lock_size_bits, key, iv)</a:t>
            </a:r>
            <a:endParaRPr b="0" lang="en-US" sz="1400" spc="-1" strike="noStrike">
              <a:solidFill>
                <a:srgbClr val="ffffff"/>
              </a:solidFill>
              <a:latin typeface="Tahoma"/>
            </a:endParaRPr>
          </a:p>
        </p:txBody>
      </p:sp>
      <p:sp>
        <p:nvSpPr>
          <p:cNvPr id="148"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9B5ACF3-8481-4396-ACF5-C62561871380}"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b MakeKeyAndIV</a:t>
            </a:r>
            <a:endParaRPr b="1" lang="en-US" sz="4400" spc="-1" strike="noStrike">
              <a:solidFill>
                <a:srgbClr val="eaeaea"/>
              </a:solidFill>
              <a:latin typeface="Tahoma"/>
            </a:endParaRPr>
          </a:p>
        </p:txBody>
      </p:sp>
      <p:sp>
        <p:nvSpPr>
          <p:cNvPr id="150" name="PlaceHolder 2"/>
          <p:cNvSpPr>
            <a:spLocks noGrp="1"/>
          </p:cNvSpPr>
          <p:nvPr>
            <p:ph/>
          </p:nvPr>
        </p:nvSpPr>
        <p:spPr>
          <a:xfrm>
            <a:off x="1066320" y="1980720"/>
            <a:ext cx="7543800" cy="403884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Courier New"/>
              </a:rPr>
              <a:t>    </a:t>
            </a:r>
            <a:r>
              <a:rPr b="1" lang="en-US" sz="1600" spc="-1" strike="noStrike">
                <a:solidFill>
                  <a:srgbClr val="66ccff"/>
                </a:solidFill>
                <a:latin typeface="Courier New"/>
              </a:rPr>
              <a:t>' Use the password to generate key byte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Courier New"/>
              </a:rPr>
              <a:t> </a:t>
            </a:r>
            <a:r>
              <a:rPr b="0" lang="en-US" sz="1600" spc="-1" strike="noStrike">
                <a:solidFill>
                  <a:srgbClr val="ffffff"/>
                </a:solidFill>
                <a:latin typeface="Courier New"/>
              </a:rPr>
              <a:t>   </a:t>
            </a:r>
            <a:r>
              <a:rPr b="1" sz="1600" spc="-1" strike="noStrike">
                <a:solidFill>
                  <a:srgbClr val="ffffff"/>
                </a:solidFill>
                <a:latin typeface="Courier New"/>
              </a:rPr>
              <a:t>Private Sub MakeKeyAndIV(ByVal password As String, </a:t>
            </a:r>
            <a:r>
              <a:rPr b="1" lang="en-US" sz="1600" spc="-1" strike="noStrike">
                <a:solidFill>
                  <a:srgbClr val="ffffff"/>
                </a:solidFill>
                <a:latin typeface="Courier New"/>
              </a:rPr>
              <a:t>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sz="1600" spc="-1" strike="noStrike">
                <a:solidFill>
                  <a:srgbClr val="ffffff"/>
                </a:solidFill>
                <a:latin typeface="Courier New"/>
              </a:rPr>
              <a:t>ByVal salt() As Byte, ByVal key_size_bits As Integer, </a:t>
            </a:r>
            <a:r>
              <a:rPr b="1" lang="en-US" sz="1600" spc="-1" strike="noStrike">
                <a:solidFill>
                  <a:srgbClr val="ffffff"/>
                </a:solidFill>
                <a:latin typeface="Courier New"/>
              </a:rPr>
              <a:t>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sz="1600" spc="-1" strike="noStrike">
                <a:solidFill>
                  <a:srgbClr val="ffffff"/>
                </a:solidFill>
                <a:latin typeface="Courier New"/>
              </a:rPr>
              <a:t>ByVal block_size_bits As Integer, </a:t>
            </a:r>
            <a:r>
              <a:rPr b="1" lang="en-US" sz="1600" spc="-1" strike="noStrike">
                <a:solidFill>
                  <a:srgbClr val="ffffff"/>
                </a:solidFill>
                <a:latin typeface="Courier New"/>
              </a:rPr>
              <a:t>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sz="1600" spc="-1" strike="noStrike">
                <a:solidFill>
                  <a:srgbClr val="ffffff"/>
                </a:solidFill>
                <a:latin typeface="Courier New"/>
              </a:rPr>
              <a:t>ByRef key As Byte(), ByRef iv As Byte())</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sz="1600" spc="-1" strike="noStrike">
                <a:solidFill>
                  <a:srgbClr val="ffffff"/>
                </a:solidFill>
                <a:latin typeface="Courier New"/>
              </a:rPr>
              <a:t> </a:t>
            </a:r>
            <a:r>
              <a:rPr b="1" sz="1600" spc="-1" strike="noStrike">
                <a:solidFill>
                  <a:srgbClr val="ffffff"/>
                </a:solidFill>
                <a:latin typeface="Courier New"/>
              </a:rPr>
              <a:t>Dim derive_bytes As New Rfc2898DeriveBytes( _</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Courier New"/>
              </a:rPr>
              <a:t>    </a:t>
            </a:r>
            <a:r>
              <a:rPr b="1" lang="en-US" sz="1600" spc="-1" strike="noStrike">
                <a:solidFill>
                  <a:srgbClr val="ffffff"/>
                </a:solidFill>
                <a:latin typeface="Courier New"/>
              </a:rPr>
              <a:t>    </a:t>
            </a:r>
            <a:r>
              <a:rPr b="1" sz="1600" spc="-1" strike="noStrike">
                <a:solidFill>
                  <a:srgbClr val="ffffff"/>
                </a:solidFill>
                <a:latin typeface="Courier New"/>
              </a:rPr>
              <a:t>    </a:t>
            </a:r>
            <a:r>
              <a:rPr b="1" sz="1600" spc="-1" strike="noStrike">
                <a:solidFill>
                  <a:srgbClr val="ffffff"/>
                </a:solidFill>
                <a:latin typeface="Courier New"/>
              </a:rPr>
              <a:t>password, salt, 1000)</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Courier New"/>
              </a:rPr>
              <a:t>        </a:t>
            </a:r>
            <a:r>
              <a:rPr b="1" sz="1600" spc="-1" strike="noStrike">
                <a:solidFill>
                  <a:srgbClr val="ffffff"/>
                </a:solidFill>
                <a:latin typeface="Courier New"/>
              </a:rPr>
              <a:t>key = derive_bytes.GetBytes(key_size_bits \ 8)</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Courier New"/>
              </a:rPr>
              <a:t>        </a:t>
            </a:r>
            <a:r>
              <a:rPr b="1" sz="1600" spc="-1" strike="noStrike">
                <a:solidFill>
                  <a:srgbClr val="ffffff"/>
                </a:solidFill>
                <a:latin typeface="Courier New"/>
              </a:rPr>
              <a:t>iv = derive_bytes.GetBytes(block_size_bits \ 8)</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End Sub</a:t>
            </a:r>
            <a:endParaRPr b="0" lang="en-US" sz="1600" spc="-1" strike="noStrike">
              <a:solidFill>
                <a:srgbClr val="ffffff"/>
              </a:solidFill>
              <a:latin typeface="Tahoma"/>
            </a:endParaRPr>
          </a:p>
        </p:txBody>
      </p:sp>
      <p:sp>
        <p:nvSpPr>
          <p:cNvPr id="151"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FE4B46D-8D0A-425B-9A31-A9E5966965A4}"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5. Create the encryptor or decryptor</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Make the encryptor or decrypto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rypto_transform As ICryptoTransform</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f encrypt The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 des_provider.CreateEncryptor(key, iv)</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l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 des_provider.CreateDecryptor(key, iv)</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154"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71898D7-1717-431E-8AA1-4C4946905830}"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Overview</a:t>
            </a:r>
            <a:endParaRPr b="1" lang="en-US" sz="4400" spc="-1" strike="noStrike">
              <a:solidFill>
                <a:srgbClr val="eaeaea"/>
              </a:solidFill>
              <a:latin typeface="Tahoma"/>
            </a:endParaRPr>
          </a:p>
        </p:txBody>
      </p:sp>
      <p:sp>
        <p:nvSpPr>
          <p:cNvPr id="65" name=""/>
          <p:cNvSpPr/>
          <p:nvPr/>
        </p:nvSpPr>
        <p:spPr>
          <a:xfrm>
            <a:off x="1676520" y="3581280"/>
            <a:ext cx="137160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Hash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Algorithm</a:t>
            </a:r>
            <a:endParaRPr b="0" lang="en-US" sz="1800" spc="-1" strike="noStrike">
              <a:solidFill>
                <a:srgbClr val="ffffff"/>
              </a:solidFill>
              <a:latin typeface="Arial"/>
            </a:endParaRPr>
          </a:p>
        </p:txBody>
      </p:sp>
      <p:sp>
        <p:nvSpPr>
          <p:cNvPr id="66" name=""/>
          <p:cNvSpPr/>
          <p:nvPr/>
        </p:nvSpPr>
        <p:spPr>
          <a:xfrm>
            <a:off x="2057400" y="3200400"/>
            <a:ext cx="609480" cy="380880"/>
          </a:xfrm>
          <a:custGeom>
            <a:avLst/>
            <a:gdLst>
              <a:gd name="textAreaLeft" fmla="*/ 133920 w 609480"/>
              <a:gd name="textAreaRight" fmla="*/ 475560 w 6094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931320" y="236232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a secret message</a:t>
            </a:r>
            <a:endParaRPr b="0" lang="en-US" sz="1800" spc="-1" strike="noStrike">
              <a:solidFill>
                <a:srgbClr val="ffffff"/>
              </a:solidFill>
              <a:latin typeface="Arial"/>
            </a:endParaRPr>
          </a:p>
        </p:txBody>
      </p:sp>
      <p:sp>
        <p:nvSpPr>
          <p:cNvPr id="68" name=""/>
          <p:cNvSpPr/>
          <p:nvPr/>
        </p:nvSpPr>
        <p:spPr>
          <a:xfrm rot="5400000">
            <a:off x="2933640" y="4076640"/>
            <a:ext cx="609480" cy="380880"/>
          </a:xfrm>
          <a:custGeom>
            <a:avLst/>
            <a:gdLst>
              <a:gd name="textAreaLeft" fmla="*/ 133920 w 609480"/>
              <a:gd name="textAreaRight" fmla="*/ 475560 w 6094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2362320" y="2743200"/>
            <a:ext cx="0" cy="38088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15440" y="41148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F59A4FB9A8D1991AEEBB6AE2A10B75</a:t>
            </a:r>
            <a:endParaRPr b="0" lang="en-US" sz="1800" spc="-1" strike="noStrike">
              <a:solidFill>
                <a:srgbClr val="ffffff"/>
              </a:solidFill>
              <a:latin typeface="Arial"/>
            </a:endParaRPr>
          </a:p>
        </p:txBody>
      </p:sp>
      <p:sp>
        <p:nvSpPr>
          <p:cNvPr id="71" name=""/>
          <p:cNvSpPr/>
          <p:nvPr/>
        </p:nvSpPr>
        <p:spPr>
          <a:xfrm>
            <a:off x="3505320" y="4267080"/>
            <a:ext cx="60948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2AA1ADA3-C786-47D6-8C64-A07F2D2297B9}" type="slidenum">
              <a:t>2</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6. Attach a CryptoStream to the output stream</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Attach a crypto stream to the output stream.</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rypto_stream As New CryptoStream(out_stream,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CryptoStreamMode.Write)</a:t>
            </a:r>
            <a:endParaRPr b="0" lang="en-US" sz="1400" spc="-1" strike="noStrike">
              <a:solidFill>
                <a:srgbClr val="ffffff"/>
              </a:solidFill>
              <a:latin typeface="Tahoma"/>
            </a:endParaRPr>
          </a:p>
        </p:txBody>
      </p:sp>
      <p:sp>
        <p:nvSpPr>
          <p:cNvPr id="157"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7F103A0-9BC3-462E-BE04-15C46716D0EB}"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7. Encrypt or decrypt in blocks</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Encrypt or decrypt the fil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Const BLOCK_SIZE As Integer = 1024</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buffer(BLOCK_SIZE) As Byt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bytes_read As Integer</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o</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Read some bytes.</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bytes_read = _</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n_stream.Read(buffer, 0, BLOCK_SIZ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bytes_read = 0 Then Exit Do</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Write the bytes into the CryptoStream.</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crypto_stream.Write(buffer, 0, bytes_read)</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op</a:t>
            </a:r>
            <a:endParaRPr b="0" lang="en-US" sz="1800" spc="-1" strike="noStrike">
              <a:solidFill>
                <a:srgbClr val="ffffff"/>
              </a:solidFill>
              <a:latin typeface="Tahoma"/>
            </a:endParaRPr>
          </a:p>
        </p:txBody>
      </p:sp>
      <p:sp>
        <p:nvSpPr>
          <p:cNvPr id="160"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591A42B-6712-4A95-A707-0A85CFAA095F}" type="slidenum">
              <a:t>2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8. Close the streams</a:t>
            </a: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Close the stream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sz="1400" spc="-1" strike="noStrike">
                <a:solidFill>
                  <a:srgbClr val="ffffff"/>
                </a:solidFill>
                <a:latin typeface="Courier New"/>
              </a:rPr>
              <a:t> </a:t>
            </a:r>
            <a:r>
              <a:rPr b="1" sz="1400" spc="-1" strike="noStrike">
                <a:solidFill>
                  <a:srgbClr val="ffffff"/>
                </a:solidFill>
                <a:latin typeface="Courier New"/>
              </a:rPr>
              <a:t>Try</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crypto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Catch crypto_ex As CryptographicExceptio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 Ignore this one. The password is bad.</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Catch ex As Exceptio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 Re-raise this on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Throw ex</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End Try</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n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out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63"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C15F56C-46F0-4260-8F87-BACE6815C080}" type="slidenum">
              <a:t>2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Subroutine CryptFile</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plaintext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btnEncrypt_Click(...) Handles btnEncrypt.Click</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File(txtPassword.Text, txtPlaintextFile.Text,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CiphertextFile.Text, Tru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isplay the resul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Ciphertext.Text = GrabFile(txtCiphertextFile.Tex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ecrypt the cyphertext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btnDecrypt_Click(...) Handles btnDecrypt.Click</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File(txtPassword.Text, txtCiphertextFile.Text,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DecipheredFile.Text, Fals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isplay the resul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Deciphered.Text = GrabFile(txtDecipheredFile.Tex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66"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7514C09-C139-4777-9816-5651EA146F96}" type="slidenum">
              <a:t>2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a:t>
            </a:r>
            <a:endParaRPr b="1" lang="en-US" sz="4400" spc="-1" strike="noStrike">
              <a:solidFill>
                <a:srgbClr val="eaeaea"/>
              </a:solidFill>
              <a:latin typeface="Tahoma"/>
            </a:endParaRPr>
          </a:p>
        </p:txBody>
      </p:sp>
      <p:pic>
        <p:nvPicPr>
          <p:cNvPr id="168" name="" descr=""/>
          <p:cNvPicPr/>
          <p:nvPr/>
        </p:nvPicPr>
        <p:blipFill>
          <a:blip r:embed="rId1"/>
          <a:stretch/>
        </p:blipFill>
        <p:spPr>
          <a:xfrm>
            <a:off x="1143000" y="2057400"/>
            <a:ext cx="7315200" cy="3754440"/>
          </a:xfrm>
          <a:prstGeom prst="rect">
            <a:avLst/>
          </a:prstGeom>
          <a:ln w="0">
            <a:noFill/>
          </a:ln>
        </p:spPr>
      </p:pic>
      <p:sp>
        <p:nvSpPr>
          <p:cNvPr id="169"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101ADDB-8301-40B4-9187-7380BBBCE336}" type="slidenum">
              <a:t>24</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erence</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pplied Cryptography, Second Edition</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Bruce Schneier</a:t>
            </a:r>
            <a:endParaRPr b="0" lang="en-US" sz="2800" spc="-1" strike="noStrike">
              <a:solidFill>
                <a:srgbClr val="ffffcc"/>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1995, John Wiley &amp; Son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1737677-6B4E-4E84-8B81-DD2DC2024593}" type="slidenum">
              <a:t>2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161C8D5E-214B-42FA-9CF2-F259B0508F1C}" type="slidenum">
              <a:t>26</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Goals</a:t>
            </a: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inputs should be unlikely to produce the same hash valu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but different inputs should produce very different hash valu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hould be difficult to guess an input to produce a specific hash valu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C70FC5A-CFE8-4E1C-92E6-0BB5F31EEACD}"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anim calcmode="lin" valueType="num">
                                      <p:cBhvr additive="base">
                                        <p:cTn id="7" dur="500" fill="hold"/>
                                        <p:tgtEl>
                                          <p:spTgt spid="7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3">
                                            <p:txEl>
                                              <p:pRg st="1" end="1"/>
                                            </p:txEl>
                                          </p:spTgt>
                                        </p:tgtEl>
                                        <p:attrNameLst>
                                          <p:attrName>style.visibility</p:attrName>
                                        </p:attrNameLst>
                                      </p:cBhvr>
                                      <p:to>
                                        <p:strVal val="visible"/>
                                      </p:to>
                                    </p:set>
                                    <p:anim calcmode="lin" valueType="num">
                                      <p:cBhvr additive="base">
                                        <p:cTn id="13" dur="500" fill="hold"/>
                                        <p:tgtEl>
                                          <p:spTgt spid="7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73">
                                            <p:txEl>
                                              <p:pRg st="2" end="2"/>
                                            </p:txEl>
                                          </p:spTgt>
                                        </p:tgtEl>
                                        <p:attrNameLst>
                                          <p:attrName>style.visibility</p:attrName>
                                        </p:attrNameLst>
                                      </p:cBhvr>
                                      <p:to>
                                        <p:strVal val="visible"/>
                                      </p:to>
                                    </p:set>
                                    <p:anim calcmode="lin" valueType="num">
                                      <p:cBhvr additive="base">
                                        <p:cTn id="19" dur="500" fill="hold"/>
                                        <p:tgtEl>
                                          <p:spTgt spid="73">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In VB</a:t>
            </a: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Open the 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file_stream As New FileStream(txtDataFile.Text, FileMode.Op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Use an SHA1Managed object to hash the by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sha1 As New SHA1Manag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hash_bytes() As Byte = sha1.ComputeHash(file_strea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Display the hash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txt As String =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or Each b As Byte In hash_by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 &amp;= Hex(b).PadLeft(2, "0"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ext 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xtHashValue.Text = tx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6EFB653-AB86-4337-B3EC-5B55CCE145B9}"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erifying a Hash</a:t>
            </a: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e a file’s hash value somewher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er, hash the file again and compare to the original valu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85774A7-C376-4335-A1C3-5828E99BBCF2}"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77">
                                            <p:txEl>
                                              <p:pRg st="0" end="0"/>
                                            </p:txEl>
                                          </p:spTgt>
                                        </p:tgtEl>
                                        <p:attrNameLst>
                                          <p:attrName>style.visibility</p:attrName>
                                        </p:attrNameLst>
                                      </p:cBhvr>
                                      <p:to>
                                        <p:strVal val="visible"/>
                                      </p:to>
                                    </p:set>
                                    <p:anim calcmode="lin" valueType="num">
                                      <p:cBhvr additive="base">
                                        <p:cTn id="27"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7">
                                            <p:txEl>
                                              <p:pRg st="1" end="1"/>
                                            </p:txEl>
                                          </p:spTgt>
                                        </p:tgtEl>
                                        <p:attrNameLst>
                                          <p:attrName>style.visibility</p:attrName>
                                        </p:attrNameLst>
                                      </p:cBhvr>
                                      <p:to>
                                        <p:strVal val="visible"/>
                                      </p:to>
                                    </p:set>
                                    <p:anim calcmode="lin" valueType="num">
                                      <p:cBhvr additive="base">
                                        <p:cTn id="33"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a:t>
            </a:r>
            <a:endParaRPr b="1" lang="en-US" sz="4400" spc="-1" strike="noStrike">
              <a:solidFill>
                <a:srgbClr val="eaeaea"/>
              </a:solidFill>
              <a:latin typeface="Tahoma"/>
            </a:endParaRPr>
          </a:p>
        </p:txBody>
      </p:sp>
      <p:sp>
        <p:nvSpPr>
          <p:cNvPr id="79" name=""/>
          <p:cNvSpPr/>
          <p:nvPr/>
        </p:nvSpPr>
        <p:spPr>
          <a:xfrm rot="10800000">
            <a:off x="227160" y="4159080"/>
            <a:ext cx="454680" cy="2048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ashFile</a:t>
            </a:r>
            <a:endParaRPr b="0" lang="en-US" sz="1800" spc="-1" strike="noStrike">
              <a:solidFill>
                <a:srgbClr val="ffffff"/>
              </a:solidFill>
              <a:latin typeface="Arial"/>
            </a:endParaRPr>
          </a:p>
        </p:txBody>
      </p:sp>
      <p:pic>
        <p:nvPicPr>
          <p:cNvPr id="80" name="" descr=""/>
          <p:cNvPicPr/>
          <p:nvPr/>
        </p:nvPicPr>
        <p:blipFill>
          <a:blip r:embed="rId1"/>
          <a:stretch/>
        </p:blipFill>
        <p:spPr>
          <a:xfrm>
            <a:off x="1143000" y="2590920"/>
            <a:ext cx="7391520" cy="283212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DC04C74C-2E3B-459D-AF29-B7EA0A6F1E59}" type="slidenum">
              <a:t>6</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685800" y="2666880"/>
            <a:ext cx="8001000" cy="457200"/>
          </a:xfrm>
          <a:prstGeom prst="rect">
            <a:avLst/>
          </a:prstGeom>
          <a:gradFill rotWithShape="0">
            <a:gsLst>
              <a:gs pos="0">
                <a:srgbClr val="9933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yptography Roadmap</a:t>
            </a: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E450CA9-9936-4C8F-A087-9647C2877FDD}"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 Overview</a:t>
            </a:r>
            <a:endParaRPr b="1" lang="en-US" sz="4400" spc="-1" strike="noStrike">
              <a:solidFill>
                <a:srgbClr val="eaeaea"/>
              </a:solidFill>
              <a:latin typeface="Tahoma"/>
            </a:endParaRPr>
          </a:p>
        </p:txBody>
      </p:sp>
      <p:sp>
        <p:nvSpPr>
          <p:cNvPr id="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ymmetric Encryption</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nder knows how to encryp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ceiver knows how to decrypt</a:t>
            </a:r>
            <a:endParaRPr b="0" lang="en-US" sz="28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metric Encryption</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nder and receiver use the same key to encrypt and decryp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aster</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8F6EF7D-B089-4DE0-807E-16CFE130204C}"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5">
                                            <p:txEl>
                                              <p:pRg st="0" end="0"/>
                                            </p:txEl>
                                          </p:spTgt>
                                        </p:tgtEl>
                                        <p:attrNameLst>
                                          <p:attrName>style.visibility</p:attrName>
                                        </p:attrNameLst>
                                      </p:cBhvr>
                                      <p:to>
                                        <p:strVal val="visible"/>
                                      </p:to>
                                    </p:set>
                                    <p:anim calcmode="lin" valueType="num">
                                      <p:cBhvr additive="base">
                                        <p:cTn id="4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5">
                                            <p:txEl>
                                              <p:pRg st="2" end="2"/>
                                            </p:txEl>
                                          </p:spTgt>
                                        </p:tgtEl>
                                        <p:attrNameLst>
                                          <p:attrName>style.visibility</p:attrName>
                                        </p:attrNameLst>
                                      </p:cBhvr>
                                      <p:to>
                                        <p:strVal val="visible"/>
                                      </p:to>
                                    </p:set>
                                    <p:anim calcmode="lin" valueType="num">
                                      <p:cBhvr additive="base">
                                        <p:cTn id="5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5">
                                            <p:txEl>
                                              <p:pRg st="3" end="3"/>
                                            </p:txEl>
                                          </p:spTgt>
                                        </p:tgtEl>
                                        <p:attrNameLst>
                                          <p:attrName>style.visibility</p:attrName>
                                        </p:attrNameLst>
                                      </p:cBhvr>
                                      <p:to>
                                        <p:strVal val="visible"/>
                                      </p:to>
                                    </p:set>
                                    <p:anim calcmode="lin" valueType="num">
                                      <p:cBhvr additive="base">
                                        <p:cTn id="5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5">
                                            <p:txEl>
                                              <p:pRg st="4" end="4"/>
                                            </p:txEl>
                                          </p:spTgt>
                                        </p:tgtEl>
                                        <p:attrNameLst>
                                          <p:attrName>style.visibility</p:attrName>
                                        </p:attrNameLst>
                                      </p:cBhvr>
                                      <p:to>
                                        <p:strVal val="visible"/>
                                      </p:to>
                                    </p:set>
                                    <p:anim calcmode="lin" valueType="num">
                                      <p:cBhvr additive="base">
                                        <p:cTn id="6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85">
                                            <p:txEl>
                                              <p:pRg st="5" end="5"/>
                                            </p:txEl>
                                          </p:spTgt>
                                        </p:tgtEl>
                                        <p:attrNameLst>
                                          <p:attrName>style.visibility</p:attrName>
                                        </p:attrNameLst>
                                      </p:cBhvr>
                                      <p:to>
                                        <p:strVal val="visible"/>
                                      </p:to>
                                    </p:set>
                                    <p:anim calcmode="lin" valueType="num">
                                      <p:cBhvr additive="base">
                                        <p:cTn id="71"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 Basics</a:t>
            </a:r>
            <a:endParaRPr b="1" lang="en-US" sz="4400" spc="-1" strike="noStrike">
              <a:solidFill>
                <a:srgbClr val="eaeaea"/>
              </a:solidFill>
              <a:latin typeface="Tahoma"/>
            </a:endParaRPr>
          </a:p>
        </p:txBody>
      </p:sp>
      <p:sp>
        <p:nvSpPr>
          <p:cNvPr id="87" name=""/>
          <p:cNvSpPr/>
          <p:nvPr/>
        </p:nvSpPr>
        <p:spPr>
          <a:xfrm flipV="1">
            <a:off x="2743200" y="4267080"/>
            <a:ext cx="533520" cy="53352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743200" y="3352680"/>
            <a:ext cx="533520" cy="53352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1219320" y="2133720"/>
            <a:ext cx="1600200" cy="12794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nchorCtr="1">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rPr>
              <a:t>Random Number Generator</a:t>
            </a:r>
            <a:endParaRPr b="0" lang="en-US" sz="2400" spc="-1" strike="noStrike">
              <a:solidFill>
                <a:srgbClr val="ffffff"/>
              </a:solidFill>
              <a:latin typeface="Arial"/>
            </a:endParaRPr>
          </a:p>
        </p:txBody>
      </p:sp>
      <p:sp>
        <p:nvSpPr>
          <p:cNvPr id="90" name=""/>
          <p:cNvSpPr/>
          <p:nvPr/>
        </p:nvSpPr>
        <p:spPr>
          <a:xfrm>
            <a:off x="1219320" y="4724280"/>
            <a:ext cx="1600200" cy="1279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nchorCtr="1">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rPr>
              <a:t>Message</a:t>
            </a:r>
            <a:endParaRPr b="0" lang="en-US" sz="2400" spc="-1" strike="noStrike">
              <a:solidFill>
                <a:srgbClr val="ffffff"/>
              </a:solidFill>
              <a:latin typeface="Arial"/>
            </a:endParaRPr>
          </a:p>
        </p:txBody>
      </p:sp>
      <p:sp>
        <p:nvSpPr>
          <p:cNvPr id="91" name=""/>
          <p:cNvSpPr/>
          <p:nvPr/>
        </p:nvSpPr>
        <p:spPr>
          <a:xfrm>
            <a:off x="4685400" y="3809880"/>
            <a:ext cx="3800160" cy="4597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rPr>
              <a:t>/xHD*&amp;-`k ?d_~9)jN|;=.^#</a:t>
            </a:r>
            <a:endParaRPr b="0" lang="en-US" sz="2400" spc="-1" strike="noStrike">
              <a:solidFill>
                <a:srgbClr val="ffffff"/>
              </a:solidFill>
              <a:latin typeface="Arial"/>
            </a:endParaRPr>
          </a:p>
        </p:txBody>
      </p:sp>
      <p:grpSp>
        <p:nvGrpSpPr>
          <p:cNvPr id="92" name=""/>
          <p:cNvGrpSpPr/>
          <p:nvPr/>
        </p:nvGrpSpPr>
        <p:grpSpPr>
          <a:xfrm>
            <a:off x="3276720" y="3886200"/>
            <a:ext cx="380880" cy="380880"/>
            <a:chOff x="3276720" y="3886200"/>
            <a:chExt cx="380880" cy="380880"/>
          </a:xfrm>
        </p:grpSpPr>
        <p:sp>
          <p:nvSpPr>
            <p:cNvPr id="93" name=""/>
            <p:cNvSpPr/>
            <p:nvPr/>
          </p:nvSpPr>
          <p:spPr>
            <a:xfrm>
              <a:off x="3276720" y="3886200"/>
              <a:ext cx="380880" cy="38088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353040" y="396252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H="1">
              <a:off x="3352680" y="396252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3733920" y="4038480"/>
            <a:ext cx="685800" cy="0"/>
          </a:xfrm>
          <a:prstGeom prst="line">
            <a:avLst/>
          </a:prstGeom>
          <a:ln w="507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03A9A5E9-0839-4FC7-9FA5-6EE5257CCCC0}" type="slidenum">
              <a:t>9</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Stephens</cp:lastModifiedBy>
  <dcterms:modified xsi:type="dcterms:W3CDTF">2007-10-04T15:02:31Z</dcterms:modified>
  <cp:revision>149</cp:revision>
  <dc:subject/>
  <dc:title>Fun with GDI+</dc:title>
</cp:coreProperties>
</file>