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C880-BF54-4E50-8931-B3962EE74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 to my talk “Four Fascinating Features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Rod Stephens, a software consultant and auth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shows my contact information. If you have questions about this talk, send me a note. Be sure to put the word VBUG in the subject line so my spam filters don't throw it a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'll post this talk at the address shown here in a few d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've written 18 books (mostly about Visual Basic) and more than 200 magazine artic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learn more about my books and read tips, tricks, and more than 2,000 example programs at my Web site www.vb-helper.c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hyperlinks on these book images to go to the books’ Web p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rox style includes a picture of the author(s) on the cover but I’m hoping we can update the book’s image a bit and get a photo double. Here are some concepts I’m working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this one should appeal to television audiences, frankly I think these people look a bit scar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one is a bit less scary but it’s still pretty seri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one has a less serious, carefree feel that I like. But is it too whimsical to fit the weighty top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far not feedback from the publisher on th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alk covers three handy namespaces that you can use to add some interesting features to your appli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ml namespace contains classes that let you manipulate XML files and data structures. XML itself is a data storage language and nothing more but this namespace defines some tools that let you use XML in some pretty interesting ways such as serializing and deserializing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gex namespace includes regular expression classes that let you search for patterns and possibly make replacements in str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ypto namespace contains classes that perform cryptographic tasks such as encrypting and decrypting files, and calculating hash values for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CF9E-3226-435F-9E02-922CF01D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C962-A758-4273-BE50-927DC072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7D84-675D-46E7-A221-0E0C6183D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2300-9D68-430A-B91E-F6AE0EF3B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F6C7E-38EC-4FE7-9FAC-8F0FFEC40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5B174-E4E2-4222-889C-DE5F349F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95D79-005D-4CF0-ACDE-5534726D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EE6BA-15CE-4246-B2A7-EF8AAF7F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0C5F2-A673-4A85-865F-9619DC75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17FB7-A4E7-4439-97A1-E104B274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80D84-4E88-4EB4-B8F0-5B81FB0E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8E55-DCC9-4BB9-96E7-98025FC1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4C0D8-1B8E-4E65-9A8C-A31F9A2D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DAD9E-0E53-442D-BF4F-B3AF3092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6A50E-6CF0-407F-852B-2513E575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9DE8A-090E-45C9-B755-1E65FC44E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20D46-6F74-4A62-9D2F-CCC60254A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ABE1-A6E9-47CA-8207-C2C8DF33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6B77-CFCB-42D3-B087-C2E5D1A2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D46E-C28B-41B6-9554-08A9422F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B2FE-DF57-42BB-9E85-9D90471D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0863-6B6B-4DF0-8F39-D790E8E0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E52C-D2A2-447D-9A21-18C85B7A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1859-AD58-4956-9BED-E79AAF2E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2CEA-3F05-4C9F-BEA9-B68576CD65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532B-561C-491B-8D46-2BFBE1B50C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RodStephens@vb-helper.com" TargetMode="External"/><Relationship Id="rId3" Type="http://schemas.openxmlformats.org/officeDocument/2006/relationships/hyperlink" Target="http://www.vb-helper.com/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RodStephens@vb-helper.com" TargetMode="External"/><Relationship Id="rId3" Type="http://schemas.openxmlformats.org/officeDocument/2006/relationships/hyperlink" Target="http://www.vb-helper.com/" TargetMode="Externa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b-helper.com/vb_prog_ref_1e.htm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vb-helper.com/vb_prog_ref.htm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vb-helper.com/one_on_one.htm" TargetMode="External"/><Relationship Id="rId7" Type="http://schemas.openxmlformats.org/officeDocument/2006/relationships/image" Target="../media/image4.png"/><Relationship Id="rId8" Type="http://schemas.openxmlformats.org/officeDocument/2006/relationships/hyperlink" Target="http://www.vb-helper.com/xml.htm" TargetMode="External"/><Relationship Id="rId9" Type="http://schemas.openxmlformats.org/officeDocument/2006/relationships/image" Target="../media/image5.png"/><Relationship Id="rId10" Type="http://schemas.openxmlformats.org/officeDocument/2006/relationships/hyperlink" Target="http://www.vb-helper.com/office.htm" TargetMode="External"/><Relationship Id="rId11" Type="http://schemas.openxmlformats.org/officeDocument/2006/relationships/image" Target="../media/image6.png"/><Relationship Id="rId12" Type="http://schemas.openxmlformats.org/officeDocument/2006/relationships/hyperlink" Target="http://www.vb-helper.com/vbdb.htm" TargetMode="External"/><Relationship Id="rId13" Type="http://schemas.openxmlformats.org/officeDocument/2006/relationships/image" Target="../media/image7.jpeg"/><Relationship Id="rId14" Type="http://schemas.openxmlformats.org/officeDocument/2006/relationships/hyperlink" Target="http://www.vb-helper.com/proto.htm" TargetMode="External"/><Relationship Id="rId15" Type="http://schemas.openxmlformats.org/officeDocument/2006/relationships/image" Target="../media/image8.jpeg"/><Relationship Id="rId16" Type="http://schemas.openxmlformats.org/officeDocument/2006/relationships/hyperlink" Target="http://www.vb-helper.com/vbgp.htm" TargetMode="External"/><Relationship Id="rId17" Type="http://schemas.openxmlformats.org/officeDocument/2006/relationships/image" Target="../media/image9.jpeg"/><Relationship Id="rId18" Type="http://schemas.openxmlformats.org/officeDocument/2006/relationships/hyperlink" Target="http://www.vb-helper.com/vbcl.htm" TargetMode="External"/><Relationship Id="rId19" Type="http://schemas.openxmlformats.org/officeDocument/2006/relationships/image" Target="../media/image10.jpeg"/><Relationship Id="rId20" Type="http://schemas.openxmlformats.org/officeDocument/2006/relationships/hyperlink" Target="http://www.vb-helper.com/err.htm" TargetMode="External"/><Relationship Id="rId21" Type="http://schemas.openxmlformats.org/officeDocument/2006/relationships/image" Target="../media/image11.jpeg"/><Relationship Id="rId22" Type="http://schemas.openxmlformats.org/officeDocument/2006/relationships/hyperlink" Target="http://www.vb-helper.com/vba.htm" TargetMode="External"/><Relationship Id="rId23" Type="http://schemas.openxmlformats.org/officeDocument/2006/relationships/image" Target="../media/image12.jpeg"/><Relationship Id="rId24" Type="http://schemas.openxmlformats.org/officeDocument/2006/relationships/hyperlink" Target="http://www.vb-helper.com/ccl.htm" TargetMode="External"/><Relationship Id="rId25" Type="http://schemas.openxmlformats.org/officeDocument/2006/relationships/image" Target="../media/image13.jpeg"/><Relationship Id="rId26" Type="http://schemas.openxmlformats.org/officeDocument/2006/relationships/image" Target="../media/image14.jpeg"/><Relationship Id="rId27" Type="http://schemas.openxmlformats.org/officeDocument/2006/relationships/image" Target="../media/image15.jpeg"/><Relationship Id="rId28" Type="http://schemas.openxmlformats.org/officeDocument/2006/relationships/slideLayout" Target="../slideLayouts/slideLayout3.xml"/><Relationship Id="rId2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620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ur Fascinating Featur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4800600"/>
            <a:ext cx="579132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od Steph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RodStephens@vb-helper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www.vb-helper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vb-helper.com/four_features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Northern Colorado .NET User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F6CAB-E143-4C78-B90B-44E4D0AC5CE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October 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620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rect3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Northern Colorado .NET User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0F98F-6BAB-4411-9A9B-0935570178A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October 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620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4800600"/>
            <a:ext cx="579132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od Steph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RodStephens@vb-helper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www.vb-helper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vb-helper.com/handy_namespaces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Northern Colorado .NET User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469F7-3D87-4AF4-800E-628C61059E0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October 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ook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86400" y="914400"/>
            <a:ext cx="952560" cy="1200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666880" y="990720"/>
            <a:ext cx="952560" cy="1209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62520" y="13716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905120" y="2590920"/>
            <a:ext cx="923760" cy="1143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934320" y="1523880"/>
            <a:ext cx="860400" cy="1143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33520" y="3048120"/>
            <a:ext cx="965160" cy="1143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3276720" y="3200400"/>
            <a:ext cx="93960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4648320" y="28195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324480" y="32767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1981080" y="44956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3505320" y="46483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4952880" y="434340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6"/>
          <a:stretch/>
        </p:blipFill>
        <p:spPr>
          <a:xfrm>
            <a:off x="6095880" y="49528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7"/>
          <a:stretch/>
        </p:blipFill>
        <p:spPr>
          <a:xfrm>
            <a:off x="7620120" y="441972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rthern Colorado .NET User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C9D4-BA7C-4FCE-A950-E71C58B33DB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sual Basic 2008 Programmer’s Refer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819520" y="1447920"/>
            <a:ext cx="351612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rthern Colorado .NET User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B110-9426-4318-B510-A6AAA66124D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sual Basic 2008 Programmer’s Refer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743200" y="1447920"/>
            <a:ext cx="3573360" cy="448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rthern Colorado .NET User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960D-8D4D-481E-8A91-01CA3D546A7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sual Basic 2008 Programmer’s Refer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743200" y="1447920"/>
            <a:ext cx="3556080" cy="446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rthern Colorado .NET User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CE80-3AB2-4450-B631-5B85B56486B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oadma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gular Expres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yptograp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l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rect3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rthern Colorado .NET User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F180-D8C2-40D9-AAC1-29A0B57FD9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620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gular Express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Northern Colorado .NET User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F9FF7-8D81-45A8-94D6-BA2C059EE65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October 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620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ryptograph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Northern Colorado .NET User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20A44-259C-4B75-825C-B566C20798B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October 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620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fle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Northern Colorado .NET User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527BB-D6DE-416C-8EB4-3502C864949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October 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4T18:03:26Z</dcterms:created>
  <dc:creator>Rod</dc:creator>
  <dc:description/>
  <dc:language>en-US</dc:language>
  <cp:lastModifiedBy>RodStephens</cp:lastModifiedBy>
  <dcterms:modified xsi:type="dcterms:W3CDTF">2007-10-05T18:39:12Z</dcterms:modified>
  <cp:revision>137</cp:revision>
  <dc:subject/>
  <dc:title>Fun with GDI+</dc:title>
</cp:coreProperties>
</file>