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87C-4CD2-4024-B130-E4F45CA2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DB6-FDE3-4AB5-BC18-AE007F66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B303-4B3D-4AC3-9631-DD10638B7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4EF-1FBB-44DA-97AB-14683DFE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985-5649-442D-914A-23CA7E52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4A3-6E93-4581-BC43-44F2B504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244-F804-4204-BE81-5DDD8BCD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C2B-2DC2-44F7-8451-1ED2DA41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EE4-2D4A-410B-B8B6-C0A2328C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A8D-03E3-4479-A5D5-40820317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9F9-910A-48D0-B097-5FF86EEB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DFA-F217-4101-9282-5497C40B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vb-helper.com/errtalk.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EC04-3927-4516-9134-4A44CA82C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br>
              <a:rPr sz="3600"/>
            </a:br>
            <a:br>
              <a:rPr sz="36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Errer Handl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3124080" y="3276000"/>
            <a:ext cx="534240" cy="533880"/>
          </a:xfrm>
          <a:prstGeom prst="straightConnector1">
            <a:avLst/>
          </a:prstGeom>
          <a:ln w="76320">
            <a:solidFill>
              <a:srgbClr val="ff0000"/>
            </a:solidFill>
            <a:miter/>
          </a:ln>
        </p:spPr>
      </p:cxnSp>
      <p:sp>
        <p:nvSpPr>
          <p:cNvPr id="43" name=""/>
          <p:cNvSpPr/>
          <p:nvPr/>
        </p:nvSpPr>
        <p:spPr>
          <a:xfrm>
            <a:off x="3278520" y="243828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3809880"/>
            <a:ext cx="304920" cy="381240"/>
          </a:xfrm>
          <a:custGeom>
            <a:avLst/>
            <a:gdLst/>
            <a:ahLst/>
            <a:rect l="l" t="t" r="r" b="b"/>
            <a:pathLst>
              <a:path w="288" h="202">
                <a:moveTo>
                  <a:pt x="0" y="202"/>
                </a:moveTo>
                <a:lnTo>
                  <a:pt x="142" y="0"/>
                </a:lnTo>
                <a:lnTo>
                  <a:pt x="288" y="202"/>
                </a:ln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it S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2666880"/>
            <a:ext cx="6934320" cy="203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ub LoadPictureFromFile(ByVal fname As 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GoTo Load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cPerson.Picture = LoadPicture(file_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adErr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sgBo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 opening 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t the subroutine when you cannot recover from the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85800" y="4266360"/>
            <a:ext cx="609480" cy="83844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144" y="768"/>
                </a:moveTo>
                <a:lnTo>
                  <a:pt x="0" y="768"/>
                </a:ln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rors Flow Up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2438280"/>
            <a:ext cx="6934320" cy="22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ub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GoTo MainE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use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Er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sgBo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 in M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error handler is registered, control passes up the call stack until one is f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809880"/>
            <a:ext cx="609480" cy="198144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144" y="768"/>
                </a:moveTo>
                <a:lnTo>
                  <a:pt x="0" y="768"/>
                </a:ln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876920"/>
            <a:ext cx="6934320" cy="130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ub CauseErro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m i As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 = 3 /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ror Handler M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2438280"/>
            <a:ext cx="6934320" cy="349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Function GetChoice() As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GoTo Er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Choice = CInt(txtChoice1.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GoTo Err2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This doesn’t work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Choice = CInt(txtChoice2.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Choice = 13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efault val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behaves differently while an error handler is running. In particular, error handler statements behave differ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 Improved V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429000"/>
            <a:ext cx="6934320" cy="25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Function GetChoice() As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Resume 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Choice = CInt(txtChoice1.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Err.Number &lt;&gt; 0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Choice = CInt(txtChoice2.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Err.Number &lt;&gt; 0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Choice = 13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efault val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version never enters error handling mode so it does not have the same problem as the previous ver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version must check every statement for err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other Improved Ver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438280"/>
            <a:ext cx="6934320" cy="179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Function GetChoice() As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GoTo Er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Choice = CInt(txtChoice1.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Choice = GetSecondChoic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is version encounters an error, it calls another function to perform error handling. That routine can have its own error handl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4572000"/>
            <a:ext cx="6934320" cy="179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Function GetSecondChoice() As 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GoTo Er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SecondChoice = CInt(txtChoice2.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rr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SecondChoice = 13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efault val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p All Err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s can aris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hand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p these and you trap them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find new errors, create specialized error handlers to deal wit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Errors are Untrapp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not trap an error in code you do not c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raise errors within server classes. Raise an event inst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ror Detection and Reco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ad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447920" y="2743200"/>
            <a:ext cx="2111400" cy="2627280"/>
            <a:chOff x="1447920" y="2743200"/>
            <a:chExt cx="2111400" cy="2627280"/>
          </a:xfrm>
        </p:grpSpPr>
        <p:pic>
          <p:nvPicPr>
            <p:cNvPr id="48" name="err" descr=""/>
            <p:cNvPicPr/>
            <p:nvPr/>
          </p:nvPicPr>
          <p:blipFill>
            <a:blip r:embed="rId1"/>
            <a:stretch/>
          </p:blipFill>
          <p:spPr>
            <a:xfrm>
              <a:off x="1447920" y="2743200"/>
              <a:ext cx="2111400" cy="26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 txBox="1"/>
            <p:nvPr/>
          </p:nvSpPr>
          <p:spPr>
            <a:xfrm>
              <a:off x="1447920" y="2743200"/>
              <a:ext cx="2111400" cy="26272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39360" y="5514840"/>
            <a:ext cx="369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vb-helper.com/err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752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ust One step towards bug-free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alling Error Handl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Error GoTo &lt;lin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Error Resume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Error GoTo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 Error GoTo &lt;line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819520"/>
            <a:ext cx="7239240" cy="22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ub LoadPictureFromFile(ByVal fname As 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GoTo Load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cPerson.Picture = LoadPicture(file_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adErr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sgBo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 opening 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error occurs, control jumps to the indicated line. The code then runs in error handler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 Error Resume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895480"/>
            <a:ext cx="7239240" cy="179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ub LoadPictureFromFile(ByVal fname As 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Resume 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cPerson.Picture = LoadPicture(file_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Err.Number &lt;&gt; 0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sgBo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 opening 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error occurs, control resumes on the next line. The code continues in normal execution m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 Error GoTo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666880"/>
            <a:ext cx="7239240" cy="301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ub LoadPictureFromFile(ByVal fname As 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Resume 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cPerson.Picture = LoadPicture(file_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Err.Number &lt;&gt; 0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sgBo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 opening 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GoTo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 other thing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 previously installed error handl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turn from Error Handl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 N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t S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me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2666880"/>
            <a:ext cx="6934320" cy="276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ub LoadPictureFromFile(ByVal fname As 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GoTo Load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cPerson.Picture = LoadPicture(file_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cPerson.Visible = 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adErr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sgBo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 opening f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me 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Resume Next to continue execution when the error will not prevent further commands from wor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9880"/>
            <a:ext cx="609480" cy="121932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144" y="768"/>
                </a:moveTo>
                <a:lnTo>
                  <a:pt x="0" y="768"/>
                </a:ln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2666880"/>
            <a:ext cx="6934320" cy="22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ub LoadPictureFromFile(ByVal fname As 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Error GoTo Load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icPerson.Picture = LoadPicture(file_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adErro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sgBox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rror opening file. Try again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bRetryCancel) = vbRetry) The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it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Resume to continue execution where the mistake occurred if the user can fix the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352680"/>
            <a:ext cx="609480" cy="99072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144" y="768"/>
                </a:moveTo>
                <a:lnTo>
                  <a:pt x="0" y="768"/>
                </a:ln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4T19:17:41Z</dcterms:created>
  <dc:creator>Rod Stephens</dc:creator>
  <dc:description/>
  <dc:language>en-US</dc:language>
  <cp:lastModifiedBy>Rod Stephens</cp:lastModifiedBy>
  <cp:lastPrinted>1999-03-14T22:21:46Z</cp:lastPrinted>
  <dcterms:modified xsi:type="dcterms:W3CDTF">1999-03-14T22:28:43Z</dcterms:modified>
  <cp:revision>13</cp:revision>
  <dc:subject/>
  <dc:title>Introduction to  Errer Handling</dc:title>
</cp:coreProperties>
</file>