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C978-7B98-4944-B34F-E86401CB6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've written about a dozen books (mostly about Visual Basic) and more than 200 magazine artic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book most relevant to this discussion is Visual Basic Graphics Programming. It was written for VB 6 so it covers practically nothing from this talk, although some of its more advanced topics will still be useful in VB .NET (with some transla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learn more about my books and read more than a thousand tips, tricks, and examples at my Web site www.vb-helper.c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hyperlinks on these book images to go to the books’ Web p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my favorite topics is computer graphics so building this presentation was great fun. However, GDI+ represents a major break from graphics in previous versions of Visual Basic so there's lots of material to cover. To squeeze everything into one talk, I'm going to have to skim a bit. The full presentation contains a few hidden slides that you can use to fill in some of the ga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EF64-4C13-403A-BDB6-BEFF7B585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6B8F-B281-4F63-A978-25B6346A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DAA8-9BB1-4447-ABFA-AF871A1F7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F589-7738-4477-8884-05A3B60DB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490D-3BA8-46C5-BD5C-DFD01AE01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BE70-0D1F-464B-B94E-09AED7C4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8D26-747E-407D-8BFB-AA93CB25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1022-6451-4BD2-90C0-631BDBD0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87DB-D211-4FD5-8AB1-45777490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3F77-AC94-4CB4-88F7-6EA22FC9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578E-DD62-471D-9E7D-EE54B869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FB12-5AE1-4FE5-BEE5-0B55BED8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E9DC-EE9D-43AA-B3E1-01BE42ED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208F-FFBE-4963-9418-3987EA04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B6BD-0DB4-47D8-A7E7-65E7114C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DED3-60AD-40A8-A897-FB0EA476A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F28C-5CE3-474E-9816-0CDCE7FCE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7E83-CDBA-494F-A628-1FC7A82D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E01A-B4FC-4533-B567-BF7A97B1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8DD3-CDAA-40BB-9DC3-52C528FC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DDF9-EC35-4BCF-B0FB-A679699D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AFC8-DDB6-4AEF-8914-9B2FC643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3E0E-5688-4A61-9507-51331B32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3D70-51D7-4735-8AA5-A9A935B3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vb-helpe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vb-helper.com/" TargetMode="Externa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1C0E6-7B7A-4D33-86D5-15EDEEC161E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www.vb-helper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827F-D7C2-45BE-9FC7-C422C49358E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www.vb-helper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99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odStephens@vb-helper.com" TargetMode="External"/><Relationship Id="rId2" Type="http://schemas.openxmlformats.org/officeDocument/2006/relationships/hyperlink" Target="http://www.vb-helper.com/control_freak_ppt.zip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b-helper.com/ccl.htm" TargetMode="External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Confessions of a Control Freak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0666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Building custom controls in VB .NET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5410080"/>
            <a:ext cx="73915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Tahoma"/>
              </a:rPr>
              <a:t>Rod Stephe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RodStephens@vb-helper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http://www.vb-helper.com/control_freak_ppt.z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uilding From Scratc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Start a new project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Project &gt; Add New Item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Select Custom Control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Give it a decent name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Provide toolbox bitmap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vide a Toolbox Bitma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Make the bitmap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Tahoma"/>
              </a:rPr>
              <a:t>16x16 pixels</a:t>
            </a:r>
            <a:endParaRPr b="0" lang="en-US" sz="2400" spc="-1" strike="noStrike">
              <a:solidFill>
                <a:srgbClr val="3399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Tahoma"/>
              </a:rPr>
              <a:t>Lower-left pixel sets transparent color</a:t>
            </a:r>
            <a:endParaRPr b="0" lang="en-US" sz="2400" spc="-1" strike="noStrike">
              <a:solidFill>
                <a:srgbClr val="3399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vide a Toolbox Bitma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Make the bitmap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16x16 pixels</a:t>
            </a:r>
            <a:endParaRPr b="0" lang="en-US" sz="2400" spc="-1" strike="noStrike">
              <a:solidFill>
                <a:srgbClr val="3399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Lower-left pixel sets transparent color</a:t>
            </a:r>
            <a:endParaRPr b="0" lang="en-US" sz="2400" spc="-1" strike="noStrike">
              <a:solidFill>
                <a:srgbClr val="3399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Include the bitmap in the project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Tahoma"/>
              </a:rPr>
              <a:t>Add to the project</a:t>
            </a:r>
            <a:endParaRPr b="0" lang="en-US" sz="2400" spc="-1" strike="noStrike">
              <a:solidFill>
                <a:srgbClr val="3399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Tahoma"/>
              </a:rPr>
              <a:t>Set Build Action to Embedded Resource</a:t>
            </a:r>
            <a:endParaRPr b="0" lang="en-US" sz="2400" spc="-1" strike="noStrike">
              <a:solidFill>
                <a:srgbClr val="3399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vide a Toolbox Bitma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Make the bitmap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16x16 pixels</a:t>
            </a:r>
            <a:endParaRPr b="0" lang="en-US" sz="2400" spc="-1" strike="noStrike">
              <a:solidFill>
                <a:srgbClr val="3399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Lower-left pixel sets transparent color</a:t>
            </a:r>
            <a:endParaRPr b="0" lang="en-US" sz="2400" spc="-1" strike="noStrike">
              <a:solidFill>
                <a:srgbClr val="3399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Include the bitmap in the project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Add to the project</a:t>
            </a:r>
            <a:endParaRPr b="0" lang="en-US" sz="2400" spc="-1" strike="noStrike">
              <a:solidFill>
                <a:srgbClr val="3399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Set Build Action to Embedded Resource</a:t>
            </a:r>
            <a:endParaRPr b="0" lang="en-US" sz="2400" spc="-1" strike="noStrike">
              <a:solidFill>
                <a:srgbClr val="3399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Add ToolboxBitmap attribute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oolboxBitmap Attribu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ToolboxBitmap(GetType(HSlider), "tbxHSlider.bmp")&gt; _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Class HSlider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herits System.Windows.Forms.Control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Courier New"/>
              </a:rPr>
              <a:t>... Component Designer generated code ...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otected Overrides Sub OnPaint(ByVal pe As _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stem.Windows.Forms.PaintEventArgs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yBase.OnPaint(pe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8000"/>
                </a:solidFill>
                <a:latin typeface="Courier New"/>
              </a:rPr>
              <a:t>'Add your custom paint code here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Sub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Class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uilding From Scratc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Start a new project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Project &gt; Add New Item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Select Custom Control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Give it a decent name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Provide toolbox bitmap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Implement features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uilding From Scratc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Start a new project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Project &gt; Add New Item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Select Custom Control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Give it a decent name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Provide toolbox bitmap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Implement features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Use at run time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e At Runti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vate WithEvents h_slider As New HSlider</a:t>
            </a:r>
            <a:endParaRPr b="0" lang="en-US" sz="14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vate Sub Form1_Load(ByVal sender As System.Object, _</a:t>
            </a:r>
            <a:endParaRPr b="0" lang="en-US" sz="14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yVal e As System.EventArgs) Handles MyBase.Load</a:t>
            </a:r>
            <a:endParaRPr b="0" lang="en-US" sz="14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_slider.SetBounds(8, 8, 208, 28)</a:t>
            </a:r>
            <a:endParaRPr b="0" lang="en-US" sz="14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_slider.BackColor = Color.PaleGreen</a:t>
            </a:r>
            <a:endParaRPr b="0" lang="en-US" sz="14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_slider.ForeColor = Color.Blue</a:t>
            </a:r>
            <a:endParaRPr b="0" lang="en-US" sz="14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_slider.Minimum = 0</a:t>
            </a:r>
            <a:endParaRPr b="0" lang="en-US" sz="14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_slider.Maximum = 100</a:t>
            </a:r>
            <a:endParaRPr b="0" lang="en-US" sz="14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_slider.Value = 75</a:t>
            </a:r>
            <a:endParaRPr b="0" lang="en-US" sz="14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e.Controls.Add(h_slider)</a:t>
            </a:r>
            <a:endParaRPr b="0" lang="en-US" sz="14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 Sub</a:t>
            </a:r>
            <a:endParaRPr b="0" lang="en-US" sz="14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vate Sub h_slider_ValueChanged() Handles h_slider.ValueChanged</a:t>
            </a:r>
            <a:endParaRPr b="0" lang="en-US" sz="14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blValue.Text = h_slider.Value.ToString</a:t>
            </a:r>
            <a:endParaRPr b="0" lang="en-US" sz="14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 Sub</a:t>
            </a:r>
            <a:endParaRPr b="0" lang="en-US" sz="14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uilding From Scratc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Start a new project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Project &gt; Add New Item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Select Custom Control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Give it a decent name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Provide toolbox bitmap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Implement features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Use at run time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Add to Toolbox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 To Toolbo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Compile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Right-click toolbox and select Add/Remove Items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Browse to the bin directory and select the executable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stom Controls Librar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519360" y="2666880"/>
            <a:ext cx="2105280" cy="2600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066680" y="5943600"/>
            <a:ext cx="73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http://www.vb-helper.com/ccl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rom Scratch Summar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dvantages</a:t>
            </a:r>
            <a:endParaRPr b="0" lang="en-US" sz="36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Very flexible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Fast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Low overhead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isadvantages</a:t>
            </a:r>
            <a:endParaRPr b="0" lang="en-US" sz="36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A lot of work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CtlHSlider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362320" y="3352680"/>
            <a:ext cx="495432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47920" y="2590920"/>
            <a:ext cx="7238880" cy="609480"/>
          </a:xfrm>
          <a:prstGeom prst="rect">
            <a:avLst/>
          </a:prstGeom>
          <a:gradFill rotWithShape="0">
            <a:gsLst>
              <a:gs pos="0">
                <a:srgbClr val="00005e">
                  <a:alpha val="0"/>
                </a:srgbClr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li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From Scratch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UserControl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Subclassing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Components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Control Library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Miscellaneous Topics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erContro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Provides a base to build on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an contain other controls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Provides events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uilding A UserContro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Start a new project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Project &gt; </a:t>
            </a: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Add User Control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Give it a decent name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Provide toolbox bitmap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Implement features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Use at run time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Add to Toolbox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mplement Features Using Constituent Controls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Open the control with form designer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Add constituent controls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Use the constituent controls’ properties, methods, and events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erControl Summar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dvantages</a:t>
            </a:r>
            <a:endParaRPr b="0" lang="en-US" sz="36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Easy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Does a lot for you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Combines controls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isadvantages</a:t>
            </a:r>
            <a:endParaRPr b="0" lang="en-US" sz="36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More overhead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CtlColorSelector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209680" y="2895480"/>
            <a:ext cx="5265720" cy="28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447920" y="3200400"/>
            <a:ext cx="7238880" cy="609480"/>
          </a:xfrm>
          <a:prstGeom prst="rect">
            <a:avLst/>
          </a:prstGeom>
          <a:gradFill rotWithShape="0">
            <a:gsLst>
              <a:gs pos="0">
                <a:srgbClr val="00005e">
                  <a:alpha val="0"/>
                </a:srgbClr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li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From Scratch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UserControl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Subclassing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Components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Control Library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Miscellaneous Topics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ubclass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Start a new project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Project &gt; </a:t>
            </a:r>
            <a:r>
              <a:rPr b="0" lang="en-US" sz="2800" spc="-1" strike="noStrike">
                <a:solidFill>
                  <a:srgbClr val="99ccff"/>
                </a:solidFill>
                <a:latin typeface="Tahoma"/>
              </a:rPr>
              <a:t>Add New Item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Tahoma"/>
              </a:rPr>
              <a:t>Select Custom Control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Tahoma"/>
              </a:rPr>
              <a:t>Change parent class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Give it a decent name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Provide toolbox bitmap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Implement features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Use at run time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Add to Toolbox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447920" y="1981080"/>
            <a:ext cx="7238880" cy="609840"/>
          </a:xfrm>
          <a:prstGeom prst="rect">
            <a:avLst/>
          </a:prstGeom>
          <a:gradFill rotWithShape="0">
            <a:gsLst>
              <a:gs pos="0">
                <a:srgbClr val="00005e">
                  <a:alpha val="0"/>
                </a:srgbClr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li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From Scratch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UserControl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Subclassing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Components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Control Library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Miscellaneous Topics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ange Parent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Class TwinkleLabel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herits System.Windows.Forms.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Label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Courier New"/>
              </a:rPr>
              <a:t>... Component Designer generated code ...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otected Overrides Sub OnPaint( _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yVal pe As System.Windows.Forms.PaintEventArgs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yBase.OnPaint(pe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8000"/>
                </a:solidFill>
                <a:latin typeface="Courier New"/>
              </a:rPr>
              <a:t>'Add your custom paint code here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Sub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Class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 Features By Subclass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Add, remove, and override parent class features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verride OnPaint (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267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otected Overrides Sub OnPaint( _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yVal pe As System.Windows.Forms.PaintEventArgs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9900"/>
                </a:solidFill>
                <a:latin typeface="Courier New"/>
              </a:rPr>
              <a:t>' Don't let the control paint normally.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9900"/>
                </a:solidFill>
                <a:latin typeface="Courier New"/>
              </a:rPr>
              <a:t>'MyBase.OnPaint(pe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9900"/>
                </a:solidFill>
                <a:latin typeface="Courier New"/>
              </a:rPr>
              <a:t>'Add your custom paint code here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9900"/>
                </a:solidFill>
                <a:latin typeface="Courier New"/>
              </a:rPr>
              <a:t>' Paint each letter individually.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m normal_brush As Brush = New SolidBrush(Me.ForeColor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m highlight_brush As Brush = New SolidBrush(m_TwinkleColor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m ch As String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m ch_size As SizeF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m X As Single = 0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or i As Integer = 0 To Me.Text.Length - 1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9900"/>
                </a:solidFill>
                <a:latin typeface="Courier New"/>
              </a:rPr>
              <a:t>' Draw the next character.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h = Me.Text.Substring(i, 1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i = m_HighlightedLetter Then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.Graphics.DrawString(ch, Me.Font, _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ighlight_brush, X, 0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.Graphics.DrawString(ch, Me.Font, _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rmal_brush, X, 0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If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verride OnPaint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267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9900"/>
                </a:solidFill>
                <a:latin typeface="Courier New"/>
              </a:rPr>
              <a:t>' Move to the next character's position.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h_size = _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.Graphics.MeasureString( _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h, _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e.Font, _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w PointF(X, 0), _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stem.Drawing.StringFormat.GenericTypographic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 += ch_size.Width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 i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9900"/>
                </a:solidFill>
                <a:latin typeface="Courier New"/>
              </a:rPr>
              <a:t>' Move to the next character.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_HighlightedLetter += 1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m_HighlightedLetter = 0 Then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9900"/>
                </a:solidFill>
                <a:latin typeface="Courier New"/>
              </a:rPr>
              <a:t>' Pause before highlighting the first character.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mrTwinkle.Interval = m_TimeBetweenTwinkles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If m_HighlightedLetter &gt;= Me.Text.Length Then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9900"/>
                </a:solidFill>
                <a:latin typeface="Courier New"/>
              </a:rPr>
              <a:t>' Start over.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_HighlightedLetter = -1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mrTwinkle.Interval = m_TimeBetweenLetters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9900"/>
                </a:solidFill>
                <a:latin typeface="Courier New"/>
              </a:rPr>
              <a:t>' Move to the next character as usual.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mrTwinkle.Interval = m_TimeBetweenLetters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If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Sub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ubclassing Summar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dvantages</a:t>
            </a:r>
            <a:endParaRPr b="0" lang="en-US" sz="36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Reuses existing functionality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Can save a </a:t>
            </a:r>
            <a:r>
              <a:rPr b="0" i="1" lang="en-US" sz="2800" spc="-1" strike="noStrike">
                <a:solidFill>
                  <a:srgbClr val="66ccff"/>
                </a:solidFill>
                <a:latin typeface="Tahoma"/>
              </a:rPr>
              <a:t>lot </a:t>
            </a: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of work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isadvantages</a:t>
            </a:r>
            <a:endParaRPr b="0" lang="en-US" sz="36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More overhead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Can be confusing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CtlTwinkleLabel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048120" y="3276720"/>
            <a:ext cx="338292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447920" y="3733920"/>
            <a:ext cx="7238880" cy="609480"/>
          </a:xfrm>
          <a:prstGeom prst="rect">
            <a:avLst/>
          </a:prstGeom>
          <a:gradFill rotWithShape="0">
            <a:gsLst>
              <a:gs pos="0">
                <a:srgbClr val="00005e">
                  <a:alpha val="0"/>
                </a:srgbClr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li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From Scratch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UserControl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Subclassing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Components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Control Library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Miscellaneous Topics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on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Like a control with no visible component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Appears in the component tray rather than on the form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on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Start a new project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Project &gt; </a:t>
            </a:r>
            <a:r>
              <a:rPr b="0" lang="en-US" sz="2800" spc="-1" strike="noStrike">
                <a:solidFill>
                  <a:srgbClr val="99ccff"/>
                </a:solidFill>
                <a:latin typeface="Tahoma"/>
              </a:rPr>
              <a:t>Add Component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Give it a decent name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Provide toolbox bitmap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Implement features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Use at run time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Add to Toolbox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itial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Class LoginForm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herits System.ComponentModel.Component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 Component Designer generated code ...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Class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rom Scratc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Building a control from scratch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You have complete control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The control does little automatically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pert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ivate m_ImageList As ImageList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ivate m_PictureBox As PictureBox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ivate m_SelectedImage As Integer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Property ImageList() As ImageList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Property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Property PictureBox() As PictureBox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Property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Property SelectedImage() As Integer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Property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pecial Feat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' Display the selected image.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ivate Sub ShowImage(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m good_image As Boolean = _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Not m_PictureBox Is Nothing) And _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Not m_ImageList Is Nothing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good_image _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n good_image = _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m_SelectedImage &gt;= 0) And _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m_SelectedImage &lt; m_ImageList.Images.Count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good_image Then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_PictureBox.BackgroundImage = m_ImageList.Images(m_SelectedImage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Not m_PictureBox Is Nothing _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n m_PictureBox.BackgroundImage = Nothing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If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Sub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onent Summar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dvantages</a:t>
            </a:r>
            <a:endParaRPr b="0" lang="en-US" sz="36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For objects without a visible component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Appears in component tray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Less overhead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isadvantages</a:t>
            </a:r>
            <a:endParaRPr b="0" lang="en-US" sz="36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Not for all purposes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632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CmpImageListDrawer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362320" y="2819520"/>
            <a:ext cx="457992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447920" y="4343400"/>
            <a:ext cx="7238880" cy="609480"/>
          </a:xfrm>
          <a:prstGeom prst="rect">
            <a:avLst/>
          </a:prstGeom>
          <a:gradFill rotWithShape="0">
            <a:gsLst>
              <a:gs pos="0">
                <a:srgbClr val="00005e">
                  <a:alpha val="0"/>
                </a:srgbClr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li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From Scratch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UserControl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Subclassing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Components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Control Library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Miscellaneous Topics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trol Librar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Start a new Windows Control Library project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Build controls or components as before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Compile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File &gt; Add Project &gt; New Project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Right-click &gt; Set as StartUp Project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Add library DLL to toolbox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Use at runtime or design time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Run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trol Library Summar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dvantages</a:t>
            </a:r>
            <a:endParaRPr b="0" lang="en-US" sz="36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Can contain many controls and components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Easy to use in many executables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Can have Friend access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isadvantages</a:t>
            </a:r>
            <a:endParaRPr b="0" lang="en-US" sz="36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Separate file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632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LibHSlider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133720" y="3429000"/>
            <a:ext cx="580392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447920" y="4876920"/>
            <a:ext cx="7238880" cy="609480"/>
          </a:xfrm>
          <a:prstGeom prst="rect">
            <a:avLst/>
          </a:prstGeom>
          <a:gradFill rotWithShape="0">
            <a:gsLst>
              <a:gs pos="0">
                <a:srgbClr val="00005e">
                  <a:alpha val="0"/>
                </a:srgbClr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li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From Scratch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UserControl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Subclassing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Components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Control Library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Miscellaneous Topics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iscellaneous Top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DesignMode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Transparent controls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Extender Providers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Attributes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uilding From Scratc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Start a new project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signM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320" y="4952520"/>
            <a:ext cx="75438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ivate Sub InvisibleAtRuntime_Load(ByVal sender As System.Object, _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yVal e As System.EventArgs) Handles MyBase.Load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e.Visible = Me.DesignMode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Sub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106668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Tells the program whether it is design time or at run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nsparent control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Don’t work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tender Provid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Implements IExtenderProvider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Lets a component interact with other controls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Example: TestExtenderProvider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ttribut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Give extra information about the control and its properties and events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eful Attribut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urier New"/>
              </a:rPr>
              <a:t>ToolboxBitmap(</a:t>
            </a:r>
            <a:r>
              <a:rPr b="0" i="1" lang="en-US" sz="2000" spc="-1" strike="noStrike">
                <a:solidFill>
                  <a:srgbClr val="66ccff"/>
                </a:solidFill>
                <a:latin typeface="Courier New"/>
              </a:rPr>
              <a:t>type</a:t>
            </a:r>
            <a:r>
              <a:rPr b="0" lang="en-US" sz="2000" spc="-1" strike="noStrike">
                <a:solidFill>
                  <a:srgbClr val="66ccff"/>
                </a:solidFill>
                <a:latin typeface="Courier New"/>
              </a:rPr>
              <a:t>, </a:t>
            </a:r>
            <a:r>
              <a:rPr b="0" i="1" lang="en-US" sz="2000" spc="-1" strike="noStrike">
                <a:solidFill>
                  <a:srgbClr val="66ccff"/>
                </a:solidFill>
                <a:latin typeface="Courier New"/>
              </a:rPr>
              <a:t>bitmap_resource_name</a:t>
            </a:r>
            <a:r>
              <a:rPr b="0" lang="en-US" sz="2000" spc="-1" strike="noStrike">
                <a:solidFill>
                  <a:srgbClr val="66cc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urier New"/>
              </a:rPr>
              <a:t>DefaultEvent(</a:t>
            </a:r>
            <a:r>
              <a:rPr b="0" i="1" lang="en-US" sz="2000" spc="-1" strike="noStrike">
                <a:solidFill>
                  <a:srgbClr val="66ccff"/>
                </a:solidFill>
                <a:latin typeface="Courier New"/>
              </a:rPr>
              <a:t>event_name</a:t>
            </a:r>
            <a:r>
              <a:rPr b="0" lang="en-US" sz="2000" spc="-1" strike="noStrike">
                <a:solidFill>
                  <a:srgbClr val="66cc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urier New"/>
              </a:rPr>
              <a:t>DefaultProperty(</a:t>
            </a:r>
            <a:r>
              <a:rPr b="0" i="1" lang="en-US" sz="2000" spc="-1" strike="noStrike">
                <a:solidFill>
                  <a:srgbClr val="66ccff"/>
                </a:solidFill>
                <a:latin typeface="Courier New"/>
              </a:rPr>
              <a:t>property_name</a:t>
            </a:r>
            <a:r>
              <a:rPr b="0" lang="en-US" sz="2000" spc="-1" strike="noStrike">
                <a:solidFill>
                  <a:srgbClr val="66cc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urier New"/>
              </a:rPr>
              <a:t>Description(</a:t>
            </a:r>
            <a:r>
              <a:rPr b="0" i="1" lang="en-US" sz="2000" spc="-1" strike="noStrike">
                <a:solidFill>
                  <a:srgbClr val="66ccff"/>
                </a:solidFill>
                <a:latin typeface="Courier New"/>
              </a:rPr>
              <a:t>property_description</a:t>
            </a:r>
            <a:r>
              <a:rPr b="0" lang="en-US" sz="2000" spc="-1" strike="noStrike">
                <a:solidFill>
                  <a:srgbClr val="66cc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urier New"/>
              </a:rPr>
              <a:t>Category(</a:t>
            </a:r>
            <a:r>
              <a:rPr b="0" i="1" lang="en-US" sz="2000" spc="-1" strike="noStrike">
                <a:solidFill>
                  <a:srgbClr val="66ccff"/>
                </a:solidFill>
                <a:latin typeface="Courier New"/>
              </a:rPr>
              <a:t>property_catagory</a:t>
            </a:r>
            <a:r>
              <a:rPr b="0" lang="en-US" sz="2000" spc="-1" strike="noStrike">
                <a:solidFill>
                  <a:srgbClr val="66cc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urier New"/>
              </a:rPr>
              <a:t>BrowsableAttribute(</a:t>
            </a:r>
            <a:r>
              <a:rPr b="0" i="1" lang="en-US" sz="2000" spc="-1" strike="noStrike">
                <a:solidFill>
                  <a:srgbClr val="66ccff"/>
                </a:solidFill>
                <a:latin typeface="Courier New"/>
              </a:rPr>
              <a:t>true_or_false</a:t>
            </a:r>
            <a:r>
              <a:rPr b="0" lang="en-US" sz="2000" spc="-1" strike="noStrike">
                <a:solidFill>
                  <a:srgbClr val="66cc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urier New"/>
              </a:rPr>
              <a:t>ParenthesizePropertyName(</a:t>
            </a:r>
            <a:r>
              <a:rPr b="0" i="1" lang="en-US" sz="2000" spc="-1" strike="noStrike">
                <a:solidFill>
                  <a:srgbClr val="66ccff"/>
                </a:solidFill>
                <a:latin typeface="Courier New"/>
              </a:rPr>
              <a:t>true_or_false</a:t>
            </a:r>
            <a:r>
              <a:rPr b="0" lang="en-US" sz="2000" spc="-1" strike="noStrike">
                <a:solidFill>
                  <a:srgbClr val="66cc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ttribute Examp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ccff"/>
                </a:solidFill>
                <a:latin typeface="Courier New"/>
              </a:rPr>
              <a:t>&lt;DefaultEvent("WasClicked"), _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cc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66ccff"/>
                </a:solidFill>
                <a:latin typeface="Courier New"/>
              </a:rPr>
              <a:t>DefaultProperty("Prop3"), _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cc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66ccff"/>
                </a:solidFill>
                <a:latin typeface="Courier New"/>
              </a:rPr>
              <a:t>ToolboxBitmap(GetType(TestControl), "tbxTestControl.bmp")&gt; _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ccff"/>
                </a:solidFill>
                <a:latin typeface="Courier New"/>
              </a:rPr>
              <a:t>Public Class TestControl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cc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66ccff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cc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ccff"/>
                </a:solidFill>
                <a:latin typeface="Courier New"/>
              </a:rPr>
              <a:t>&lt;Description("This is property number 1"), _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cc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66ccff"/>
                </a:solidFill>
                <a:latin typeface="Courier New"/>
              </a:rPr>
              <a:t>Category("Test Stuff")&gt; _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cc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ccff"/>
                </a:solidFill>
                <a:latin typeface="Courier New"/>
              </a:rPr>
              <a:t>Public Property Prop1() As Integer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cc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66ccff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cc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ccff"/>
                </a:solidFill>
                <a:latin typeface="Courier New"/>
              </a:rPr>
              <a:t>End Property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cc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ccff"/>
                </a:solidFill>
                <a:latin typeface="Courier New"/>
              </a:rPr>
              <a:t>&lt;BrowsableAttribute(False)&gt; _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cc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ccff"/>
                </a:solidFill>
                <a:latin typeface="Courier New"/>
              </a:rPr>
              <a:t>Public Property Prop2() As Integer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cc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66ccff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cc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ccff"/>
                </a:solidFill>
                <a:latin typeface="Courier New"/>
              </a:rPr>
              <a:t>End Property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cc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ccff"/>
                </a:solidFill>
                <a:latin typeface="Courier New"/>
              </a:rPr>
              <a:t>&lt;ParenthesizePropertyName(True)&gt; _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cc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ccff"/>
                </a:solidFill>
                <a:latin typeface="Courier New"/>
              </a:rPr>
              <a:t>Public Property Prop3() As Integer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cc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66ccff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cc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ccff"/>
                </a:solidFill>
                <a:latin typeface="Courier New"/>
              </a:rPr>
              <a:t>End Property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cc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ccff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ccff"/>
                </a:solidFill>
                <a:latin typeface="Courier New"/>
              </a:rPr>
              <a:t>End Class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632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TestAttributes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stions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200400" y="761760"/>
            <a:ext cx="26668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100000"/>
              </a:lnSpc>
              <a:spcBef>
                <a:spcPts val="10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0" spc="-1" strike="noStrike">
                <a:solidFill>
                  <a:srgbClr val="66ccff"/>
                </a:solidFill>
                <a:latin typeface="Times New Roman"/>
              </a:rPr>
              <a:t>?</a:t>
            </a:r>
            <a:endParaRPr b="0" lang="en-US" sz="400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uilding From Scratc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Start a new project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Project &gt; Add New Item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uilding From Scratc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Start a new project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Project &gt; Add New Item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Select Custom Control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uilding From Scratc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Start a new project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Project &gt; Add New Item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Select Custom Control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Give it a decent name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itial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Class HSlider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herits System.Windows.Forms.Control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Courier New"/>
              </a:rPr>
              <a:t>... Component Designer generated code ...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otected Overrides Sub OnPaint(ByVal pe As _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stem.Windows.Forms.PaintEventArgs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yBase.OnPaint(pe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8000"/>
                </a:solidFill>
                <a:latin typeface="Courier New"/>
              </a:rPr>
              <a:t>'Add your custom paint code here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Sub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Class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5:44:22Z</dcterms:created>
  <dc:creator>Rod</dc:creator>
  <dc:description/>
  <dc:language>en-US</dc:language>
  <cp:lastModifiedBy>Rod Stephens</cp:lastModifiedBy>
  <dcterms:modified xsi:type="dcterms:W3CDTF">2004-04-24T12:51:43Z</dcterms:modified>
  <cp:revision>34</cp:revision>
  <dc:subject/>
  <dc:title>Slide 1</dc:title>
</cp:coreProperties>
</file>