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B91-6B14-464C-A43D-268DB63D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08A-56A3-4C3F-9217-5090BC08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EE6-34AA-4100-AD48-88B35205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8E1-A87D-4554-B043-BBFA4EF0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3B9-901D-4E47-AAF1-9F802E60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277-4F52-49A5-BA6F-CCF9A4C0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736-2D3F-4AAE-875F-95B07B87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141-B9C3-4757-9202-FE5067B7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211-3B4E-4588-9286-1129D1B5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CAE-EA4F-479F-9560-C8C6AC8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966-5415-47F2-9DF5-114FA41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6FA-B606-43F5-B6E0-B69123A5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F760-F434-4ACD-B9BC-6454E8624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ice Smac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Smackdow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21:01:29Z</dcterms:created>
  <dc:creator>Rod Stephens</dc:creator>
  <dc:description/>
  <dc:language>en-US</dc:language>
  <cp:lastModifiedBy>Rod Stephens</cp:lastModifiedBy>
  <dcterms:modified xsi:type="dcterms:W3CDTF">2003-08-04T23:09:35Z</dcterms:modified>
  <cp:revision>2</cp:revision>
  <dc:subject/>
  <dc:title>Office Smackdown</dc:title>
</cp:coreProperties>
</file>