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67F4-2676-4704-B963-0C577CCF4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3466-4252-4025-B54B-F1DFF056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6F19-A21B-452A-9AE6-D1F584F01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814F-8456-43F7-8054-6F79A2F89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B439-F749-43AB-B42C-0EB6778D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B203-6E22-464C-B2DC-95294CA0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E39A-C03D-4401-A8DB-71CC7934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B325-97BB-460A-9931-8E30F24D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EF8A-0303-4345-A177-05F4905C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EFF6-A72A-4EDC-BA69-C6D63A55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9BD8-B99A-42CF-84F2-58AA6867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565B-4DDA-4F3A-A37C-6149F133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852B-D6D3-4790-BAEC-9FC3B6E21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7T19:40:19Z</dcterms:created>
  <dc:creator>Rod</dc:creator>
  <dc:description/>
  <dc:language>en-US</dc:language>
  <cp:lastModifiedBy>Rod</cp:lastModifiedBy>
  <dcterms:modified xsi:type="dcterms:W3CDTF">2003-07-07T20:21:08Z</dcterms:modified>
  <cp:revision>10</cp:revision>
  <dc:subject/>
  <dc:title>Slide 1</dc:title>
</cp:coreProperties>
</file>