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2D8-8A54-40E5-882C-CA06F9F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6E2-28A1-4E79-BF99-73A0319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1B2-141E-48EC-88A3-6B56CC0A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799-C82F-4D08-AC1E-00984849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C05-8AC9-406E-A2CC-9E85635B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418-3EBB-4429-A4E6-AAE1B46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148-8522-46BC-A248-2714E8F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623-54CF-477E-AE87-AD09D15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DDB-AC09-4E71-ACA9-3AF7B933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8A6-F046-4282-9165-EED3D21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984-2162-4BE5-9814-05EE23A2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480-43DA-4495-AF0D-B59009C7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7A9-CAAB-487C-BEF6-865CD52D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Slide A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A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A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0:06:59Z</dcterms:created>
  <dc:creator>Rod</dc:creator>
  <dc:description/>
  <dc:language>en-US</dc:language>
  <cp:lastModifiedBy>Rod</cp:lastModifiedBy>
  <dcterms:modified xsi:type="dcterms:W3CDTF">2003-05-09T20:20:36Z</dcterms:modified>
  <cp:revision>3</cp:revision>
  <dc:subject/>
  <dc:title>Presentation A</dc:title>
</cp:coreProperties>
</file>