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chimes.wav" ContentType="audio/x-wav"/>
  <Override PartName="/ppt/media/whoosh.wav" ContentType="audio/x-wav"/>
  <Override PartName="/ppt/media/image2.png" ContentType="image/png"/>
  <Override PartName="/ppt/media/laser.wav" ContentType="audio/x-wav"/>
  <Override PartName="/ppt/media/image4.jpeg" ContentType="image/jpeg"/>
  <Override PartName="/ppt/media/image1.png" ContentType="image/png"/>
  <Override PartName="/ppt/media/image3.jpeg" ContentType="image/jpe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E197D-9BD2-41C9-B94E-4F3B301184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l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re some autho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6D087-9666-44F3-9231-2C9A8D250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7DAAC-2B00-4898-A301-1E4BB8620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67AE7-9459-4E17-B272-972FCD859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AD0E0-B983-496C-A25E-8AF928184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58E45-4840-40C1-AA48-A4ACE6B01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5155F-4BB5-4A20-B32A-5E24DA2F7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51AF4-9776-4D5D-8675-155981832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A28B3-C233-4041-8021-EEBAD65F9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146A4-602B-4C75-9D8B-0F2A1159B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EE568-9D92-4E8B-8E98-0B542502F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01225-1A7D-4139-97D4-7CCF19A6B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99A9E-93F0-43C3-8CEC-8708E5AEC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A53FC-4C87-4F74-A741-771845B83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0F71D-D764-4C5A-961D-5E01ECFFD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65AF9-AE26-4CC4-BF53-4AC23EB40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37A97-65B7-4E19-AE4E-8466837EB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AB6EB-837F-4730-8B1D-4F10F67B3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D59EF-F2DF-48B4-853B-7C74A80E0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A76FD-A12B-4FD8-BEF1-A889D46B5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8EDEC-44F4-4755-ABBC-B922D3F0D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1A083-B414-4822-8AB3-33658CC6F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EA8CC-6EE4-496C-A0F0-76E5EB3C4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C2F69-F175-4E74-8865-E91C4EB07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BD413-F25E-4E08-BB51-1D45C028D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432FE-669D-414F-A925-091145F8B3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1625B-F7A7-4D2F-B8C4-E7902736C2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himes.wav" TargetMode="External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laser.wav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hyperlink" Target="file:///tmp/home/.config/libreoffice/4/user/gallery/arrow.wav" TargetMode="External"/><Relationship Id="rId3" Type="http://schemas.openxmlformats.org/officeDocument/2006/relationships/hyperlink" Target="file:///tmp/home/.config/libreoffice/4/user/gallery/bomb.wav" TargetMode="External"/><Relationship Id="rId4" Type="http://schemas.openxmlformats.org/officeDocument/2006/relationships/hyperlink" Target="file:///tmp/home/.config/libreoffice/4/user/gallery/breeze.wav" TargetMode="External"/><Relationship Id="rId5" Type="http://schemas.openxmlformats.org/officeDocument/2006/relationships/hyperlink" Target="file:///tmp/home/.config/libreoffice/4/user/gallery/camera.wav" TargetMode="External"/><Relationship Id="rId6" Type="http://schemas.openxmlformats.org/officeDocument/2006/relationships/hyperlink" Target="file:///tmp/home/.config/libreoffice/4/user/gallery/cashreg.wav" TargetMode="External"/><Relationship Id="rId7" Type="http://schemas.openxmlformats.org/officeDocument/2006/relationships/hyperlink" Target="file:///tmp/home/.config/libreoffice/4/user/gallery/chimes.wav" TargetMode="External"/><Relationship Id="rId8" Type="http://schemas.openxmlformats.org/officeDocument/2006/relationships/hyperlink" Target="file:///tmp/home/.config/libreoffice/4/user/gallery/click.wav" TargetMode="External"/><Relationship Id="rId9" Type="http://schemas.openxmlformats.org/officeDocument/2006/relationships/hyperlink" Target="file:///tmp/home/.config/libreoffice/4/user/gallery/coin.wav" TargetMode="External"/><Relationship Id="rId10" Type="http://schemas.openxmlformats.org/officeDocument/2006/relationships/hyperlink" Target="file:///tmp/home/.config/libreoffice/4/user/gallery/drumroll.wav" TargetMode="External"/><Relationship Id="rId11" Type="http://schemas.openxmlformats.org/officeDocument/2006/relationships/hyperlink" Target="file:///tmp/home/.config/libreoffice/4/user/gallery/explode.wav" TargetMode="External"/><Relationship Id="rId12" Type="http://schemas.openxmlformats.org/officeDocument/2006/relationships/hyperlink" Target="file:///tmp/home/.config/libreoffice/4/user/gallery/hammer.wav" TargetMode="External"/><Relationship Id="rId13" Type="http://schemas.openxmlformats.org/officeDocument/2006/relationships/hyperlink" Target="file:///usr/lib/libreoffice/share/gallery/sounds/laser.wav" TargetMode="External"/><Relationship Id="rId14" Type="http://schemas.openxmlformats.org/officeDocument/2006/relationships/hyperlink" Target="file:///tmp/home/.config/libreoffice/4/user/gallery/push.wav" TargetMode="External"/><Relationship Id="rId15" Type="http://schemas.openxmlformats.org/officeDocument/2006/relationships/hyperlink" Target="file:///tmp/home/.config/libreoffice/4/user/gallery/suction.wav" TargetMode="External"/><Relationship Id="rId16" Type="http://schemas.openxmlformats.org/officeDocument/2006/relationships/hyperlink" Target="file:///tmp/home/.config/libreoffice/4/user/gallery/type.wav" TargetMode="External"/><Relationship Id="rId17" Type="http://schemas.openxmlformats.org/officeDocument/2006/relationships/hyperlink" Target="file:///tmp/home/.config/libreoffice/4/user/gallery/voltage.wav" TargetMode="External"/><Relationship Id="rId18" Type="http://schemas.openxmlformats.org/officeDocument/2006/relationships/hyperlink" Target="file:///tmp/home/.config/libreoffice/4/user/gallery/whoosh.wav" TargetMode="External"/><Relationship Id="rId19" Type="http://schemas.openxmlformats.org/officeDocument/2006/relationships/hyperlink" Target="file:///tmp/home/.config/libreoffice/4/user/gallery/wind.wav" TargetMode="External"/><Relationship Id="rId20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s.pp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sample PowerPoint present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tio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>
            <a:hlinkClick r:id="rId1"/>
          </p:cNvPr>
          <p:cNvSpPr/>
          <p:nvPr/>
        </p:nvSpPr>
        <p:spPr>
          <a:xfrm>
            <a:off x="2666880" y="2158920"/>
            <a:ext cx="3810240" cy="2540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Animated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nim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Mine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Vege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2666880" y="3048120"/>
            <a:ext cx="3810240" cy="2539800"/>
          </a:xfrm>
          <a:custGeom>
            <a:avLst/>
            <a:gdLst>
              <a:gd name="textAreaLeft" fmla="*/ 869760 w 3810240"/>
              <a:gd name="textAreaRight" fmla="*/ 2940480 w 3810240"/>
              <a:gd name="textAreaTop" fmla="*/ 579600 h 2539800"/>
              <a:gd name="textAreaBottom" fmla="*/ 1960200 h 2539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127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3" dur="1" fill="hold">
                                    <p:stCondLst>
                                      <p:cond delay="500"/>
                                    </p:stCondLst>
                                  </p:cTn>
                                  <p:tgtEl>
                                    <p:spTgt spid="52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80"/>
                                </p:to>
                              </p:animCl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9" dur="1" fill="hold">
                                    <p:stCondLst>
                                      <p:cond delay="500"/>
                                    </p:stCondLst>
                                  </p:cTn>
                                  <p:tgtEl>
                                    <p:spTgt spid="53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0000"/>
                                </p:to>
                              </p:animCl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3000"/>
                            </p:stCondLst>
                            <p:childTnLst>
                              <p:par>
                                <p:cTn id="21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5" dur="1" fill="hold">
                                    <p:stCondLst>
                                      <p:cond delay="500"/>
                                    </p:stCondLst>
                                  </p:cTn>
                                  <p:tgtEl>
                                    <p:spTgt spid="53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0000"/>
                                </p:to>
                              </p:animCl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4000"/>
                            </p:stCondLst>
                            <p:childTnLst>
                              <p:par>
                                <p:cTn id="2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" dur="1" fill="hold">
                                    <p:stCondLst>
                                      <p:cond delay="500"/>
                                    </p:stCondLst>
                                  </p:cTn>
                                  <p:tgtEl>
                                    <p:spTgt spid="53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/>
          <p:nvPr/>
        </p:nvSpPr>
        <p:spPr>
          <a:xfrm>
            <a:off x="0" y="0"/>
            <a:ext cx="2286000" cy="1714680"/>
          </a:xfrm>
          <a:prstGeom prst="flowChar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2286000" y="0"/>
            <a:ext cx="2286000" cy="171468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4572000" y="0"/>
            <a:ext cx="2286000" cy="1714680"/>
          </a:xfrm>
          <a:prstGeom prst="leftRightArrow">
            <a:avLst>
              <a:gd name="adj1" fmla="val 50000"/>
              <a:gd name="adj2" fmla="val 2654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6858000" y="0"/>
            <a:ext cx="2286000" cy="1714680"/>
          </a:xfrm>
          <a:prstGeom prst="lightningBol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0" y="1714680"/>
            <a:ext cx="2286000" cy="1714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2286000" y="1714680"/>
            <a:ext cx="2286000" cy="1714320"/>
          </a:xfrm>
          <a:custGeom>
            <a:avLst/>
            <a:gdLst>
              <a:gd name="textAreaLeft" fmla="*/ 0 w 2286000"/>
              <a:gd name="textAreaRight" fmla="*/ 2286360 w 2286000"/>
              <a:gd name="textAreaTop" fmla="*/ 0 h 1714320"/>
              <a:gd name="textAreaBottom" fmla="*/ 1714680 h 1714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4572000" y="1714680"/>
            <a:ext cx="2286000" cy="1714320"/>
          </a:xfrm>
          <a:custGeom>
            <a:avLst/>
            <a:gdLst>
              <a:gd name="textAreaLeft" fmla="*/ 201960 w 2286000"/>
              <a:gd name="textAreaRight" fmla="*/ 2084040 w 2286000"/>
              <a:gd name="textAreaTop" fmla="*/ 201960 h 1714320"/>
              <a:gd name="textAreaBottom" fmla="*/ 1512360 h 1714320"/>
            </a:gdLst>
            <a:ahLst/>
            <a:rect l="textAreaLeft" t="textAreaTop" r="textAreaRight" b="textAreaBottom"/>
            <a:pathLst>
              <a:path w="28802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5202" y="21600"/>
                </a:lnTo>
                <a:arcTo wR="3600" hR="3600" stAng="10800000" swAng="5400000"/>
                <a:lnTo>
                  <a:pt x="28802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6858000" y="1714680"/>
            <a:ext cx="2286000" cy="1714320"/>
          </a:xfrm>
          <a:custGeom>
            <a:avLst/>
            <a:gdLst>
              <a:gd name="textAreaLeft" fmla="*/ 0 w 2286000"/>
              <a:gd name="textAreaRight" fmla="*/ 2286360 w 2286000"/>
              <a:gd name="textAreaTop" fmla="*/ 0 h 1714320"/>
              <a:gd name="textAreaBottom" fmla="*/ 1714680 h 1714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0" y="3429000"/>
            <a:ext cx="2286000" cy="1714680"/>
          </a:xfrm>
          <a:custGeom>
            <a:avLst/>
            <a:gdLst>
              <a:gd name="textAreaLeft" fmla="*/ 521640 w 2286000"/>
              <a:gd name="textAreaRight" fmla="*/ 1764360 w 2286000"/>
              <a:gd name="textAreaTop" fmla="*/ 391320 h 1714680"/>
              <a:gd name="textAreaBottom" fmla="*/ 1323360 h 1714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2286000" y="3429000"/>
            <a:ext cx="2286000" cy="1714680"/>
          </a:xfrm>
          <a:custGeom>
            <a:avLst/>
            <a:gdLst>
              <a:gd name="textAreaLeft" fmla="*/ 0 w 2286000"/>
              <a:gd name="textAreaRight" fmla="*/ 2286360 w 2286000"/>
              <a:gd name="textAreaTop" fmla="*/ 222120 h 1714680"/>
              <a:gd name="textAreaBottom" fmla="*/ 1492560 h 171468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4572000" y="3429000"/>
            <a:ext cx="2286000" cy="1714680"/>
          </a:xfrm>
          <a:custGeom>
            <a:avLst/>
            <a:gdLst>
              <a:gd name="textAreaLeft" fmla="*/ 84600 w 2286000"/>
              <a:gd name="textAreaRight" fmla="*/ 2201400 w 2286000"/>
              <a:gd name="textAreaTop" fmla="*/ 63360 h 1714680"/>
              <a:gd name="textAreaBottom" fmla="*/ 1369440 h 171468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400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6858000" y="3429000"/>
            <a:ext cx="2286000" cy="171468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0" y="5143680"/>
            <a:ext cx="2286000" cy="1714320"/>
          </a:xfrm>
          <a:prstGeom prst="uturnArrow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2286000" y="5143680"/>
            <a:ext cx="2286000" cy="171432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4572000" y="5143680"/>
            <a:ext cx="2286000" cy="1714320"/>
          </a:xfrm>
          <a:custGeom>
            <a:avLst/>
            <a:gdLst>
              <a:gd name="textAreaLeft" fmla="*/ 0 w 2286000"/>
              <a:gd name="textAreaRight" fmla="*/ 2286360 w 2286000"/>
              <a:gd name="textAreaTop" fmla="*/ 0 h 1714320"/>
              <a:gd name="textAreaBottom" fmla="*/ 1714680 h 171432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6858000" y="5143680"/>
            <a:ext cx="2286000" cy="1714320"/>
          </a:xfrm>
          <a:prstGeom prst="donut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">
            <a:hlinkClick r:id="rId1"/>
          </p:cNvPr>
          <p:cNvSpPr/>
          <p:nvPr/>
        </p:nvSpPr>
        <p:spPr>
          <a:xfrm>
            <a:off x="1270080" y="952560"/>
            <a:ext cx="25398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a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>
            <a:hlinkClick r:id="rId2"/>
          </p:cNvPr>
          <p:cNvSpPr/>
          <p:nvPr/>
        </p:nvSpPr>
        <p:spPr>
          <a:xfrm>
            <a:off x="1270080" y="1460520"/>
            <a:ext cx="25398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>
            <a:hlinkClick r:id="rId3"/>
          </p:cNvPr>
          <p:cNvSpPr/>
          <p:nvPr/>
        </p:nvSpPr>
        <p:spPr>
          <a:xfrm>
            <a:off x="1270080" y="1968480"/>
            <a:ext cx="25398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m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>
            <a:hlinkClick r:id="rId4"/>
          </p:cNvPr>
          <p:cNvSpPr/>
          <p:nvPr/>
        </p:nvSpPr>
        <p:spPr>
          <a:xfrm>
            <a:off x="1270080" y="2476440"/>
            <a:ext cx="253980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ee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>
            <a:hlinkClick r:id="rId5"/>
          </p:cNvPr>
          <p:cNvSpPr/>
          <p:nvPr/>
        </p:nvSpPr>
        <p:spPr>
          <a:xfrm>
            <a:off x="1270080" y="2984400"/>
            <a:ext cx="253980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me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>
            <a:hlinkClick r:id="rId6"/>
          </p:cNvPr>
          <p:cNvSpPr/>
          <p:nvPr/>
        </p:nvSpPr>
        <p:spPr>
          <a:xfrm>
            <a:off x="1270080" y="3492360"/>
            <a:ext cx="253980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sh regi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>
            <a:hlinkClick r:id="rId7"/>
          </p:cNvPr>
          <p:cNvSpPr/>
          <p:nvPr/>
        </p:nvSpPr>
        <p:spPr>
          <a:xfrm>
            <a:off x="1270080" y="4000680"/>
            <a:ext cx="25398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>
            <a:hlinkClick r:id="rId8"/>
          </p:cNvPr>
          <p:cNvSpPr/>
          <p:nvPr/>
        </p:nvSpPr>
        <p:spPr>
          <a:xfrm>
            <a:off x="1270080" y="4508640"/>
            <a:ext cx="25398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>
            <a:hlinkClick r:id="rId9"/>
          </p:cNvPr>
          <p:cNvSpPr/>
          <p:nvPr/>
        </p:nvSpPr>
        <p:spPr>
          <a:xfrm>
            <a:off x="1270080" y="5016600"/>
            <a:ext cx="25398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>
            <a:hlinkClick r:id="rId10"/>
          </p:cNvPr>
          <p:cNvSpPr/>
          <p:nvPr/>
        </p:nvSpPr>
        <p:spPr>
          <a:xfrm>
            <a:off x="1270080" y="5524560"/>
            <a:ext cx="25398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um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>
            <a:hlinkClick r:id="rId11"/>
          </p:cNvPr>
          <p:cNvSpPr/>
          <p:nvPr/>
        </p:nvSpPr>
        <p:spPr>
          <a:xfrm>
            <a:off x="5079960" y="952560"/>
            <a:ext cx="254016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lo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>
            <a:hlinkClick r:id="rId12"/>
          </p:cNvPr>
          <p:cNvSpPr/>
          <p:nvPr/>
        </p:nvSpPr>
        <p:spPr>
          <a:xfrm>
            <a:off x="5079960" y="1460520"/>
            <a:ext cx="254016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m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>
            <a:hlinkClick r:id="rId13"/>
          </p:cNvPr>
          <p:cNvSpPr/>
          <p:nvPr/>
        </p:nvSpPr>
        <p:spPr>
          <a:xfrm>
            <a:off x="5079960" y="1968480"/>
            <a:ext cx="254016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>
            <a:hlinkClick r:id="rId14"/>
          </p:cNvPr>
          <p:cNvSpPr/>
          <p:nvPr/>
        </p:nvSpPr>
        <p:spPr>
          <a:xfrm>
            <a:off x="5079960" y="2476440"/>
            <a:ext cx="254016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>
            <a:hlinkClick r:id="rId15"/>
          </p:cNvPr>
          <p:cNvSpPr/>
          <p:nvPr/>
        </p:nvSpPr>
        <p:spPr>
          <a:xfrm>
            <a:off x="5079960" y="2984400"/>
            <a:ext cx="254016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>
            <a:hlinkClick r:id="rId16"/>
          </p:cNvPr>
          <p:cNvSpPr/>
          <p:nvPr/>
        </p:nvSpPr>
        <p:spPr>
          <a:xfrm>
            <a:off x="5079960" y="3492360"/>
            <a:ext cx="254016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ypewr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>
            <a:hlinkClick r:id="rId17"/>
          </p:cNvPr>
          <p:cNvSpPr/>
          <p:nvPr/>
        </p:nvSpPr>
        <p:spPr>
          <a:xfrm>
            <a:off x="5079960" y="4000680"/>
            <a:ext cx="254016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>
            <a:hlinkClick r:id="rId18"/>
          </p:cNvPr>
          <p:cNvSpPr/>
          <p:nvPr/>
        </p:nvSpPr>
        <p:spPr>
          <a:xfrm>
            <a:off x="5079960" y="4508640"/>
            <a:ext cx="254016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oo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>
            <a:hlinkClick r:id="rId19"/>
          </p:cNvPr>
          <p:cNvSpPr/>
          <p:nvPr/>
        </p:nvSpPr>
        <p:spPr>
          <a:xfrm>
            <a:off x="5079960" y="5016600"/>
            <a:ext cx="254016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"/>
          <p:cNvSpPr/>
          <p:nvPr/>
        </p:nvSpPr>
        <p:spPr>
          <a:xfrm>
            <a:off x="254160" y="254160"/>
            <a:ext cx="2709720" cy="194760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0000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3218040" y="254160"/>
            <a:ext cx="2707920" cy="194760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80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6180120" y="254160"/>
            <a:ext cx="2709720" cy="1947600"/>
          </a:xfrm>
          <a:prstGeom prst="parallelogram">
            <a:avLst>
              <a:gd name="adj" fmla="val 34783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254160" y="2455920"/>
            <a:ext cx="2709720" cy="1946160"/>
          </a:xfrm>
          <a:prstGeom prst="pentagon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3218040" y="2455920"/>
            <a:ext cx="2707920" cy="1946160"/>
          </a:xfrm>
          <a:custGeom>
            <a:avLst/>
            <a:gdLst>
              <a:gd name="textAreaLeft" fmla="*/ 0 w 2707920"/>
              <a:gd name="textAreaRight" fmla="*/ 2708280 w 2707920"/>
              <a:gd name="textAreaTop" fmla="*/ 252000 h 1946160"/>
              <a:gd name="textAreaBottom" fmla="*/ 1694160 h 19461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gradFill rotWithShape="0">
            <a:gsLst>
              <a:gs pos="0">
                <a:srgbClr val="ffa800"/>
              </a:gs>
              <a:gs pos="100000">
                <a:srgbClr val="8256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6180120" y="2455920"/>
            <a:ext cx="2709720" cy="194616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254160" y="4656240"/>
            <a:ext cx="2709720" cy="1947600"/>
          </a:xfrm>
          <a:custGeom>
            <a:avLst/>
            <a:gdLst>
              <a:gd name="textAreaLeft" fmla="*/ 100080 w 2709720"/>
              <a:gd name="textAreaRight" fmla="*/ 2609640 w 2709720"/>
              <a:gd name="textAreaTop" fmla="*/ 72000 h 1947600"/>
              <a:gd name="textAreaBottom" fmla="*/ 1555560 h 194760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400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3218040" y="4656240"/>
            <a:ext cx="2707920" cy="1947600"/>
          </a:xfrm>
          <a:custGeom>
            <a:avLst/>
            <a:gdLst>
              <a:gd name="textAreaLeft" fmla="*/ 618120 w 2707920"/>
              <a:gd name="textAreaRight" fmla="*/ 2089800 w 2707920"/>
              <a:gd name="textAreaTop" fmla="*/ 444600 h 1947600"/>
              <a:gd name="textAreaBottom" fmla="*/ 1503000 h 1947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6180120" y="4656240"/>
            <a:ext cx="2709720" cy="1947600"/>
          </a:xfrm>
          <a:prstGeom prst="can">
            <a:avLst>
              <a:gd name="adj" fmla="val 25000"/>
            </a:avLst>
          </a:pr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"/>
          <p:cNvSpPr/>
          <p:nvPr/>
        </p:nvSpPr>
        <p:spPr>
          <a:xfrm>
            <a:off x="3301920" y="635040"/>
            <a:ext cx="2540160" cy="1270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p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635040" y="635040"/>
            <a:ext cx="2539800" cy="1270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ent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5969160" y="635040"/>
            <a:ext cx="2539800" cy="1270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ttom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yclo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d by the equati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t = 150 * (27 * Cos(t) + 15 * Cos(t * 20 / 7)) / 42 + 4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t = 150 * (27 * Sin(t) + 15 * Sin(t * 20 / 7)) / 42 + 3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0 &lt;= t &lt;= 14 * P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 flipH="1">
            <a:off x="8599320" y="4444920"/>
            <a:ext cx="36720" cy="328680"/>
          </a:xfrm>
          <a:prstGeom prst="line">
            <a:avLst/>
          </a:prstGeom>
          <a:ln w="9360">
            <a:solidFill>
              <a:srgbClr val="0074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 flipH="1">
            <a:off x="8491320" y="4773600"/>
            <a:ext cx="107640" cy="309600"/>
          </a:xfrm>
          <a:prstGeom prst="line">
            <a:avLst/>
          </a:prstGeom>
          <a:ln w="9360">
            <a:solidFill>
              <a:srgbClr val="005f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 flipH="1">
            <a:off x="8319600" y="5083200"/>
            <a:ext cx="171720" cy="271440"/>
          </a:xfrm>
          <a:prstGeom prst="line">
            <a:avLst/>
          </a:prstGeom>
          <a:ln w="9360">
            <a:solidFill>
              <a:srgbClr val="004b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 flipH="1">
            <a:off x="8097480" y="5354640"/>
            <a:ext cx="222120" cy="222120"/>
          </a:xfrm>
          <a:prstGeom prst="line">
            <a:avLst/>
          </a:prstGeom>
          <a:ln w="9360">
            <a:solidFill>
              <a:srgbClr val="003b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 flipH="1">
            <a:off x="7842240" y="5576760"/>
            <a:ext cx="255600" cy="158760"/>
          </a:xfrm>
          <a:prstGeom prst="line">
            <a:avLst/>
          </a:prstGeom>
          <a:ln w="9360">
            <a:solidFill>
              <a:srgbClr val="002e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 flipH="1">
            <a:off x="7570800" y="5735520"/>
            <a:ext cx="271440" cy="92160"/>
          </a:xfrm>
          <a:prstGeom prst="line">
            <a:avLst/>
          </a:prstGeom>
          <a:ln w="9360">
            <a:solidFill>
              <a:srgbClr val="0025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 flipH="1">
            <a:off x="7300800" y="5827680"/>
            <a:ext cx="270000" cy="25560"/>
          </a:xfrm>
          <a:prstGeom prst="line">
            <a:avLst/>
          </a:prstGeom>
          <a:ln w="9360">
            <a:solidFill>
              <a:srgbClr val="0021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 flipH="1" flipV="1">
            <a:off x="7051680" y="5817960"/>
            <a:ext cx="249120" cy="34920"/>
          </a:xfrm>
          <a:prstGeom prst="line">
            <a:avLst/>
          </a:prstGeom>
          <a:ln w="9360">
            <a:solidFill>
              <a:srgbClr val="0022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 flipH="1" flipV="1">
            <a:off x="6837120" y="5730480"/>
            <a:ext cx="214200" cy="87480"/>
          </a:xfrm>
          <a:prstGeom prst="line">
            <a:avLst/>
          </a:prstGeom>
          <a:ln w="9360">
            <a:solidFill>
              <a:srgbClr val="0026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 flipH="1" flipV="1">
            <a:off x="6670440" y="5607000"/>
            <a:ext cx="166680" cy="123840"/>
          </a:xfrm>
          <a:prstGeom prst="line">
            <a:avLst/>
          </a:prstGeom>
          <a:ln w="9360">
            <a:solidFill>
              <a:srgbClr val="002d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6556320" y="5462280"/>
            <a:ext cx="114480" cy="144360"/>
          </a:xfrm>
          <a:prstGeom prst="line">
            <a:avLst/>
          </a:prstGeom>
          <a:ln w="9360">
            <a:solidFill>
              <a:srgbClr val="0036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 flipH="1" flipV="1">
            <a:off x="6495840" y="5315040"/>
            <a:ext cx="60120" cy="147600"/>
          </a:xfrm>
          <a:prstGeom prst="line">
            <a:avLst/>
          </a:prstGeom>
          <a:ln w="9360">
            <a:solidFill>
              <a:srgbClr val="0040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 flipH="1" flipV="1">
            <a:off x="6486120" y="5179680"/>
            <a:ext cx="9720" cy="135000"/>
          </a:xfrm>
          <a:prstGeom prst="line">
            <a:avLst/>
          </a:prstGeom>
          <a:ln w="9360">
            <a:solidFill>
              <a:srgbClr val="0049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 flipV="1">
            <a:off x="6486480" y="5073480"/>
            <a:ext cx="31680" cy="106560"/>
          </a:xfrm>
          <a:prstGeom prst="line">
            <a:avLst/>
          </a:prstGeom>
          <a:ln w="9360">
            <a:solidFill>
              <a:srgbClr val="0052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 flipV="1">
            <a:off x="6518160" y="5006520"/>
            <a:ext cx="61920" cy="66600"/>
          </a:xfrm>
          <a:prstGeom prst="line">
            <a:avLst/>
          </a:prstGeom>
          <a:ln w="9360">
            <a:solidFill>
              <a:srgbClr val="0057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 flipV="1">
            <a:off x="6580080" y="4984560"/>
            <a:ext cx="73080" cy="21960"/>
          </a:xfrm>
          <a:prstGeom prst="line">
            <a:avLst/>
          </a:prstGeom>
          <a:ln w="9360">
            <a:solidFill>
              <a:srgbClr val="005a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6653160" y="4984920"/>
            <a:ext cx="71640" cy="25200"/>
          </a:xfrm>
          <a:prstGeom prst="line">
            <a:avLst/>
          </a:prstGeom>
          <a:ln w="9360">
            <a:solidFill>
              <a:srgbClr val="005a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6724800" y="5010120"/>
            <a:ext cx="52200" cy="68400"/>
          </a:xfrm>
          <a:prstGeom prst="line">
            <a:avLst/>
          </a:prstGeom>
          <a:ln w="9360">
            <a:solidFill>
              <a:srgbClr val="0057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6777000" y="5078520"/>
            <a:ext cx="17640" cy="101520"/>
          </a:xfrm>
          <a:prstGeom prst="line">
            <a:avLst/>
          </a:prstGeom>
          <a:ln w="9360">
            <a:solidFill>
              <a:srgbClr val="0051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 flipH="1">
            <a:off x="6768720" y="5180040"/>
            <a:ext cx="25560" cy="125280"/>
          </a:xfrm>
          <a:prstGeom prst="line">
            <a:avLst/>
          </a:prstGeom>
          <a:ln w="9360">
            <a:solidFill>
              <a:srgbClr val="004a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 flipH="1">
            <a:off x="6691320" y="5305320"/>
            <a:ext cx="77760" cy="130320"/>
          </a:xfrm>
          <a:prstGeom prst="line">
            <a:avLst/>
          </a:prstGeom>
          <a:ln w="9360">
            <a:solidFill>
              <a:srgbClr val="0041b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 flipH="1">
            <a:off x="6561000" y="5435640"/>
            <a:ext cx="130320" cy="120600"/>
          </a:xfrm>
          <a:prstGeom prst="line">
            <a:avLst/>
          </a:prstGeom>
          <a:ln w="9360">
            <a:solidFill>
              <a:srgbClr val="0039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 flipH="1">
            <a:off x="6383160" y="5556240"/>
            <a:ext cx="177840" cy="92160"/>
          </a:xfrm>
          <a:prstGeom prst="line">
            <a:avLst/>
          </a:prstGeom>
          <a:ln w="9360">
            <a:solidFill>
              <a:srgbClr val="0032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 flipH="1">
            <a:off x="6164280" y="5648400"/>
            <a:ext cx="218880" cy="48960"/>
          </a:xfrm>
          <a:prstGeom prst="line">
            <a:avLst/>
          </a:prstGeom>
          <a:ln w="9360">
            <a:solidFill>
              <a:srgbClr val="002d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 flipH="1" flipV="1">
            <a:off x="5918040" y="5690880"/>
            <a:ext cx="246240" cy="6120"/>
          </a:xfrm>
          <a:prstGeom prst="line">
            <a:avLst/>
          </a:prstGeom>
          <a:ln w="9360">
            <a:solidFill>
              <a:srgbClr val="002b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 flipH="1" flipV="1">
            <a:off x="5662440" y="5621400"/>
            <a:ext cx="255600" cy="69840"/>
          </a:xfrm>
          <a:prstGeom prst="line">
            <a:avLst/>
          </a:prstGeom>
          <a:ln w="9360">
            <a:solidFill>
              <a:srgbClr val="002e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 flipH="1" flipV="1">
            <a:off x="5414760" y="5486040"/>
            <a:ext cx="247320" cy="135000"/>
          </a:xfrm>
          <a:prstGeom prst="line">
            <a:avLst/>
          </a:prstGeom>
          <a:ln w="9360">
            <a:solidFill>
              <a:srgbClr val="0035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 flipH="1" flipV="1">
            <a:off x="5192640" y="5289120"/>
            <a:ext cx="222480" cy="196920"/>
          </a:xfrm>
          <a:prstGeom prst="line">
            <a:avLst/>
          </a:prstGeom>
          <a:ln w="9360">
            <a:solidFill>
              <a:srgbClr val="0040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 flipH="1" flipV="1">
            <a:off x="5014800" y="5035320"/>
            <a:ext cx="177840" cy="253800"/>
          </a:xfrm>
          <a:prstGeom prst="line">
            <a:avLst/>
          </a:prstGeom>
          <a:ln w="9360">
            <a:solidFill>
              <a:srgbClr val="004f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 flipH="1" flipV="1">
            <a:off x="4892400" y="4739760"/>
            <a:ext cx="122040" cy="295560"/>
          </a:xfrm>
          <a:prstGeom prst="line">
            <a:avLst/>
          </a:prstGeom>
          <a:ln w="9360">
            <a:solidFill>
              <a:srgbClr val="0062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4840200" y="4417560"/>
            <a:ext cx="52560" cy="322200"/>
          </a:xfrm>
          <a:prstGeom prst="line">
            <a:avLst/>
          </a:prstGeom>
          <a:ln w="9360">
            <a:solidFill>
              <a:srgbClr val="00768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 flipV="1">
            <a:off x="4840200" y="4088880"/>
            <a:ext cx="20880" cy="328680"/>
          </a:xfrm>
          <a:prstGeom prst="line">
            <a:avLst/>
          </a:prstGeom>
          <a:ln w="9360">
            <a:solidFill>
              <a:srgbClr val="008c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 flipV="1">
            <a:off x="4861080" y="3771720"/>
            <a:ext cx="91800" cy="317160"/>
          </a:xfrm>
          <a:prstGeom prst="line">
            <a:avLst/>
          </a:prstGeom>
          <a:ln w="9360">
            <a:solidFill>
              <a:srgbClr val="00a2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 flipV="1">
            <a:off x="4952880" y="3484080"/>
            <a:ext cx="160560" cy="287640"/>
          </a:xfrm>
          <a:prstGeom prst="line">
            <a:avLst/>
          </a:prstGeom>
          <a:ln w="9360">
            <a:solidFill>
              <a:srgbClr val="00b7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 flipV="1">
            <a:off x="5113440" y="3243240"/>
            <a:ext cx="217440" cy="241200"/>
          </a:xfrm>
          <a:prstGeom prst="line">
            <a:avLst/>
          </a:prstGeom>
          <a:ln w="9360">
            <a:solidFill>
              <a:srgbClr val="00c8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 flipV="1">
            <a:off x="5330880" y="3061800"/>
            <a:ext cx="258840" cy="181080"/>
          </a:xfrm>
          <a:prstGeom prst="line">
            <a:avLst/>
          </a:prstGeom>
          <a:ln w="9360">
            <a:solidFill>
              <a:srgbClr val="00d7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 flipV="1">
            <a:off x="5589720" y="2946240"/>
            <a:ext cx="282600" cy="115920"/>
          </a:xfrm>
          <a:prstGeom prst="line">
            <a:avLst/>
          </a:prstGeom>
          <a:ln w="9360">
            <a:solidFill>
              <a:srgbClr val="00e1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 flipV="1">
            <a:off x="5872320" y="2901600"/>
            <a:ext cx="287280" cy="44280"/>
          </a:xfrm>
          <a:prstGeom prst="line">
            <a:avLst/>
          </a:prstGeom>
          <a:ln w="9360">
            <a:solidFill>
              <a:srgbClr val="00e6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159600" y="2901960"/>
            <a:ext cx="276120" cy="20520"/>
          </a:xfrm>
          <a:prstGeom prst="line">
            <a:avLst/>
          </a:prstGeom>
          <a:ln w="9360">
            <a:solidFill>
              <a:srgbClr val="00e7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6435720" y="2922480"/>
            <a:ext cx="244440" cy="77760"/>
          </a:xfrm>
          <a:prstGeom prst="line">
            <a:avLst/>
          </a:prstGeom>
          <a:ln w="9360">
            <a:solidFill>
              <a:srgbClr val="00e3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6680160" y="3000240"/>
            <a:ext cx="203400" cy="125640"/>
          </a:xfrm>
          <a:prstGeom prst="line">
            <a:avLst/>
          </a:prstGeom>
          <a:ln w="9360">
            <a:solidFill>
              <a:srgbClr val="00dd2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6883560" y="3125880"/>
            <a:ext cx="149040" cy="153720"/>
          </a:xfrm>
          <a:prstGeom prst="line">
            <a:avLst/>
          </a:prstGeom>
          <a:ln w="9360">
            <a:solidFill>
              <a:srgbClr val="00d3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7032600" y="3279600"/>
            <a:ext cx="93600" cy="168480"/>
          </a:xfrm>
          <a:prstGeom prst="line">
            <a:avLst/>
          </a:prstGeom>
          <a:ln w="9360">
            <a:solidFill>
              <a:srgbClr val="00c8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7126200" y="3448080"/>
            <a:ext cx="38160" cy="162000"/>
          </a:xfrm>
          <a:prstGeom prst="line">
            <a:avLst/>
          </a:prstGeom>
          <a:ln w="9360">
            <a:solidFill>
              <a:srgbClr val="00bd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 flipH="1">
            <a:off x="7155000" y="3610080"/>
            <a:ext cx="9360" cy="142920"/>
          </a:xfrm>
          <a:prstGeom prst="line">
            <a:avLst/>
          </a:prstGeom>
          <a:ln w="9360">
            <a:solidFill>
              <a:srgbClr val="00b3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 flipH="1">
            <a:off x="7106760" y="3753000"/>
            <a:ext cx="47880" cy="107640"/>
          </a:xfrm>
          <a:prstGeom prst="line">
            <a:avLst/>
          </a:prstGeom>
          <a:ln w="9360">
            <a:solidFill>
              <a:srgbClr val="00aa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 flipH="1">
            <a:off x="7035840" y="3860640"/>
            <a:ext cx="71280" cy="65160"/>
          </a:xfrm>
          <a:prstGeom prst="line">
            <a:avLst/>
          </a:prstGeom>
          <a:ln w="9360">
            <a:solidFill>
              <a:srgbClr val="00a5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 flipH="1">
            <a:off x="6958080" y="3925800"/>
            <a:ext cx="77760" cy="17640"/>
          </a:xfrm>
          <a:prstGeom prst="line">
            <a:avLst/>
          </a:prstGeom>
          <a:ln w="9360">
            <a:solidFill>
              <a:srgbClr val="00a2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 flipH="1" flipV="1">
            <a:off x="6888240" y="3914640"/>
            <a:ext cx="69840" cy="28800"/>
          </a:xfrm>
          <a:prstGeom prst="line">
            <a:avLst/>
          </a:prstGeom>
          <a:ln w="9360">
            <a:solidFill>
              <a:srgbClr val="00a2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 flipH="1" flipV="1">
            <a:off x="6845040" y="3846240"/>
            <a:ext cx="42840" cy="68040"/>
          </a:xfrm>
          <a:prstGeom prst="line">
            <a:avLst/>
          </a:prstGeom>
          <a:ln w="9360">
            <a:solidFill>
              <a:srgbClr val="00a6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 flipH="1" flipV="1">
            <a:off x="6837480" y="3749400"/>
            <a:ext cx="7920" cy="96840"/>
          </a:xfrm>
          <a:prstGeom prst="line">
            <a:avLst/>
          </a:prstGeom>
          <a:ln w="9360">
            <a:solidFill>
              <a:srgbClr val="00ab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 flipV="1">
            <a:off x="6837480" y="3636720"/>
            <a:ext cx="39600" cy="112680"/>
          </a:xfrm>
          <a:prstGeom prst="line">
            <a:avLst/>
          </a:prstGeom>
          <a:ln w="9360">
            <a:solidFill>
              <a:srgbClr val="00b2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 flipV="1">
            <a:off x="6877080" y="3524040"/>
            <a:ext cx="90360" cy="112680"/>
          </a:xfrm>
          <a:prstGeom prst="line">
            <a:avLst/>
          </a:prstGeom>
          <a:ln w="9360">
            <a:solidFill>
              <a:srgbClr val="00ba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 flipV="1">
            <a:off x="6967440" y="3430080"/>
            <a:ext cx="141480" cy="93960"/>
          </a:xfrm>
          <a:prstGeom prst="line">
            <a:avLst/>
          </a:prstGeom>
          <a:ln w="9360">
            <a:solidFill>
              <a:srgbClr val="00c13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 flipV="1">
            <a:off x="7108920" y="3369960"/>
            <a:ext cx="183960" cy="60120"/>
          </a:xfrm>
          <a:prstGeom prst="line">
            <a:avLst/>
          </a:prstGeom>
          <a:ln w="9360">
            <a:solidFill>
              <a:srgbClr val="00c6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 flipV="1">
            <a:off x="7292880" y="3357360"/>
            <a:ext cx="216000" cy="12600"/>
          </a:xfrm>
          <a:prstGeom prst="line">
            <a:avLst/>
          </a:prstGeom>
          <a:ln w="9360">
            <a:solidFill>
              <a:srgbClr val="00c8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7508880" y="3357720"/>
            <a:ext cx="235080" cy="45720"/>
          </a:xfrm>
          <a:prstGeom prst="line">
            <a:avLst/>
          </a:prstGeom>
          <a:ln w="9360">
            <a:solidFill>
              <a:srgbClr val="00c7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7743960" y="3403440"/>
            <a:ext cx="236520" cy="108000"/>
          </a:xfrm>
          <a:prstGeom prst="line">
            <a:avLst/>
          </a:prstGeom>
          <a:ln w="9360">
            <a:solidFill>
              <a:srgbClr val="00c2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7980480" y="3511440"/>
            <a:ext cx="217440" cy="171720"/>
          </a:xfrm>
          <a:prstGeom prst="line">
            <a:avLst/>
          </a:prstGeom>
          <a:ln w="9360">
            <a:solidFill>
              <a:srgbClr val="00b9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8197920" y="3683160"/>
            <a:ext cx="182520" cy="230040"/>
          </a:xfrm>
          <a:prstGeom prst="line">
            <a:avLst/>
          </a:prstGeom>
          <a:ln w="9360">
            <a:solidFill>
              <a:srgbClr val="00ab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8380440" y="3913200"/>
            <a:ext cx="130320" cy="276120"/>
          </a:xfrm>
          <a:prstGeom prst="line">
            <a:avLst/>
          </a:prstGeom>
          <a:ln w="9360">
            <a:solidFill>
              <a:srgbClr val="009a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8510760" y="4189320"/>
            <a:ext cx="68040" cy="309600"/>
          </a:xfrm>
          <a:prstGeom prst="line">
            <a:avLst/>
          </a:prstGeom>
          <a:ln w="9360">
            <a:solidFill>
              <a:srgbClr val="0086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 flipH="1">
            <a:off x="8575200" y="4498920"/>
            <a:ext cx="3240" cy="324000"/>
          </a:xfrm>
          <a:prstGeom prst="line">
            <a:avLst/>
          </a:prstGeom>
          <a:ln w="9360">
            <a:solidFill>
              <a:srgbClr val="0071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 flipH="1">
            <a:off x="8499240" y="4822920"/>
            <a:ext cx="75960" cy="320760"/>
          </a:xfrm>
          <a:prstGeom prst="line">
            <a:avLst/>
          </a:prstGeom>
          <a:ln w="9360">
            <a:solidFill>
              <a:srgbClr val="005b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 flipH="1">
            <a:off x="8353440" y="5143680"/>
            <a:ext cx="146160" cy="296640"/>
          </a:xfrm>
          <a:prstGeom prst="line">
            <a:avLst/>
          </a:prstGeom>
          <a:ln w="9360">
            <a:solidFill>
              <a:srgbClr val="0046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8145360" y="5440320"/>
            <a:ext cx="208080" cy="255600"/>
          </a:xfrm>
          <a:prstGeom prst="line">
            <a:avLst/>
          </a:prstGeom>
          <a:ln w="9360">
            <a:solidFill>
              <a:srgbClr val="0034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 flipH="1">
            <a:off x="7889760" y="5695920"/>
            <a:ext cx="255600" cy="201600"/>
          </a:xfrm>
          <a:prstGeom prst="line">
            <a:avLst/>
          </a:prstGeom>
          <a:ln w="9360">
            <a:solidFill>
              <a:srgbClr val="0024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 flipH="1">
            <a:off x="7601040" y="5897520"/>
            <a:ext cx="288720" cy="136440"/>
          </a:xfrm>
          <a:prstGeom prst="line">
            <a:avLst/>
          </a:prstGeom>
          <a:ln w="9360">
            <a:solidFill>
              <a:srgbClr val="0019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 flipH="1">
            <a:off x="7299360" y="6033960"/>
            <a:ext cx="301680" cy="65160"/>
          </a:xfrm>
          <a:prstGeom prst="line">
            <a:avLst/>
          </a:prstGeom>
          <a:ln w="9360">
            <a:solidFill>
              <a:srgbClr val="0012e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 flipH="1" flipV="1">
            <a:off x="7002000" y="6094080"/>
            <a:ext cx="297000" cy="4680"/>
          </a:xfrm>
          <a:prstGeom prst="line">
            <a:avLst/>
          </a:prstGeom>
          <a:ln w="9360">
            <a:solidFill>
              <a:srgbClr val="0010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 flipH="1" flipV="1">
            <a:off x="6730920" y="6026040"/>
            <a:ext cx="271440" cy="68400"/>
          </a:xfrm>
          <a:prstGeom prst="line">
            <a:avLst/>
          </a:prstGeom>
          <a:ln w="9360">
            <a:solidFill>
              <a:srgbClr val="0013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 flipH="1" flipV="1">
            <a:off x="6496200" y="5905080"/>
            <a:ext cx="234720" cy="120600"/>
          </a:xfrm>
          <a:prstGeom prst="line">
            <a:avLst/>
          </a:prstGeom>
          <a:ln w="9360">
            <a:solidFill>
              <a:srgbClr val="0019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 flipH="1" flipV="1">
            <a:off x="6313320" y="5743440"/>
            <a:ext cx="182880" cy="162000"/>
          </a:xfrm>
          <a:prstGeom prst="line">
            <a:avLst/>
          </a:prstGeom>
          <a:ln w="9360">
            <a:solidFill>
              <a:srgbClr val="00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 flipH="1" flipV="1">
            <a:off x="6186600" y="5560560"/>
            <a:ext cx="126720" cy="182520"/>
          </a:xfrm>
          <a:prstGeom prst="line">
            <a:avLst/>
          </a:prstGeom>
          <a:ln w="9360">
            <a:solidFill>
              <a:srgbClr val="002e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 flipH="1" flipV="1">
            <a:off x="6118200" y="5373720"/>
            <a:ext cx="68400" cy="187200"/>
          </a:xfrm>
          <a:prstGeom prst="line">
            <a:avLst/>
          </a:prstGeom>
          <a:ln w="9360">
            <a:solidFill>
              <a:srgbClr val="003b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103800" y="5200200"/>
            <a:ext cx="14400" cy="173160"/>
          </a:xfrm>
          <a:prstGeom prst="line">
            <a:avLst/>
          </a:prstGeom>
          <a:ln w="9360">
            <a:solidFill>
              <a:srgbClr val="0047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 flipV="1">
            <a:off x="6103800" y="5052960"/>
            <a:ext cx="32040" cy="147600"/>
          </a:xfrm>
          <a:prstGeom prst="line">
            <a:avLst/>
          </a:prstGeom>
          <a:ln w="9360">
            <a:solidFill>
              <a:srgbClr val="0052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 flipV="1">
            <a:off x="6135840" y="4946400"/>
            <a:ext cx="64800" cy="106200"/>
          </a:xfrm>
          <a:prstGeom prst="line">
            <a:avLst/>
          </a:prstGeom>
          <a:ln w="9360">
            <a:solidFill>
              <a:srgbClr val="005a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 flipV="1">
            <a:off x="6200640" y="4884840"/>
            <a:ext cx="82800" cy="61920"/>
          </a:xfrm>
          <a:prstGeom prst="line">
            <a:avLst/>
          </a:prstGeom>
          <a:ln w="9360">
            <a:solidFill>
              <a:srgbClr val="0060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 flipV="1">
            <a:off x="6283440" y="4871880"/>
            <a:ext cx="83880" cy="12960"/>
          </a:xfrm>
          <a:prstGeom prst="line">
            <a:avLst/>
          </a:prstGeom>
          <a:ln w="9360">
            <a:solidFill>
              <a:srgbClr val="0062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6367320" y="4871880"/>
            <a:ext cx="68400" cy="32040"/>
          </a:xfrm>
          <a:prstGeom prst="line">
            <a:avLst/>
          </a:prstGeom>
          <a:ln w="9360">
            <a:solidFill>
              <a:srgbClr val="0062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6435720" y="4903920"/>
            <a:ext cx="38160" cy="68040"/>
          </a:xfrm>
          <a:prstGeom prst="line">
            <a:avLst/>
          </a:prstGeom>
          <a:ln w="9360">
            <a:solidFill>
              <a:srgbClr val="005e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6470280" y="4971960"/>
            <a:ext cx="3240" cy="92160"/>
          </a:xfrm>
          <a:prstGeom prst="line">
            <a:avLst/>
          </a:prstGeom>
          <a:ln w="9360">
            <a:solidFill>
              <a:srgbClr val="0059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6419520" y="5064120"/>
            <a:ext cx="50760" cy="100080"/>
          </a:xfrm>
          <a:prstGeom prst="line">
            <a:avLst/>
          </a:prstGeom>
          <a:ln w="9360">
            <a:solidFill>
              <a:srgbClr val="0052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 flipH="1">
            <a:off x="6319800" y="5164200"/>
            <a:ext cx="100080" cy="93600"/>
          </a:xfrm>
          <a:prstGeom prst="line">
            <a:avLst/>
          </a:prstGeom>
          <a:ln w="9360">
            <a:solidFill>
              <a:srgbClr val="004c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 flipH="1">
            <a:off x="6173640" y="5257800"/>
            <a:ext cx="146160" cy="68400"/>
          </a:xfrm>
          <a:prstGeom prst="line">
            <a:avLst/>
          </a:prstGeom>
          <a:ln w="9360">
            <a:solidFill>
              <a:srgbClr val="0046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 flipH="1">
            <a:off x="5990760" y="5326200"/>
            <a:ext cx="182520" cy="28440"/>
          </a:xfrm>
          <a:prstGeom prst="line">
            <a:avLst/>
          </a:prstGeom>
          <a:ln w="9360">
            <a:solidFill>
              <a:srgbClr val="0043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 flipH="1" flipV="1">
            <a:off x="5781600" y="5332320"/>
            <a:ext cx="209520" cy="22320"/>
          </a:xfrm>
          <a:prstGeom prst="line">
            <a:avLst/>
          </a:prstGeom>
          <a:ln w="9360">
            <a:solidFill>
              <a:srgbClr val="0043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 flipH="1" flipV="1">
            <a:off x="5564160" y="5250960"/>
            <a:ext cx="217440" cy="81000"/>
          </a:xfrm>
          <a:prstGeom prst="line">
            <a:avLst/>
          </a:prstGeom>
          <a:ln w="9360">
            <a:solidFill>
              <a:srgbClr val="0046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 flipH="1" flipV="1">
            <a:off x="5354640" y="5108040"/>
            <a:ext cx="209520" cy="142920"/>
          </a:xfrm>
          <a:prstGeom prst="line">
            <a:avLst/>
          </a:prstGeom>
          <a:ln w="9360">
            <a:solidFill>
              <a:srgbClr val="004eb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 flipH="1" flipV="1">
            <a:off x="5173200" y="4906800"/>
            <a:ext cx="181080" cy="201600"/>
          </a:xfrm>
          <a:prstGeom prst="line">
            <a:avLst/>
          </a:prstGeom>
          <a:ln w="9360">
            <a:solidFill>
              <a:srgbClr val="005a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 flipH="1" flipV="1">
            <a:off x="5033880" y="4652640"/>
            <a:ext cx="139680" cy="253800"/>
          </a:xfrm>
          <a:prstGeom prst="line">
            <a:avLst/>
          </a:prstGeom>
          <a:ln w="9360">
            <a:solidFill>
              <a:srgbClr val="0069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 flipH="1" flipV="1">
            <a:off x="4952520" y="4362120"/>
            <a:ext cx="81000" cy="290520"/>
          </a:xfrm>
          <a:prstGeom prst="line">
            <a:avLst/>
          </a:prstGeom>
          <a:ln w="9360">
            <a:solidFill>
              <a:srgbClr val="007b8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 flipH="1" flipV="1">
            <a:off x="4938480" y="4047840"/>
            <a:ext cx="14040" cy="314280"/>
          </a:xfrm>
          <a:prstGeom prst="line">
            <a:avLst/>
          </a:prstGeom>
          <a:ln w="9360">
            <a:solidFill>
              <a:srgbClr val="0090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 flipV="1">
            <a:off x="4938840" y="3730680"/>
            <a:ext cx="58680" cy="317520"/>
          </a:xfrm>
          <a:prstGeom prst="line">
            <a:avLst/>
          </a:prstGeom>
          <a:ln w="9360">
            <a:solidFill>
              <a:srgbClr val="00a5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 flipV="1">
            <a:off x="4997520" y="3430440"/>
            <a:ext cx="129960" cy="300240"/>
          </a:xfrm>
          <a:prstGeom prst="line">
            <a:avLst/>
          </a:prstGeom>
          <a:ln w="9360">
            <a:solidFill>
              <a:srgbClr val="00ba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 flipV="1">
            <a:off x="5127480" y="3161880"/>
            <a:ext cx="195480" cy="268200"/>
          </a:xfrm>
          <a:prstGeom prst="line">
            <a:avLst/>
          </a:prstGeom>
          <a:ln w="9360">
            <a:solidFill>
              <a:srgbClr val="00cd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 flipV="1">
            <a:off x="5322960" y="2946240"/>
            <a:ext cx="249120" cy="216000"/>
          </a:xfrm>
          <a:prstGeom prst="line">
            <a:avLst/>
          </a:prstGeom>
          <a:ln w="9360">
            <a:solidFill>
              <a:srgbClr val="00dd2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 flipV="1">
            <a:off x="5572080" y="2790720"/>
            <a:ext cx="287280" cy="155520"/>
          </a:xfrm>
          <a:prstGeom prst="line">
            <a:avLst/>
          </a:prstGeom>
          <a:ln w="9360">
            <a:solidFill>
              <a:srgbClr val="00ea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 flipV="1">
            <a:off x="5859360" y="2706480"/>
            <a:ext cx="309600" cy="83880"/>
          </a:xfrm>
          <a:prstGeom prst="line">
            <a:avLst/>
          </a:prstGeom>
          <a:ln w="9360">
            <a:solidFill>
              <a:srgbClr val="00f2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 flipV="1">
            <a:off x="6168960" y="2692440"/>
            <a:ext cx="312840" cy="14400"/>
          </a:xfrm>
          <a:prstGeom prst="line">
            <a:avLst/>
          </a:prstGeom>
          <a:ln w="9360">
            <a:solidFill>
              <a:srgbClr val="00f5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6481800" y="2692440"/>
            <a:ext cx="295200" cy="55440"/>
          </a:xfrm>
          <a:prstGeom prst="line">
            <a:avLst/>
          </a:prstGeom>
          <a:ln w="9360">
            <a:solidFill>
              <a:srgbClr val="00f4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6777000" y="2747880"/>
            <a:ext cx="262080" cy="115920"/>
          </a:xfrm>
          <a:prstGeom prst="line">
            <a:avLst/>
          </a:prstGeom>
          <a:ln w="9360">
            <a:solidFill>
              <a:srgbClr val="00ee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7039080" y="2863800"/>
            <a:ext cx="214200" cy="162000"/>
          </a:xfrm>
          <a:prstGeom prst="line">
            <a:avLst/>
          </a:prstGeom>
          <a:ln w="9360">
            <a:solidFill>
              <a:srgbClr val="00e5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7253280" y="3025800"/>
            <a:ext cx="158760" cy="195120"/>
          </a:xfrm>
          <a:prstGeom prst="line">
            <a:avLst/>
          </a:prstGeom>
          <a:ln w="9360">
            <a:solidFill>
              <a:srgbClr val="00d9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7412040" y="3220920"/>
            <a:ext cx="96840" cy="206640"/>
          </a:xfrm>
          <a:prstGeom prst="line">
            <a:avLst/>
          </a:prstGeom>
          <a:ln w="9360">
            <a:solidFill>
              <a:srgbClr val="00cb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7508880" y="3427560"/>
            <a:ext cx="38160" cy="203040"/>
          </a:xfrm>
          <a:prstGeom prst="line">
            <a:avLst/>
          </a:prstGeom>
          <a:ln w="9360">
            <a:solidFill>
              <a:srgbClr val="00bd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 flipH="1">
            <a:off x="7534080" y="3630600"/>
            <a:ext cx="12600" cy="181080"/>
          </a:xfrm>
          <a:prstGeom prst="line">
            <a:avLst/>
          </a:prstGeom>
          <a:ln w="9360">
            <a:solidFill>
              <a:srgbClr val="00b0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 flipH="1">
            <a:off x="7476840" y="3811680"/>
            <a:ext cx="57240" cy="147600"/>
          </a:xfrm>
          <a:prstGeom prst="line">
            <a:avLst/>
          </a:prstGeom>
          <a:ln w="9360">
            <a:solidFill>
              <a:srgbClr val="00a5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 flipH="1">
            <a:off x="7394400" y="3959280"/>
            <a:ext cx="82800" cy="102960"/>
          </a:xfrm>
          <a:prstGeom prst="line">
            <a:avLst/>
          </a:prstGeom>
          <a:ln w="9360">
            <a:solidFill>
              <a:srgbClr val="009d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 flipH="1">
            <a:off x="7299360" y="4062240"/>
            <a:ext cx="95040" cy="55800"/>
          </a:xfrm>
          <a:prstGeom prst="line">
            <a:avLst/>
          </a:prstGeom>
          <a:ln w="9360">
            <a:solidFill>
              <a:srgbClr val="0097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 flipH="1">
            <a:off x="7210080" y="4118040"/>
            <a:ext cx="88920" cy="6120"/>
          </a:xfrm>
          <a:prstGeom prst="line">
            <a:avLst/>
          </a:prstGeom>
          <a:ln w="9360">
            <a:solidFill>
              <a:srgbClr val="0095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 flipH="1" flipV="1">
            <a:off x="7142040" y="4087440"/>
            <a:ext cx="68400" cy="36360"/>
          </a:xfrm>
          <a:prstGeom prst="line">
            <a:avLst/>
          </a:prstGeom>
          <a:ln w="9360">
            <a:solidFill>
              <a:srgbClr val="0096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 flipH="1" flipV="1">
            <a:off x="7108920" y="4020840"/>
            <a:ext cx="33120" cy="66600"/>
          </a:xfrm>
          <a:prstGeom prst="line">
            <a:avLst/>
          </a:prstGeom>
          <a:ln w="9360">
            <a:solidFill>
              <a:srgbClr val="009a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 flipV="1">
            <a:off x="7108920" y="3933360"/>
            <a:ext cx="9360" cy="87480"/>
          </a:xfrm>
          <a:prstGeom prst="line">
            <a:avLst/>
          </a:prstGeom>
          <a:ln w="9360">
            <a:solidFill>
              <a:srgbClr val="009f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 flipV="1">
            <a:off x="7118280" y="3844440"/>
            <a:ext cx="58680" cy="88920"/>
          </a:xfrm>
          <a:prstGeom prst="line">
            <a:avLst/>
          </a:prstGeom>
          <a:ln w="9360">
            <a:solidFill>
              <a:srgbClr val="00a5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 flipV="1">
            <a:off x="7176960" y="3772080"/>
            <a:ext cx="106560" cy="72720"/>
          </a:xfrm>
          <a:prstGeom prst="line">
            <a:avLst/>
          </a:prstGeom>
          <a:ln w="9360">
            <a:solidFill>
              <a:srgbClr val="00aa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 flipV="1">
            <a:off x="7283520" y="3727440"/>
            <a:ext cx="146160" cy="44640"/>
          </a:xfrm>
          <a:prstGeom prst="line">
            <a:avLst/>
          </a:prstGeom>
          <a:ln w="9360">
            <a:solidFill>
              <a:srgbClr val="00ae5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7429680" y="3727440"/>
            <a:ext cx="179280" cy="0"/>
          </a:xfrm>
          <a:prstGeom prst="line">
            <a:avLst/>
          </a:prstGeom>
          <a:ln w="9360">
            <a:solidFill>
              <a:srgbClr val="00b0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7608960" y="3727440"/>
            <a:ext cx="195120" cy="54000"/>
          </a:xfrm>
          <a:prstGeom prst="line">
            <a:avLst/>
          </a:prstGeom>
          <a:ln w="9360">
            <a:solidFill>
              <a:srgbClr val="00ae5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7804080" y="3781440"/>
            <a:ext cx="195480" cy="112680"/>
          </a:xfrm>
          <a:prstGeom prst="line">
            <a:avLst/>
          </a:prstGeom>
          <a:ln w="9360">
            <a:solidFill>
              <a:srgbClr val="00a8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7999560" y="3894120"/>
            <a:ext cx="177480" cy="171360"/>
          </a:xfrm>
          <a:prstGeom prst="line">
            <a:avLst/>
          </a:prstGeom>
          <a:ln w="9360">
            <a:solidFill>
              <a:srgbClr val="009f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8177040" y="4065480"/>
            <a:ext cx="142920" cy="225360"/>
          </a:xfrm>
          <a:prstGeom prst="line">
            <a:avLst/>
          </a:prstGeom>
          <a:ln w="9360">
            <a:solidFill>
              <a:srgbClr val="0091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8319960" y="4290840"/>
            <a:ext cx="92160" cy="268560"/>
          </a:xfrm>
          <a:prstGeom prst="line">
            <a:avLst/>
          </a:prstGeom>
          <a:ln w="9360">
            <a:solidFill>
              <a:srgbClr val="0081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8412120" y="4559400"/>
            <a:ext cx="30240" cy="296640"/>
          </a:xfrm>
          <a:prstGeom prst="line">
            <a:avLst/>
          </a:prstGeom>
          <a:ln w="9360">
            <a:solidFill>
              <a:srgbClr val="006e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 flipH="1">
            <a:off x="8402760" y="4856040"/>
            <a:ext cx="39600" cy="308160"/>
          </a:xfrm>
          <a:prstGeom prst="line">
            <a:avLst/>
          </a:prstGeom>
          <a:ln w="9360">
            <a:solidFill>
              <a:srgbClr val="0059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 flipH="1">
            <a:off x="8291160" y="5164200"/>
            <a:ext cx="111240" cy="301680"/>
          </a:xfrm>
          <a:prstGeom prst="line">
            <a:avLst/>
          </a:prstGeom>
          <a:ln w="9360">
            <a:solidFill>
              <a:srgbClr val="0045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 flipH="1">
            <a:off x="8112240" y="5465880"/>
            <a:ext cx="179280" cy="272880"/>
          </a:xfrm>
          <a:prstGeom prst="line">
            <a:avLst/>
          </a:prstGeom>
          <a:ln w="9360">
            <a:solidFill>
              <a:srgbClr val="0032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 flipH="1">
            <a:off x="7875360" y="5738760"/>
            <a:ext cx="236520" cy="228600"/>
          </a:xfrm>
          <a:prstGeom prst="line">
            <a:avLst/>
          </a:prstGeom>
          <a:ln w="9360">
            <a:solidFill>
              <a:srgbClr val="0021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 flipH="1">
            <a:off x="7591320" y="5967360"/>
            <a:ext cx="284400" cy="171360"/>
          </a:xfrm>
          <a:prstGeom prst="line">
            <a:avLst/>
          </a:prstGeom>
          <a:ln w="9360">
            <a:solidFill>
              <a:srgbClr val="0013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 flipH="1">
            <a:off x="7280280" y="6138720"/>
            <a:ext cx="311040" cy="103320"/>
          </a:xfrm>
          <a:prstGeom prst="line">
            <a:avLst/>
          </a:prstGeom>
          <a:ln w="9360">
            <a:solidFill>
              <a:srgbClr val="000a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 flipH="1">
            <a:off x="6957720" y="6242040"/>
            <a:ext cx="322200" cy="30240"/>
          </a:xfrm>
          <a:prstGeom prst="line">
            <a:avLst/>
          </a:prstGeom>
          <a:ln w="9360">
            <a:solidFill>
              <a:srgbClr val="0005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 flipH="1" flipV="1">
            <a:off x="6644880" y="6232680"/>
            <a:ext cx="312840" cy="39600"/>
          </a:xfrm>
          <a:prstGeom prst="line">
            <a:avLst/>
          </a:prstGeom>
          <a:ln w="9360">
            <a:solidFill>
              <a:srgbClr val="0006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 flipH="1" flipV="1">
            <a:off x="6359400" y="6126120"/>
            <a:ext cx="285840" cy="106560"/>
          </a:xfrm>
          <a:prstGeom prst="line">
            <a:avLst/>
          </a:prstGeom>
          <a:ln w="9360">
            <a:solidFill>
              <a:srgbClr val="000bf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 flipH="1" flipV="1">
            <a:off x="6118200" y="5964120"/>
            <a:ext cx="241200" cy="162000"/>
          </a:xfrm>
          <a:prstGeom prst="line">
            <a:avLst/>
          </a:prstGeom>
          <a:ln w="9360">
            <a:solidFill>
              <a:srgbClr val="0014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 flipH="1" flipV="1">
            <a:off x="5931000" y="5763960"/>
            <a:ext cx="187200" cy="199800"/>
          </a:xfrm>
          <a:prstGeom prst="line">
            <a:avLst/>
          </a:prstGeom>
          <a:ln w="9360">
            <a:solidFill>
              <a:srgbClr val="0020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 flipH="1" flipV="1">
            <a:off x="5803560" y="5541840"/>
            <a:ext cx="127080" cy="222480"/>
          </a:xfrm>
          <a:prstGeom prst="line">
            <a:avLst/>
          </a:prstGeom>
          <a:ln w="9360">
            <a:solidFill>
              <a:srgbClr val="002e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 flipH="1" flipV="1">
            <a:off x="5738400" y="5315040"/>
            <a:ext cx="65160" cy="226800"/>
          </a:xfrm>
          <a:prstGeom prst="line">
            <a:avLst/>
          </a:prstGeom>
          <a:ln w="9360">
            <a:solidFill>
              <a:srgbClr val="003d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 flipH="1" flipV="1">
            <a:off x="5733720" y="5100480"/>
            <a:ext cx="4680" cy="214560"/>
          </a:xfrm>
          <a:prstGeom prst="line">
            <a:avLst/>
          </a:prstGeom>
          <a:ln w="9360">
            <a:solidFill>
              <a:srgbClr val="004c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 flipV="1">
            <a:off x="5734080" y="4916160"/>
            <a:ext cx="44280" cy="183960"/>
          </a:xfrm>
          <a:prstGeom prst="line">
            <a:avLst/>
          </a:prstGeom>
          <a:ln w="9360">
            <a:solidFill>
              <a:srgbClr val="005a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 flipV="1">
            <a:off x="5778360" y="4771800"/>
            <a:ext cx="81000" cy="144360"/>
          </a:xfrm>
          <a:prstGeom prst="line">
            <a:avLst/>
          </a:prstGeom>
          <a:ln w="9360">
            <a:solidFill>
              <a:srgbClr val="006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 flipV="1">
            <a:off x="5859360" y="4676400"/>
            <a:ext cx="103320" cy="95400"/>
          </a:xfrm>
          <a:prstGeom prst="line">
            <a:avLst/>
          </a:prstGeom>
          <a:ln w="9360">
            <a:solidFill>
              <a:srgbClr val="006d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 flipV="1">
            <a:off x="5962680" y="4630680"/>
            <a:ext cx="106200" cy="46080"/>
          </a:xfrm>
          <a:prstGeom prst="line">
            <a:avLst/>
          </a:prstGeom>
          <a:ln w="9360">
            <a:solidFill>
              <a:srgbClr val="0071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6068880" y="4630680"/>
            <a:ext cx="95400" cy="1800"/>
          </a:xfrm>
          <a:prstGeom prst="line">
            <a:avLst/>
          </a:prstGeom>
          <a:ln w="9360">
            <a:solidFill>
              <a:srgbClr val="0073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6164280" y="4632480"/>
            <a:ext cx="68400" cy="41040"/>
          </a:xfrm>
          <a:prstGeom prst="line">
            <a:avLst/>
          </a:prstGeom>
          <a:ln w="9360">
            <a:solidFill>
              <a:srgbClr val="0071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6232680" y="4673520"/>
            <a:ext cx="29880" cy="68400"/>
          </a:xfrm>
          <a:prstGeom prst="line">
            <a:avLst/>
          </a:prstGeom>
          <a:ln w="9360">
            <a:solidFill>
              <a:srgbClr val="006e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 flipH="1">
            <a:off x="6246720" y="4741920"/>
            <a:ext cx="15840" cy="81000"/>
          </a:xfrm>
          <a:prstGeom prst="line">
            <a:avLst/>
          </a:prstGeom>
          <a:ln w="9360">
            <a:solidFill>
              <a:srgbClr val="0069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 flipH="1">
            <a:off x="6183360" y="4822920"/>
            <a:ext cx="63360" cy="77760"/>
          </a:xfrm>
          <a:prstGeom prst="line">
            <a:avLst/>
          </a:prstGeom>
          <a:ln w="9360">
            <a:solidFill>
              <a:srgbClr val="0063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 flipH="1">
            <a:off x="6075360" y="4900680"/>
            <a:ext cx="108000" cy="55440"/>
          </a:xfrm>
          <a:prstGeom prst="line">
            <a:avLst/>
          </a:prstGeom>
          <a:ln w="9360">
            <a:solidFill>
              <a:srgbClr val="005f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 flipH="1">
            <a:off x="5930640" y="4956120"/>
            <a:ext cx="144360" cy="20520"/>
          </a:xfrm>
          <a:prstGeom prst="line">
            <a:avLst/>
          </a:prstGeom>
          <a:ln w="9360">
            <a:solidFill>
              <a:srgbClr val="005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 flipH="1" flipV="1">
            <a:off x="5761080" y="4950000"/>
            <a:ext cx="169920" cy="26640"/>
          </a:xfrm>
          <a:prstGeom prst="line">
            <a:avLst/>
          </a:prstGeom>
          <a:ln w="9360">
            <a:solidFill>
              <a:srgbClr val="005d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 flipH="1" flipV="1">
            <a:off x="5583240" y="4868640"/>
            <a:ext cx="177840" cy="81000"/>
          </a:xfrm>
          <a:prstGeom prst="line">
            <a:avLst/>
          </a:prstGeom>
          <a:ln w="9360">
            <a:solidFill>
              <a:srgbClr val="0060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 flipH="1" flipV="1">
            <a:off x="5414760" y="4729320"/>
            <a:ext cx="168120" cy="139680"/>
          </a:xfrm>
          <a:prstGeom prst="line">
            <a:avLst/>
          </a:prstGeom>
          <a:ln w="9360">
            <a:solidFill>
              <a:srgbClr val="0068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 flipH="1" flipV="1">
            <a:off x="5271840" y="4535640"/>
            <a:ext cx="142920" cy="193680"/>
          </a:xfrm>
          <a:prstGeom prst="line">
            <a:avLst/>
          </a:prstGeom>
          <a:ln w="9360">
            <a:solidFill>
              <a:srgbClr val="0073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 flipH="1" flipV="1">
            <a:off x="5172120" y="4295880"/>
            <a:ext cx="100080" cy="239760"/>
          </a:xfrm>
          <a:prstGeom prst="line">
            <a:avLst/>
          </a:prstGeom>
          <a:ln w="9360">
            <a:solidFill>
              <a:srgbClr val="0081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 flipH="1" flipV="1">
            <a:off x="5127480" y="4019400"/>
            <a:ext cx="44640" cy="276480"/>
          </a:xfrm>
          <a:prstGeom prst="line">
            <a:avLst/>
          </a:prstGeom>
          <a:ln w="9360">
            <a:solidFill>
              <a:srgbClr val="0093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 flipV="1">
            <a:off x="5127480" y="3727080"/>
            <a:ext cx="20880" cy="291960"/>
          </a:xfrm>
          <a:prstGeom prst="line">
            <a:avLst/>
          </a:prstGeom>
          <a:ln w="9360">
            <a:solidFill>
              <a:srgbClr val="00a6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 flipV="1">
            <a:off x="5148360" y="3433680"/>
            <a:ext cx="90360" cy="293760"/>
          </a:xfrm>
          <a:prstGeom prst="line">
            <a:avLst/>
          </a:prstGeom>
          <a:ln w="9360">
            <a:solidFill>
              <a:srgbClr val="00ba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 flipV="1">
            <a:off x="5238720" y="3158640"/>
            <a:ext cx="158760" cy="274680"/>
          </a:xfrm>
          <a:prstGeom prst="line">
            <a:avLst/>
          </a:prstGeom>
          <a:ln w="9360">
            <a:solidFill>
              <a:srgbClr val="00cd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 flipV="1">
            <a:off x="5397480" y="2920680"/>
            <a:ext cx="222120" cy="237960"/>
          </a:xfrm>
          <a:prstGeom prst="line">
            <a:avLst/>
          </a:prstGeom>
          <a:ln w="9360">
            <a:solidFill>
              <a:srgbClr val="00de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 flipV="1">
            <a:off x="5619600" y="2736720"/>
            <a:ext cx="273240" cy="184320"/>
          </a:xfrm>
          <a:prstGeom prst="line">
            <a:avLst/>
          </a:prstGeom>
          <a:ln w="9360">
            <a:solidFill>
              <a:srgbClr val="00ec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 flipV="1">
            <a:off x="5892840" y="2615760"/>
            <a:ext cx="307800" cy="120600"/>
          </a:xfrm>
          <a:prstGeom prst="line">
            <a:avLst/>
          </a:prstGeom>
          <a:ln w="9360">
            <a:solidFill>
              <a:srgbClr val="00f7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 flipV="1">
            <a:off x="6200640" y="2568600"/>
            <a:ext cx="327240" cy="47520"/>
          </a:xfrm>
          <a:prstGeom prst="line">
            <a:avLst/>
          </a:prstGeom>
          <a:ln w="9360">
            <a:solidFill>
              <a:srgbClr val="00fc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6527880" y="2568600"/>
            <a:ext cx="323640" cy="25200"/>
          </a:xfrm>
          <a:prstGeom prst="line">
            <a:avLst/>
          </a:prstGeom>
          <a:ln w="9360">
            <a:solidFill>
              <a:srgbClr val="00fd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6851520" y="2593800"/>
            <a:ext cx="303480" cy="95400"/>
          </a:xfrm>
          <a:prstGeom prst="line">
            <a:avLst/>
          </a:prstGeom>
          <a:ln w="9360">
            <a:solidFill>
              <a:srgbClr val="00f9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7155000" y="2689200"/>
            <a:ext cx="266400" cy="154080"/>
          </a:xfrm>
          <a:prstGeom prst="line">
            <a:avLst/>
          </a:prstGeom>
          <a:ln w="9360">
            <a:solidFill>
              <a:srgbClr val="00f1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7421400" y="2843280"/>
            <a:ext cx="214560" cy="203040"/>
          </a:xfrm>
          <a:prstGeom prst="line">
            <a:avLst/>
          </a:prstGeom>
          <a:ln w="9360">
            <a:solidFill>
              <a:srgbClr val="00e5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7635960" y="3046320"/>
            <a:ext cx="154080" cy="233280"/>
          </a:xfrm>
          <a:prstGeom prst="line">
            <a:avLst/>
          </a:prstGeom>
          <a:ln w="9360">
            <a:solidFill>
              <a:srgbClr val="00d6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7790040" y="3279600"/>
            <a:ext cx="88560" cy="247680"/>
          </a:xfrm>
          <a:prstGeom prst="line">
            <a:avLst/>
          </a:prstGeom>
          <a:ln w="9360">
            <a:solidFill>
              <a:srgbClr val="00c6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7878600" y="3527280"/>
            <a:ext cx="27000" cy="239760"/>
          </a:xfrm>
          <a:prstGeom prst="line">
            <a:avLst/>
          </a:prstGeom>
          <a:ln w="9360">
            <a:solidFill>
              <a:srgbClr val="00b5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 flipH="1">
            <a:off x="7875360" y="3767040"/>
            <a:ext cx="29880" cy="219240"/>
          </a:xfrm>
          <a:prstGeom prst="line">
            <a:avLst/>
          </a:prstGeom>
          <a:ln w="9360">
            <a:solidFill>
              <a:srgbClr val="00a6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 flipH="1">
            <a:off x="7799400" y="3986280"/>
            <a:ext cx="76320" cy="182520"/>
          </a:xfrm>
          <a:prstGeom prst="line">
            <a:avLst/>
          </a:prstGeom>
          <a:ln w="9360">
            <a:solidFill>
              <a:srgbClr val="0098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 flipH="1">
            <a:off x="7691400" y="4168800"/>
            <a:ext cx="108000" cy="135000"/>
          </a:xfrm>
          <a:prstGeom prst="line">
            <a:avLst/>
          </a:prstGeom>
          <a:ln w="9360">
            <a:solidFill>
              <a:srgbClr val="008e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 flipH="1">
            <a:off x="7570440" y="4303800"/>
            <a:ext cx="120600" cy="83880"/>
          </a:xfrm>
          <a:prstGeom prst="line">
            <a:avLst/>
          </a:prstGeom>
          <a:ln w="9360">
            <a:solidFill>
              <a:srgbClr val="0086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 flipH="1">
            <a:off x="7451280" y="4387680"/>
            <a:ext cx="119160" cy="33480"/>
          </a:xfrm>
          <a:prstGeom prst="line">
            <a:avLst/>
          </a:prstGeom>
          <a:ln w="9360">
            <a:solidFill>
              <a:srgbClr val="0082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 flipH="1" flipV="1">
            <a:off x="7351560" y="4409640"/>
            <a:ext cx="100080" cy="11160"/>
          </a:xfrm>
          <a:prstGeom prst="line">
            <a:avLst/>
          </a:prstGeom>
          <a:ln w="9360">
            <a:solidFill>
              <a:srgbClr val="0081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 flipH="1" flipV="1">
            <a:off x="7283160" y="4362480"/>
            <a:ext cx="68040" cy="47520"/>
          </a:xfrm>
          <a:prstGeom prst="line">
            <a:avLst/>
          </a:prstGeom>
          <a:ln w="9360">
            <a:solidFill>
              <a:srgbClr val="0083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 flipH="1" flipV="1">
            <a:off x="7256160" y="4290480"/>
            <a:ext cx="27000" cy="71640"/>
          </a:xfrm>
          <a:prstGeom prst="line">
            <a:avLst/>
          </a:prstGeom>
          <a:ln w="9360">
            <a:solidFill>
              <a:srgbClr val="0087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 flipV="1">
            <a:off x="7256520" y="4214520"/>
            <a:ext cx="19080" cy="75960"/>
          </a:xfrm>
          <a:prstGeom prst="line">
            <a:avLst/>
          </a:prstGeom>
          <a:ln w="9360">
            <a:solidFill>
              <a:srgbClr val="008c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 flipV="1">
            <a:off x="7275600" y="4149360"/>
            <a:ext cx="66600" cy="65160"/>
          </a:xfrm>
          <a:prstGeom prst="line">
            <a:avLst/>
          </a:prstGeom>
          <a:ln w="9360">
            <a:solidFill>
              <a:srgbClr val="0091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 flipV="1">
            <a:off x="7342200" y="4110120"/>
            <a:ext cx="108000" cy="39600"/>
          </a:xfrm>
          <a:prstGeom prst="line">
            <a:avLst/>
          </a:prstGeom>
          <a:ln w="9360">
            <a:solidFill>
              <a:srgbClr val="0095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7450200" y="4110120"/>
            <a:ext cx="137880" cy="0"/>
          </a:xfrm>
          <a:prstGeom prst="line">
            <a:avLst/>
          </a:prstGeom>
          <a:ln w="9360">
            <a:solidFill>
              <a:srgbClr val="0096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7588080" y="4110120"/>
            <a:ext cx="155880" cy="50760"/>
          </a:xfrm>
          <a:prstGeom prst="line">
            <a:avLst/>
          </a:prstGeom>
          <a:ln w="9360">
            <a:solidFill>
              <a:srgbClr val="0094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7743960" y="4160880"/>
            <a:ext cx="156960" cy="103320"/>
          </a:xfrm>
          <a:prstGeom prst="line">
            <a:avLst/>
          </a:prstGeom>
          <a:ln w="9360">
            <a:solidFill>
              <a:srgbClr val="008f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7900920" y="4264200"/>
            <a:ext cx="139680" cy="160200"/>
          </a:xfrm>
          <a:prstGeom prst="line">
            <a:avLst/>
          </a:prstGeom>
          <a:ln w="9360">
            <a:solidFill>
              <a:srgbClr val="0086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8040600" y="4424400"/>
            <a:ext cx="104760" cy="208080"/>
          </a:xfrm>
          <a:prstGeom prst="line">
            <a:avLst/>
          </a:prstGeom>
          <a:ln w="9360">
            <a:solidFill>
              <a:srgbClr val="007a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8145360" y="4632480"/>
            <a:ext cx="57240" cy="249120"/>
          </a:xfrm>
          <a:prstGeom prst="line">
            <a:avLst/>
          </a:prstGeom>
          <a:ln w="9360">
            <a:solidFill>
              <a:srgbClr val="006a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 flipH="1">
            <a:off x="8201160" y="4881600"/>
            <a:ext cx="1440" cy="272880"/>
          </a:xfrm>
          <a:prstGeom prst="line">
            <a:avLst/>
          </a:prstGeom>
          <a:ln w="9360">
            <a:solidFill>
              <a:srgbClr val="0059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 flipH="1">
            <a:off x="8131320" y="5154480"/>
            <a:ext cx="69840" cy="281160"/>
          </a:xfrm>
          <a:prstGeom prst="line">
            <a:avLst/>
          </a:prstGeom>
          <a:ln w="9360">
            <a:solidFill>
              <a:srgbClr val="0046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 flipH="1">
            <a:off x="7993080" y="5435640"/>
            <a:ext cx="138240" cy="270000"/>
          </a:xfrm>
          <a:prstGeom prst="line">
            <a:avLst/>
          </a:prstGeom>
          <a:ln w="9360">
            <a:solidFill>
              <a:srgbClr val="0034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 flipH="1">
            <a:off x="7791480" y="5705640"/>
            <a:ext cx="201600" cy="241200"/>
          </a:xfrm>
          <a:prstGeom prst="line">
            <a:avLst/>
          </a:prstGeom>
          <a:ln w="9360">
            <a:solidFill>
              <a:srgbClr val="0022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 flipH="1">
            <a:off x="7534440" y="5946840"/>
            <a:ext cx="257040" cy="195120"/>
          </a:xfrm>
          <a:prstGeom prst="line">
            <a:avLst/>
          </a:prstGeom>
          <a:ln w="9360">
            <a:solidFill>
              <a:srgbClr val="0014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 flipH="1">
            <a:off x="7234200" y="6141960"/>
            <a:ext cx="300240" cy="135000"/>
          </a:xfrm>
          <a:prstGeom prst="line">
            <a:avLst/>
          </a:prstGeom>
          <a:ln w="9360">
            <a:solidFill>
              <a:srgbClr val="0009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 flipH="1">
            <a:off x="6910200" y="6276960"/>
            <a:ext cx="323640" cy="65160"/>
          </a:xfrm>
          <a:prstGeom prst="line">
            <a:avLst/>
          </a:prstGeom>
          <a:ln w="9360">
            <a:solidFill>
              <a:srgbClr val="0002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 flipH="1" flipV="1">
            <a:off x="6580080" y="6332040"/>
            <a:ext cx="330480" cy="972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 flipH="1" flipV="1">
            <a:off x="6262560" y="6251040"/>
            <a:ext cx="317520" cy="81000"/>
          </a:xfrm>
          <a:prstGeom prst="line">
            <a:avLst/>
          </a:prstGeom>
          <a:ln w="9360">
            <a:solidFill>
              <a:srgbClr val="0003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 flipH="1" flipV="1">
            <a:off x="5976720" y="6105240"/>
            <a:ext cx="285480" cy="145800"/>
          </a:xfrm>
          <a:prstGeom prst="line">
            <a:avLst/>
          </a:prstGeom>
          <a:ln w="9360">
            <a:solidFill>
              <a:srgbClr val="000bf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 flipH="1" flipV="1">
            <a:off x="5738760" y="5905440"/>
            <a:ext cx="238320" cy="200160"/>
          </a:xfrm>
          <a:prstGeom prst="line">
            <a:avLst/>
          </a:prstGeom>
          <a:ln w="9360">
            <a:solidFill>
              <a:srgbClr val="0016e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 flipH="1" flipV="1">
            <a:off x="5559480" y="5665680"/>
            <a:ext cx="179280" cy="239760"/>
          </a:xfrm>
          <a:prstGeom prst="line">
            <a:avLst/>
          </a:prstGeom>
          <a:ln w="9360">
            <a:solidFill>
              <a:srgbClr val="0025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 flipH="1" flipV="1">
            <a:off x="5446440" y="5403600"/>
            <a:ext cx="112680" cy="261720"/>
          </a:xfrm>
          <a:prstGeom prst="line">
            <a:avLst/>
          </a:prstGeom>
          <a:ln w="9360">
            <a:solidFill>
              <a:srgbClr val="0036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 flipH="1" flipV="1">
            <a:off x="5397120" y="5140440"/>
            <a:ext cx="49320" cy="263520"/>
          </a:xfrm>
          <a:prstGeom prst="line">
            <a:avLst/>
          </a:prstGeom>
          <a:ln w="9360">
            <a:solidFill>
              <a:srgbClr val="0048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 flipV="1">
            <a:off x="5397480" y="4892760"/>
            <a:ext cx="15840" cy="247680"/>
          </a:xfrm>
          <a:prstGeom prst="line">
            <a:avLst/>
          </a:prstGeom>
          <a:ln w="9360">
            <a:solidFill>
              <a:srgbClr val="0059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 flipV="1">
            <a:off x="5413320" y="4675320"/>
            <a:ext cx="66600" cy="217440"/>
          </a:xfrm>
          <a:prstGeom prst="line">
            <a:avLst/>
          </a:prstGeom>
          <a:ln w="9360">
            <a:solidFill>
              <a:srgbClr val="0069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 flipV="1">
            <a:off x="5479920" y="4501800"/>
            <a:ext cx="109800" cy="173160"/>
          </a:xfrm>
          <a:prstGeom prst="line">
            <a:avLst/>
          </a:prstGeom>
          <a:ln w="9360">
            <a:solidFill>
              <a:srgbClr val="00768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 flipV="1">
            <a:off x="5589720" y="4378320"/>
            <a:ext cx="131760" cy="123840"/>
          </a:xfrm>
          <a:prstGeom prst="line">
            <a:avLst/>
          </a:prstGeom>
          <a:ln w="9360">
            <a:solidFill>
              <a:srgbClr val="0080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 flipV="1">
            <a:off x="5721480" y="4309920"/>
            <a:ext cx="139680" cy="68400"/>
          </a:xfrm>
          <a:prstGeom prst="line">
            <a:avLst/>
          </a:prstGeom>
          <a:ln w="9360">
            <a:solidFill>
              <a:srgbClr val="0086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 flipV="1">
            <a:off x="5861160" y="4290480"/>
            <a:ext cx="129960" cy="19080"/>
          </a:xfrm>
          <a:prstGeom prst="line">
            <a:avLst/>
          </a:prstGeom>
          <a:ln w="9360">
            <a:solidFill>
              <a:srgbClr val="0089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5991120" y="4290840"/>
            <a:ext cx="104760" cy="25560"/>
          </a:xfrm>
          <a:prstGeom prst="line">
            <a:avLst/>
          </a:prstGeom>
          <a:ln w="9360">
            <a:solidFill>
              <a:srgbClr val="0089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6095880" y="4316400"/>
            <a:ext cx="66960" cy="55440"/>
          </a:xfrm>
          <a:prstGeom prst="line">
            <a:avLst/>
          </a:prstGeom>
          <a:ln w="9360">
            <a:solidFill>
              <a:srgbClr val="0086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6162840" y="4371840"/>
            <a:ext cx="23760" cy="73080"/>
          </a:xfrm>
          <a:prstGeom prst="line">
            <a:avLst/>
          </a:prstGeom>
          <a:ln w="9360">
            <a:solidFill>
              <a:srgbClr val="0082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 flipH="1">
            <a:off x="6162840" y="4444920"/>
            <a:ext cx="23760" cy="73080"/>
          </a:xfrm>
          <a:prstGeom prst="line">
            <a:avLst/>
          </a:prstGeom>
          <a:ln w="9360">
            <a:solidFill>
              <a:srgbClr val="007d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 flipH="1">
            <a:off x="6095880" y="4518000"/>
            <a:ext cx="66960" cy="55440"/>
          </a:xfrm>
          <a:prstGeom prst="line">
            <a:avLst/>
          </a:prstGeom>
          <a:ln w="9360">
            <a:solidFill>
              <a:srgbClr val="0079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 flipH="1">
            <a:off x="5990760" y="4573440"/>
            <a:ext cx="104760" cy="25560"/>
          </a:xfrm>
          <a:prstGeom prst="line">
            <a:avLst/>
          </a:prstGeom>
          <a:ln w="9360">
            <a:solidFill>
              <a:srgbClr val="00768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 flipH="1" flipV="1">
            <a:off x="5860800" y="4579560"/>
            <a:ext cx="129960" cy="19080"/>
          </a:xfrm>
          <a:prstGeom prst="line">
            <a:avLst/>
          </a:prstGeom>
          <a:ln w="9360">
            <a:solidFill>
              <a:srgbClr val="00768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 flipH="1" flipV="1">
            <a:off x="5721480" y="4511520"/>
            <a:ext cx="139680" cy="68400"/>
          </a:xfrm>
          <a:prstGeom prst="line">
            <a:avLst/>
          </a:prstGeom>
          <a:ln w="9360">
            <a:solidFill>
              <a:srgbClr val="0079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 flipH="1" flipV="1">
            <a:off x="5589720" y="4387680"/>
            <a:ext cx="131760" cy="123840"/>
          </a:xfrm>
          <a:prstGeom prst="line">
            <a:avLst/>
          </a:prstGeom>
          <a:ln w="9360">
            <a:solidFill>
              <a:srgbClr val="007f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 flipH="1" flipV="1">
            <a:off x="5479560" y="4214880"/>
            <a:ext cx="109800" cy="172800"/>
          </a:xfrm>
          <a:prstGeom prst="line">
            <a:avLst/>
          </a:prstGeom>
          <a:ln w="9360">
            <a:solidFill>
              <a:srgbClr val="0089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 flipH="1" flipV="1">
            <a:off x="5412960" y="3997440"/>
            <a:ext cx="66600" cy="217440"/>
          </a:xfrm>
          <a:prstGeom prst="line">
            <a:avLst/>
          </a:prstGeom>
          <a:ln w="9360">
            <a:solidFill>
              <a:srgbClr val="0096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 flipH="1" flipV="1">
            <a:off x="5397480" y="3749760"/>
            <a:ext cx="15840" cy="247680"/>
          </a:xfrm>
          <a:prstGeom prst="line">
            <a:avLst/>
          </a:prstGeom>
          <a:ln w="9360">
            <a:solidFill>
              <a:srgbClr val="00a6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 flipV="1">
            <a:off x="5397480" y="3486240"/>
            <a:ext cx="47520" cy="263520"/>
          </a:xfrm>
          <a:prstGeom prst="line">
            <a:avLst/>
          </a:prstGeom>
          <a:ln w="9360">
            <a:solidFill>
              <a:srgbClr val="00b7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 flipV="1">
            <a:off x="5445000" y="3224160"/>
            <a:ext cx="114480" cy="262080"/>
          </a:xfrm>
          <a:prstGeom prst="line">
            <a:avLst/>
          </a:prstGeom>
          <a:ln w="9360">
            <a:solidFill>
              <a:srgbClr val="00c9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 flipV="1">
            <a:off x="5559480" y="2984400"/>
            <a:ext cx="179280" cy="239760"/>
          </a:xfrm>
          <a:prstGeom prst="line">
            <a:avLst/>
          </a:prstGeom>
          <a:ln w="9360">
            <a:solidFill>
              <a:srgbClr val="00da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 flipV="1">
            <a:off x="5738760" y="2784240"/>
            <a:ext cx="238320" cy="199800"/>
          </a:xfrm>
          <a:prstGeom prst="line">
            <a:avLst/>
          </a:prstGeom>
          <a:ln w="9360">
            <a:solidFill>
              <a:srgbClr val="00e9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 flipV="1">
            <a:off x="5977080" y="2638440"/>
            <a:ext cx="285480" cy="146160"/>
          </a:xfrm>
          <a:prstGeom prst="line">
            <a:avLst/>
          </a:prstGeom>
          <a:ln w="9360">
            <a:solidFill>
              <a:srgbClr val="00f4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 flipV="1">
            <a:off x="6262560" y="2557080"/>
            <a:ext cx="317520" cy="81000"/>
          </a:xfrm>
          <a:prstGeom prst="line">
            <a:avLst/>
          </a:prstGeom>
          <a:ln w="9360">
            <a:solidFill>
              <a:srgbClr val="00fc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 flipV="1">
            <a:off x="6580080" y="2548080"/>
            <a:ext cx="330480" cy="9360"/>
          </a:xfrm>
          <a:prstGeom prst="line">
            <a:avLst/>
          </a:prstGeom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6910560" y="2548080"/>
            <a:ext cx="323640" cy="64800"/>
          </a:xfrm>
          <a:prstGeom prst="line">
            <a:avLst/>
          </a:prstGeom>
          <a:ln w="9360">
            <a:solidFill>
              <a:srgbClr val="00fd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7234200" y="2612880"/>
            <a:ext cx="300240" cy="135000"/>
          </a:xfrm>
          <a:prstGeom prst="line">
            <a:avLst/>
          </a:prstGeom>
          <a:ln w="9360">
            <a:solidFill>
              <a:srgbClr val="00f6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7534440" y="2747880"/>
            <a:ext cx="257040" cy="195480"/>
          </a:xfrm>
          <a:prstGeom prst="line">
            <a:avLst/>
          </a:prstGeom>
          <a:ln w="9360">
            <a:solidFill>
              <a:srgbClr val="00eb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7791480" y="2943360"/>
            <a:ext cx="201600" cy="241200"/>
          </a:xfrm>
          <a:prstGeom prst="line">
            <a:avLst/>
          </a:prstGeom>
          <a:ln w="9360">
            <a:solidFill>
              <a:srgbClr val="00dd2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7993080" y="3184560"/>
            <a:ext cx="138240" cy="270000"/>
          </a:xfrm>
          <a:prstGeom prst="line">
            <a:avLst/>
          </a:prstGeom>
          <a:ln w="9360">
            <a:solidFill>
              <a:srgbClr val="00cb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8131320" y="3454560"/>
            <a:ext cx="69840" cy="280800"/>
          </a:xfrm>
          <a:prstGeom prst="line">
            <a:avLst/>
          </a:prstGeom>
          <a:ln w="9360">
            <a:solidFill>
              <a:srgbClr val="00b9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8201160" y="3735360"/>
            <a:ext cx="1440" cy="273240"/>
          </a:xfrm>
          <a:prstGeom prst="line">
            <a:avLst/>
          </a:prstGeom>
          <a:ln w="9360">
            <a:solidFill>
              <a:srgbClr val="00a6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 flipH="1">
            <a:off x="8145000" y="4008600"/>
            <a:ext cx="57240" cy="249120"/>
          </a:xfrm>
          <a:prstGeom prst="line">
            <a:avLst/>
          </a:prstGeom>
          <a:ln w="9360">
            <a:solidFill>
              <a:srgbClr val="0095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 flipH="1">
            <a:off x="8040240" y="4257720"/>
            <a:ext cx="104760" cy="208080"/>
          </a:xfrm>
          <a:prstGeom prst="line">
            <a:avLst/>
          </a:prstGeom>
          <a:ln w="9360">
            <a:solidFill>
              <a:srgbClr val="0085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 flipH="1">
            <a:off x="7900920" y="4465800"/>
            <a:ext cx="139680" cy="160200"/>
          </a:xfrm>
          <a:prstGeom prst="line">
            <a:avLst/>
          </a:prstGeom>
          <a:ln w="9360">
            <a:solidFill>
              <a:srgbClr val="0079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 flipH="1">
            <a:off x="7743960" y="4626000"/>
            <a:ext cx="156960" cy="103320"/>
          </a:xfrm>
          <a:prstGeom prst="line">
            <a:avLst/>
          </a:prstGeom>
          <a:ln w="9360">
            <a:solidFill>
              <a:srgbClr val="0070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 flipH="1">
            <a:off x="7587720" y="4729320"/>
            <a:ext cx="155880" cy="50760"/>
          </a:xfrm>
          <a:prstGeom prst="line">
            <a:avLst/>
          </a:prstGeom>
          <a:ln w="9360">
            <a:solidFill>
              <a:srgbClr val="006b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 flipH="1">
            <a:off x="7449840" y="4780080"/>
            <a:ext cx="137880" cy="0"/>
          </a:xfrm>
          <a:prstGeom prst="line">
            <a:avLst/>
          </a:prstGeom>
          <a:ln w="9360">
            <a:solidFill>
              <a:srgbClr val="0069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 flipH="1" flipV="1">
            <a:off x="7342200" y="4739760"/>
            <a:ext cx="108000" cy="39960"/>
          </a:xfrm>
          <a:prstGeom prst="line">
            <a:avLst/>
          </a:prstGeom>
          <a:ln w="9360">
            <a:solidFill>
              <a:srgbClr val="006a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 flipH="1" flipV="1">
            <a:off x="7275240" y="4675320"/>
            <a:ext cx="66600" cy="64800"/>
          </a:xfrm>
          <a:prstGeom prst="line">
            <a:avLst/>
          </a:prstGeom>
          <a:ln w="9360">
            <a:solidFill>
              <a:srgbClr val="006e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 flipH="1" flipV="1">
            <a:off x="7256160" y="4599000"/>
            <a:ext cx="19080" cy="76320"/>
          </a:xfrm>
          <a:prstGeom prst="line">
            <a:avLst/>
          </a:prstGeom>
          <a:ln w="9360">
            <a:solidFill>
              <a:srgbClr val="0073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 flipV="1">
            <a:off x="7256520" y="4527720"/>
            <a:ext cx="27000" cy="71280"/>
          </a:xfrm>
          <a:prstGeom prst="line">
            <a:avLst/>
          </a:prstGeom>
          <a:ln w="9360">
            <a:solidFill>
              <a:srgbClr val="00788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 flipV="1">
            <a:off x="7283520" y="4479480"/>
            <a:ext cx="68040" cy="47880"/>
          </a:xfrm>
          <a:prstGeom prst="line">
            <a:avLst/>
          </a:prstGeom>
          <a:ln w="9360">
            <a:solidFill>
              <a:srgbClr val="007c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 flipV="1">
            <a:off x="7351560" y="4468320"/>
            <a:ext cx="100080" cy="11160"/>
          </a:xfrm>
          <a:prstGeom prst="line">
            <a:avLst/>
          </a:prstGeom>
          <a:ln w="9360">
            <a:solidFill>
              <a:srgbClr val="007e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7451640" y="4468680"/>
            <a:ext cx="119160" cy="33480"/>
          </a:xfrm>
          <a:prstGeom prst="line">
            <a:avLst/>
          </a:prstGeom>
          <a:ln w="9360">
            <a:solidFill>
              <a:srgbClr val="007d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7570800" y="4502160"/>
            <a:ext cx="120600" cy="84240"/>
          </a:xfrm>
          <a:prstGeom prst="line">
            <a:avLst/>
          </a:prstGeom>
          <a:ln w="9360">
            <a:solidFill>
              <a:srgbClr val="0079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7691400" y="4586400"/>
            <a:ext cx="108000" cy="135000"/>
          </a:xfrm>
          <a:prstGeom prst="line">
            <a:avLst/>
          </a:prstGeom>
          <a:ln w="9360">
            <a:solidFill>
              <a:srgbClr val="0071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7799400" y="4721400"/>
            <a:ext cx="76320" cy="182520"/>
          </a:xfrm>
          <a:prstGeom prst="line">
            <a:avLst/>
          </a:prstGeom>
          <a:ln w="9360">
            <a:solidFill>
              <a:srgbClr val="0067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7875720" y="4903920"/>
            <a:ext cx="29880" cy="218880"/>
          </a:xfrm>
          <a:prstGeom prst="line">
            <a:avLst/>
          </a:prstGeom>
          <a:ln w="9360">
            <a:solidFill>
              <a:srgbClr val="0059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 flipH="1">
            <a:off x="7878240" y="5122800"/>
            <a:ext cx="27000" cy="239760"/>
          </a:xfrm>
          <a:prstGeom prst="line">
            <a:avLst/>
          </a:prstGeom>
          <a:ln w="9360">
            <a:solidFill>
              <a:srgbClr val="004a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 flipH="1">
            <a:off x="7790040" y="5362560"/>
            <a:ext cx="88560" cy="247680"/>
          </a:xfrm>
          <a:prstGeom prst="line">
            <a:avLst/>
          </a:prstGeom>
          <a:ln w="9360">
            <a:solidFill>
              <a:srgbClr val="0039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 flipH="1">
            <a:off x="7635960" y="5610240"/>
            <a:ext cx="154080" cy="233280"/>
          </a:xfrm>
          <a:prstGeom prst="line">
            <a:avLst/>
          </a:prstGeom>
          <a:ln w="9360">
            <a:solidFill>
              <a:srgbClr val="0029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 flipH="1">
            <a:off x="7421400" y="5843520"/>
            <a:ext cx="214560" cy="203400"/>
          </a:xfrm>
          <a:prstGeom prst="line">
            <a:avLst/>
          </a:prstGeom>
          <a:ln w="9360">
            <a:solidFill>
              <a:srgbClr val="001a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 flipH="1">
            <a:off x="7155000" y="6046920"/>
            <a:ext cx="266400" cy="153720"/>
          </a:xfrm>
          <a:prstGeom prst="line">
            <a:avLst/>
          </a:prstGeom>
          <a:ln w="9360">
            <a:solidFill>
              <a:srgbClr val="000e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 flipH="1">
            <a:off x="6851160" y="6200640"/>
            <a:ext cx="303480" cy="95400"/>
          </a:xfrm>
          <a:prstGeom prst="line">
            <a:avLst/>
          </a:prstGeom>
          <a:ln w="9360">
            <a:solidFill>
              <a:srgbClr val="0006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 flipH="1">
            <a:off x="6527520" y="6296040"/>
            <a:ext cx="323640" cy="25560"/>
          </a:xfrm>
          <a:prstGeom prst="line">
            <a:avLst/>
          </a:prstGeom>
          <a:ln w="9360">
            <a:solidFill>
              <a:srgbClr val="0002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 flipH="1" flipV="1">
            <a:off x="6200280" y="6273360"/>
            <a:ext cx="327240" cy="47880"/>
          </a:xfrm>
          <a:prstGeom prst="line">
            <a:avLst/>
          </a:prstGeom>
          <a:ln w="9360">
            <a:solidFill>
              <a:srgbClr val="0003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 flipH="1" flipV="1">
            <a:off x="5892480" y="6152760"/>
            <a:ext cx="307800" cy="120600"/>
          </a:xfrm>
          <a:prstGeom prst="line">
            <a:avLst/>
          </a:prstGeom>
          <a:ln w="9360">
            <a:solidFill>
              <a:srgbClr val="0008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 flipH="1" flipV="1">
            <a:off x="5619240" y="5968800"/>
            <a:ext cx="273240" cy="183960"/>
          </a:xfrm>
          <a:prstGeom prst="line">
            <a:avLst/>
          </a:prstGeom>
          <a:ln w="9360">
            <a:solidFill>
              <a:srgbClr val="0013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 flipH="1" flipV="1">
            <a:off x="5397120" y="5730840"/>
            <a:ext cx="222120" cy="238320"/>
          </a:xfrm>
          <a:prstGeom prst="line">
            <a:avLst/>
          </a:prstGeom>
          <a:ln w="9360">
            <a:solidFill>
              <a:srgbClr val="0021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 flipH="1" flipV="1">
            <a:off x="5238360" y="5455800"/>
            <a:ext cx="158760" cy="274680"/>
          </a:xfrm>
          <a:prstGeom prst="line">
            <a:avLst/>
          </a:prstGeom>
          <a:ln w="9360">
            <a:solidFill>
              <a:srgbClr val="0032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 flipH="1" flipV="1">
            <a:off x="5148000" y="5162400"/>
            <a:ext cx="90360" cy="293760"/>
          </a:xfrm>
          <a:prstGeom prst="line">
            <a:avLst/>
          </a:prstGeom>
          <a:ln w="9360">
            <a:solidFill>
              <a:srgbClr val="0045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 flipH="1" flipV="1">
            <a:off x="5127480" y="4870080"/>
            <a:ext cx="20880" cy="291960"/>
          </a:xfrm>
          <a:prstGeom prst="line">
            <a:avLst/>
          </a:prstGeom>
          <a:ln w="9360">
            <a:solidFill>
              <a:srgbClr val="0059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 flipV="1">
            <a:off x="5127480" y="4593960"/>
            <a:ext cx="44640" cy="276120"/>
          </a:xfrm>
          <a:prstGeom prst="line">
            <a:avLst/>
          </a:prstGeom>
          <a:ln w="9360">
            <a:solidFill>
              <a:srgbClr val="006c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 flipV="1">
            <a:off x="5172120" y="4354560"/>
            <a:ext cx="100080" cy="239760"/>
          </a:xfrm>
          <a:prstGeom prst="line">
            <a:avLst/>
          </a:prstGeom>
          <a:ln w="9360">
            <a:solidFill>
              <a:srgbClr val="007e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 flipV="1">
            <a:off x="5272200" y="4160880"/>
            <a:ext cx="142920" cy="193680"/>
          </a:xfrm>
          <a:prstGeom prst="line">
            <a:avLst/>
          </a:prstGeom>
          <a:ln w="9360">
            <a:solidFill>
              <a:srgbClr val="008c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 flipV="1">
            <a:off x="5415120" y="4021200"/>
            <a:ext cx="168120" cy="139680"/>
          </a:xfrm>
          <a:prstGeom prst="line">
            <a:avLst/>
          </a:prstGeom>
          <a:ln w="9360">
            <a:solidFill>
              <a:srgbClr val="0097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 flipV="1">
            <a:off x="5583240" y="3939840"/>
            <a:ext cx="177840" cy="81000"/>
          </a:xfrm>
          <a:prstGeom prst="line">
            <a:avLst/>
          </a:prstGeom>
          <a:ln w="9360">
            <a:solidFill>
              <a:srgbClr val="009f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 flipV="1">
            <a:off x="5761080" y="3912840"/>
            <a:ext cx="169920" cy="27000"/>
          </a:xfrm>
          <a:prstGeom prst="line">
            <a:avLst/>
          </a:prstGeom>
          <a:ln w="9360">
            <a:solidFill>
              <a:srgbClr val="00a2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5931000" y="3913200"/>
            <a:ext cx="144360" cy="20520"/>
          </a:xfrm>
          <a:prstGeom prst="line">
            <a:avLst/>
          </a:prstGeom>
          <a:ln w="9360">
            <a:solidFill>
              <a:srgbClr val="00a3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6075360" y="3933720"/>
            <a:ext cx="108000" cy="55800"/>
          </a:xfrm>
          <a:prstGeom prst="line">
            <a:avLst/>
          </a:prstGeom>
          <a:ln w="9360">
            <a:solidFill>
              <a:srgbClr val="00a0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6183360" y="3989520"/>
            <a:ext cx="63360" cy="77760"/>
          </a:xfrm>
          <a:prstGeom prst="line">
            <a:avLst/>
          </a:prstGeom>
          <a:ln w="9360">
            <a:solidFill>
              <a:srgbClr val="009c6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6246720" y="4067280"/>
            <a:ext cx="15840" cy="81000"/>
          </a:xfrm>
          <a:prstGeom prst="line">
            <a:avLst/>
          </a:prstGeom>
          <a:ln w="9360">
            <a:solidFill>
              <a:srgbClr val="0096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 flipH="1">
            <a:off x="6232320" y="4148280"/>
            <a:ext cx="29880" cy="68040"/>
          </a:xfrm>
          <a:prstGeom prst="line">
            <a:avLst/>
          </a:prstGeom>
          <a:ln w="9360">
            <a:solidFill>
              <a:srgbClr val="0091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 flipH="1">
            <a:off x="6164280" y="4216320"/>
            <a:ext cx="68400" cy="41400"/>
          </a:xfrm>
          <a:prstGeom prst="line">
            <a:avLst/>
          </a:prstGeom>
          <a:ln w="9360">
            <a:solidFill>
              <a:srgbClr val="008e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 flipH="1">
            <a:off x="6068520" y="4257720"/>
            <a:ext cx="95400" cy="1440"/>
          </a:xfrm>
          <a:prstGeom prst="line">
            <a:avLst/>
          </a:prstGeom>
          <a:ln w="9360">
            <a:solidFill>
              <a:srgbClr val="008c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 flipH="1" flipV="1">
            <a:off x="5962320" y="4213080"/>
            <a:ext cx="106200" cy="46080"/>
          </a:xfrm>
          <a:prstGeom prst="line">
            <a:avLst/>
          </a:prstGeom>
          <a:ln w="9360">
            <a:solidFill>
              <a:srgbClr val="008e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 flipH="1" flipV="1">
            <a:off x="5859000" y="4118040"/>
            <a:ext cx="103320" cy="95040"/>
          </a:xfrm>
          <a:prstGeom prst="line">
            <a:avLst/>
          </a:prstGeom>
          <a:ln w="9360">
            <a:solidFill>
              <a:srgbClr val="0092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 flipH="1" flipV="1">
            <a:off x="5778000" y="3973320"/>
            <a:ext cx="81000" cy="144360"/>
          </a:xfrm>
          <a:prstGeom prst="line">
            <a:avLst/>
          </a:prstGeom>
          <a:ln w="9360">
            <a:solidFill>
              <a:srgbClr val="009a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 flipH="1" flipV="1">
            <a:off x="5733720" y="3789360"/>
            <a:ext cx="44280" cy="184320"/>
          </a:xfrm>
          <a:prstGeom prst="line">
            <a:avLst/>
          </a:prstGeom>
          <a:ln w="9360">
            <a:solidFill>
              <a:srgbClr val="00a5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 flipV="1">
            <a:off x="5734080" y="3574800"/>
            <a:ext cx="4680" cy="214200"/>
          </a:xfrm>
          <a:prstGeom prst="line">
            <a:avLst/>
          </a:prstGeom>
          <a:ln w="9360">
            <a:solidFill>
              <a:srgbClr val="00b3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 flipV="1">
            <a:off x="5738760" y="3347640"/>
            <a:ext cx="65160" cy="227160"/>
          </a:xfrm>
          <a:prstGeom prst="line">
            <a:avLst/>
          </a:prstGeom>
          <a:ln w="9360">
            <a:solidFill>
              <a:srgbClr val="00c2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 flipV="1">
            <a:off x="5803920" y="3125520"/>
            <a:ext cx="127080" cy="222120"/>
          </a:xfrm>
          <a:prstGeom prst="line">
            <a:avLst/>
          </a:prstGeom>
          <a:ln w="9360">
            <a:solidFill>
              <a:srgbClr val="00d1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 flipV="1">
            <a:off x="5931000" y="2925720"/>
            <a:ext cx="187200" cy="200160"/>
          </a:xfrm>
          <a:prstGeom prst="line">
            <a:avLst/>
          </a:prstGeom>
          <a:ln w="9360">
            <a:solidFill>
              <a:srgbClr val="00d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 flipV="1">
            <a:off x="6118200" y="2763720"/>
            <a:ext cx="241200" cy="162000"/>
          </a:xfrm>
          <a:prstGeom prst="line">
            <a:avLst/>
          </a:prstGeom>
          <a:ln w="9360">
            <a:solidFill>
              <a:srgbClr val="00eb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 flipV="1">
            <a:off x="6359400" y="2657160"/>
            <a:ext cx="285840" cy="106200"/>
          </a:xfrm>
          <a:prstGeom prst="line">
            <a:avLst/>
          </a:prstGeom>
          <a:ln w="9360">
            <a:solidFill>
              <a:srgbClr val="00f4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 flipV="1">
            <a:off x="6645240" y="2617920"/>
            <a:ext cx="312840" cy="39600"/>
          </a:xfrm>
          <a:prstGeom prst="line">
            <a:avLst/>
          </a:prstGeom>
          <a:ln w="9360">
            <a:solidFill>
              <a:srgbClr val="00f9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6958080" y="2617920"/>
            <a:ext cx="322200" cy="29880"/>
          </a:xfrm>
          <a:prstGeom prst="line">
            <a:avLst/>
          </a:prstGeom>
          <a:ln w="9360">
            <a:solidFill>
              <a:srgbClr val="00fa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7280280" y="2647800"/>
            <a:ext cx="311040" cy="103320"/>
          </a:xfrm>
          <a:prstGeom prst="line">
            <a:avLst/>
          </a:prstGeom>
          <a:ln w="9360">
            <a:solidFill>
              <a:srgbClr val="00f5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7591320" y="2751120"/>
            <a:ext cx="284400" cy="171360"/>
          </a:xfrm>
          <a:prstGeom prst="line">
            <a:avLst/>
          </a:prstGeom>
          <a:ln w="9360">
            <a:solidFill>
              <a:srgbClr val="00ec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7875720" y="2922480"/>
            <a:ext cx="236520" cy="228600"/>
          </a:xfrm>
          <a:prstGeom prst="line">
            <a:avLst/>
          </a:prstGeom>
          <a:ln w="9360">
            <a:solidFill>
              <a:srgbClr val="00de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8112240" y="3151080"/>
            <a:ext cx="179280" cy="273240"/>
          </a:xfrm>
          <a:prstGeom prst="line">
            <a:avLst/>
          </a:prstGeom>
          <a:ln w="9360">
            <a:solidFill>
              <a:srgbClr val="00cd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8291520" y="3424320"/>
            <a:ext cx="111240" cy="299880"/>
          </a:xfrm>
          <a:prstGeom prst="line">
            <a:avLst/>
          </a:prstGeom>
          <a:ln w="9360">
            <a:solidFill>
              <a:srgbClr val="00ba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>
            <a:off x="8402760" y="3724200"/>
            <a:ext cx="39600" cy="308160"/>
          </a:xfrm>
          <a:prstGeom prst="line">
            <a:avLst/>
          </a:prstGeom>
          <a:ln w="9360">
            <a:solidFill>
              <a:srgbClr val="00a6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 flipH="1">
            <a:off x="8412120" y="4032360"/>
            <a:ext cx="30240" cy="298440"/>
          </a:xfrm>
          <a:prstGeom prst="line">
            <a:avLst/>
          </a:prstGeom>
          <a:ln w="9360">
            <a:solidFill>
              <a:srgbClr val="0091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 flipH="1">
            <a:off x="8319960" y="4330800"/>
            <a:ext cx="92160" cy="268200"/>
          </a:xfrm>
          <a:prstGeom prst="line">
            <a:avLst/>
          </a:prstGeom>
          <a:ln w="9360">
            <a:solidFill>
              <a:srgbClr val="007e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 flipH="1">
            <a:off x="8176680" y="4599000"/>
            <a:ext cx="142920" cy="223920"/>
          </a:xfrm>
          <a:prstGeom prst="line">
            <a:avLst/>
          </a:prstGeom>
          <a:ln w="9360">
            <a:solidFill>
              <a:srgbClr val="006e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 flipH="1">
            <a:off x="7999200" y="4822920"/>
            <a:ext cx="177480" cy="172800"/>
          </a:xfrm>
          <a:prstGeom prst="line">
            <a:avLst/>
          </a:prstGeom>
          <a:ln w="9360">
            <a:solidFill>
              <a:srgbClr val="0060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 flipH="1">
            <a:off x="7803720" y="4995720"/>
            <a:ext cx="195480" cy="112680"/>
          </a:xfrm>
          <a:prstGeom prst="line">
            <a:avLst/>
          </a:prstGeom>
          <a:ln w="9360">
            <a:solidFill>
              <a:srgbClr val="0057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 flipH="1">
            <a:off x="7608960" y="5108400"/>
            <a:ext cx="195120" cy="54000"/>
          </a:xfrm>
          <a:prstGeom prst="line">
            <a:avLst/>
          </a:prstGeom>
          <a:ln w="9360">
            <a:solidFill>
              <a:srgbClr val="0051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 flipH="1">
            <a:off x="7429680" y="5162400"/>
            <a:ext cx="179280" cy="0"/>
          </a:xfrm>
          <a:prstGeom prst="line">
            <a:avLst/>
          </a:prstGeom>
          <a:ln w="9360">
            <a:solidFill>
              <a:srgbClr val="004f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 flipH="1" flipV="1">
            <a:off x="7283520" y="5117760"/>
            <a:ext cx="146160" cy="44280"/>
          </a:xfrm>
          <a:prstGeom prst="line">
            <a:avLst/>
          </a:prstGeom>
          <a:ln w="9360">
            <a:solidFill>
              <a:srgbClr val="0051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 flipH="1" flipV="1">
            <a:off x="7176960" y="5044680"/>
            <a:ext cx="106560" cy="73080"/>
          </a:xfrm>
          <a:prstGeom prst="line">
            <a:avLst/>
          </a:prstGeom>
          <a:ln w="9360">
            <a:solidFill>
              <a:srgbClr val="0055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 flipH="1" flipV="1">
            <a:off x="7117920" y="4955760"/>
            <a:ext cx="58680" cy="88920"/>
          </a:xfrm>
          <a:prstGeom prst="line">
            <a:avLst/>
          </a:prstGeom>
          <a:ln w="9360">
            <a:solidFill>
              <a:srgbClr val="005a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 flipH="1" flipV="1">
            <a:off x="7108920" y="4870440"/>
            <a:ext cx="9360" cy="85680"/>
          </a:xfrm>
          <a:prstGeom prst="line">
            <a:avLst/>
          </a:prstGeom>
          <a:ln w="9360">
            <a:solidFill>
              <a:srgbClr val="0060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 flipV="1">
            <a:off x="7108920" y="4802040"/>
            <a:ext cx="33120" cy="68400"/>
          </a:xfrm>
          <a:prstGeom prst="line">
            <a:avLst/>
          </a:prstGeom>
          <a:ln w="9360">
            <a:solidFill>
              <a:srgbClr val="006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 flipV="1">
            <a:off x="7142040" y="4765320"/>
            <a:ext cx="68400" cy="36360"/>
          </a:xfrm>
          <a:prstGeom prst="line">
            <a:avLst/>
          </a:prstGeom>
          <a:ln w="9360">
            <a:solidFill>
              <a:srgbClr val="0069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7210440" y="4765680"/>
            <a:ext cx="88920" cy="6480"/>
          </a:xfrm>
          <a:prstGeom prst="line">
            <a:avLst/>
          </a:prstGeom>
          <a:ln w="9360">
            <a:solidFill>
              <a:srgbClr val="006a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7299360" y="4772160"/>
            <a:ext cx="95040" cy="55440"/>
          </a:xfrm>
          <a:prstGeom prst="line">
            <a:avLst/>
          </a:prstGeom>
          <a:ln w="9360">
            <a:solidFill>
              <a:srgbClr val="0068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7394400" y="4827600"/>
            <a:ext cx="82800" cy="103320"/>
          </a:xfrm>
          <a:prstGeom prst="line">
            <a:avLst/>
          </a:prstGeom>
          <a:ln w="9360">
            <a:solidFill>
              <a:srgbClr val="0062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7477200" y="4930920"/>
            <a:ext cx="57240" cy="147600"/>
          </a:xfrm>
          <a:prstGeom prst="line">
            <a:avLst/>
          </a:prstGeom>
          <a:ln w="9360">
            <a:solidFill>
              <a:srgbClr val="005a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7534440" y="5078520"/>
            <a:ext cx="12600" cy="180720"/>
          </a:xfrm>
          <a:prstGeom prst="line">
            <a:avLst/>
          </a:prstGeom>
          <a:ln w="9360">
            <a:solidFill>
              <a:srgbClr val="004f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 flipH="1">
            <a:off x="7508880" y="5259240"/>
            <a:ext cx="38160" cy="203400"/>
          </a:xfrm>
          <a:prstGeom prst="line">
            <a:avLst/>
          </a:prstGeom>
          <a:ln w="9360">
            <a:solidFill>
              <a:srgbClr val="0042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 flipH="1">
            <a:off x="7411680" y="5462640"/>
            <a:ext cx="96840" cy="206280"/>
          </a:xfrm>
          <a:prstGeom prst="line">
            <a:avLst/>
          </a:prstGeom>
          <a:ln w="9360">
            <a:solidFill>
              <a:srgbClr val="0034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 flipH="1">
            <a:off x="7252920" y="5668920"/>
            <a:ext cx="158760" cy="193680"/>
          </a:xfrm>
          <a:prstGeom prst="line">
            <a:avLst/>
          </a:prstGeom>
          <a:ln w="9360">
            <a:solidFill>
              <a:srgbClr val="0027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 flipH="1">
            <a:off x="7038720" y="5862600"/>
            <a:ext cx="214200" cy="163440"/>
          </a:xfrm>
          <a:prstGeom prst="line">
            <a:avLst/>
          </a:prstGeom>
          <a:ln w="9360">
            <a:solidFill>
              <a:srgbClr val="001a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 flipH="1">
            <a:off x="6777000" y="6026040"/>
            <a:ext cx="262080" cy="115920"/>
          </a:xfrm>
          <a:prstGeom prst="line">
            <a:avLst/>
          </a:prstGeom>
          <a:ln w="9360">
            <a:solidFill>
              <a:srgbClr val="0011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 flipH="1">
            <a:off x="6481800" y="6141960"/>
            <a:ext cx="295200" cy="55800"/>
          </a:xfrm>
          <a:prstGeom prst="line">
            <a:avLst/>
          </a:prstGeom>
          <a:ln w="9360">
            <a:solidFill>
              <a:srgbClr val="000bf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 flipH="1" flipV="1">
            <a:off x="6168600" y="6183360"/>
            <a:ext cx="312840" cy="14400"/>
          </a:xfrm>
          <a:prstGeom prst="line">
            <a:avLst/>
          </a:prstGeom>
          <a:ln w="9360">
            <a:solidFill>
              <a:srgbClr val="000a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 flipH="1" flipV="1">
            <a:off x="5859360" y="6099120"/>
            <a:ext cx="309600" cy="84240"/>
          </a:xfrm>
          <a:prstGeom prst="line">
            <a:avLst/>
          </a:prstGeom>
          <a:ln w="9360">
            <a:solidFill>
              <a:srgbClr val="000d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 flipH="1" flipV="1">
            <a:off x="5572080" y="5943600"/>
            <a:ext cx="287280" cy="155520"/>
          </a:xfrm>
          <a:prstGeom prst="line">
            <a:avLst/>
          </a:prstGeom>
          <a:ln w="9360">
            <a:solidFill>
              <a:srgbClr val="0015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 flipH="1" flipV="1">
            <a:off x="5322960" y="5727600"/>
            <a:ext cx="249120" cy="216000"/>
          </a:xfrm>
          <a:prstGeom prst="line">
            <a:avLst/>
          </a:prstGeom>
          <a:ln w="9360">
            <a:solidFill>
              <a:srgbClr val="0022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 flipH="1" flipV="1">
            <a:off x="5127120" y="5459040"/>
            <a:ext cx="195480" cy="268200"/>
          </a:xfrm>
          <a:prstGeom prst="line">
            <a:avLst/>
          </a:prstGeom>
          <a:ln w="9360">
            <a:solidFill>
              <a:srgbClr val="0032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 flipH="1" flipV="1">
            <a:off x="4997160" y="5159160"/>
            <a:ext cx="129960" cy="299880"/>
          </a:xfrm>
          <a:prstGeom prst="line">
            <a:avLst/>
          </a:prstGeom>
          <a:ln w="9360">
            <a:solidFill>
              <a:srgbClr val="0045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 flipH="1" flipV="1">
            <a:off x="4938480" y="4842000"/>
            <a:ext cx="58680" cy="317520"/>
          </a:xfrm>
          <a:prstGeom prst="line">
            <a:avLst/>
          </a:prstGeom>
          <a:ln w="9360">
            <a:solidFill>
              <a:srgbClr val="005a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 flipV="1">
            <a:off x="4938840" y="4528800"/>
            <a:ext cx="14040" cy="312840"/>
          </a:xfrm>
          <a:prstGeom prst="line">
            <a:avLst/>
          </a:prstGeom>
          <a:ln w="9360">
            <a:solidFill>
              <a:srgbClr val="006f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 flipV="1">
            <a:off x="4952880" y="4236840"/>
            <a:ext cx="81000" cy="291960"/>
          </a:xfrm>
          <a:prstGeom prst="line">
            <a:avLst/>
          </a:prstGeom>
          <a:ln w="9360">
            <a:solidFill>
              <a:srgbClr val="0084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 flipV="1">
            <a:off x="5033880" y="3984480"/>
            <a:ext cx="138240" cy="252720"/>
          </a:xfrm>
          <a:prstGeom prst="line">
            <a:avLst/>
          </a:prstGeom>
          <a:ln w="9360">
            <a:solidFill>
              <a:srgbClr val="0096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 flipV="1">
            <a:off x="5172120" y="3781440"/>
            <a:ext cx="182520" cy="203040"/>
          </a:xfrm>
          <a:prstGeom prst="line">
            <a:avLst/>
          </a:prstGeom>
          <a:ln w="9360">
            <a:solidFill>
              <a:srgbClr val="00a5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 flipV="1">
            <a:off x="5354640" y="3638160"/>
            <a:ext cx="209520" cy="142920"/>
          </a:xfrm>
          <a:prstGeom prst="line">
            <a:avLst/>
          </a:prstGeom>
          <a:ln w="9360">
            <a:solidFill>
              <a:srgbClr val="00b1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 flipV="1">
            <a:off x="5564160" y="3557160"/>
            <a:ext cx="217440" cy="81000"/>
          </a:xfrm>
          <a:prstGeom prst="line">
            <a:avLst/>
          </a:prstGeom>
          <a:ln w="9360">
            <a:solidFill>
              <a:srgbClr val="00b9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 flipV="1">
            <a:off x="5781600" y="3535200"/>
            <a:ext cx="208080" cy="22320"/>
          </a:xfrm>
          <a:prstGeom prst="line">
            <a:avLst/>
          </a:prstGeom>
          <a:ln w="9360">
            <a:solidFill>
              <a:srgbClr val="00bc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5989680" y="3535200"/>
            <a:ext cx="183960" cy="28800"/>
          </a:xfrm>
          <a:prstGeom prst="line">
            <a:avLst/>
          </a:prstGeom>
          <a:ln w="9360">
            <a:solidFill>
              <a:srgbClr val="00bc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>
            <a:off x="6173640" y="3564000"/>
            <a:ext cx="146160" cy="68040"/>
          </a:xfrm>
          <a:prstGeom prst="line">
            <a:avLst/>
          </a:prstGeom>
          <a:ln w="9360">
            <a:solidFill>
              <a:srgbClr val="00b9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>
            <a:off x="6319800" y="3632040"/>
            <a:ext cx="100080" cy="93960"/>
          </a:xfrm>
          <a:prstGeom prst="line">
            <a:avLst/>
          </a:prstGeom>
          <a:ln w="9360">
            <a:solidFill>
              <a:srgbClr val="00b3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>
            <a:off x="6419880" y="3726000"/>
            <a:ext cx="50760" cy="99720"/>
          </a:xfrm>
          <a:prstGeom prst="line">
            <a:avLst/>
          </a:prstGeom>
          <a:ln w="9360">
            <a:solidFill>
              <a:srgbClr val="00ad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6470640" y="3825720"/>
            <a:ext cx="3240" cy="92160"/>
          </a:xfrm>
          <a:prstGeom prst="line">
            <a:avLst/>
          </a:prstGeom>
          <a:ln w="9360">
            <a:solidFill>
              <a:srgbClr val="00a6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 flipH="1">
            <a:off x="6435720" y="3917880"/>
            <a:ext cx="38160" cy="68400"/>
          </a:xfrm>
          <a:prstGeom prst="line">
            <a:avLst/>
          </a:prstGeom>
          <a:ln w="9360">
            <a:solidFill>
              <a:srgbClr val="00a1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 flipH="1">
            <a:off x="6367320" y="3986280"/>
            <a:ext cx="68400" cy="31680"/>
          </a:xfrm>
          <a:prstGeom prst="line">
            <a:avLst/>
          </a:prstGeom>
          <a:ln w="9360">
            <a:solidFill>
              <a:srgbClr val="009d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 flipH="1" flipV="1">
            <a:off x="6283080" y="4005000"/>
            <a:ext cx="83880" cy="12600"/>
          </a:xfrm>
          <a:prstGeom prst="line">
            <a:avLst/>
          </a:prstGeom>
          <a:ln w="9360">
            <a:solidFill>
              <a:srgbClr val="009d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 flipH="1" flipV="1">
            <a:off x="6200640" y="3943440"/>
            <a:ext cx="82800" cy="61920"/>
          </a:xfrm>
          <a:prstGeom prst="line">
            <a:avLst/>
          </a:prstGeom>
          <a:ln w="9360">
            <a:solidFill>
              <a:srgbClr val="009f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 flipH="1" flipV="1">
            <a:off x="6135840" y="3836880"/>
            <a:ext cx="64800" cy="106560"/>
          </a:xfrm>
          <a:prstGeom prst="line">
            <a:avLst/>
          </a:prstGeom>
          <a:ln w="9360">
            <a:solidFill>
              <a:srgbClr val="00a5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 flipH="1" flipV="1">
            <a:off x="6103440" y="3689280"/>
            <a:ext cx="32040" cy="147600"/>
          </a:xfrm>
          <a:prstGeom prst="line">
            <a:avLst/>
          </a:prstGeom>
          <a:ln w="9360">
            <a:solidFill>
              <a:srgbClr val="00ad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 flipV="1">
            <a:off x="6103800" y="3516480"/>
            <a:ext cx="14400" cy="172800"/>
          </a:xfrm>
          <a:prstGeom prst="line">
            <a:avLst/>
          </a:prstGeom>
          <a:ln w="9360">
            <a:solidFill>
              <a:srgbClr val="00b8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 flipV="1">
            <a:off x="6118200" y="3328560"/>
            <a:ext cx="68400" cy="187560"/>
          </a:xfrm>
          <a:prstGeom prst="line">
            <a:avLst/>
          </a:prstGeom>
          <a:ln w="9360">
            <a:solidFill>
              <a:srgbClr val="00c4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 flipV="1">
            <a:off x="6186600" y="3146040"/>
            <a:ext cx="126720" cy="182520"/>
          </a:xfrm>
          <a:prstGeom prst="line">
            <a:avLst/>
          </a:prstGeom>
          <a:ln w="9360">
            <a:solidFill>
              <a:srgbClr val="00d1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 flipV="1">
            <a:off x="6313320" y="2984400"/>
            <a:ext cx="182880" cy="162000"/>
          </a:xfrm>
          <a:prstGeom prst="line">
            <a:avLst/>
          </a:prstGeom>
          <a:ln w="9360">
            <a:solidFill>
              <a:srgbClr val="00dc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 flipV="1">
            <a:off x="6496200" y="2863440"/>
            <a:ext cx="234720" cy="120600"/>
          </a:xfrm>
          <a:prstGeom prst="line">
            <a:avLst/>
          </a:prstGeom>
          <a:ln w="9360">
            <a:solidFill>
              <a:srgbClr val="00e6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 flipV="1">
            <a:off x="6730920" y="2795400"/>
            <a:ext cx="271440" cy="68040"/>
          </a:xfrm>
          <a:prstGeom prst="line">
            <a:avLst/>
          </a:prstGeom>
          <a:ln w="9360">
            <a:solidFill>
              <a:srgbClr val="00ec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 flipV="1">
            <a:off x="7002360" y="2790720"/>
            <a:ext cx="297000" cy="5040"/>
          </a:xfrm>
          <a:prstGeom prst="line">
            <a:avLst/>
          </a:prstGeom>
          <a:ln w="9360">
            <a:solidFill>
              <a:srgbClr val="00ef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7299360" y="2790720"/>
            <a:ext cx="301680" cy="65160"/>
          </a:xfrm>
          <a:prstGeom prst="line">
            <a:avLst/>
          </a:prstGeom>
          <a:ln w="9360">
            <a:solidFill>
              <a:srgbClr val="00ed1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7601040" y="2855880"/>
            <a:ext cx="288720" cy="136440"/>
          </a:xfrm>
          <a:prstGeom prst="line">
            <a:avLst/>
          </a:prstGeom>
          <a:ln w="9360">
            <a:solidFill>
              <a:srgbClr val="00e6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>
            <a:off x="7889760" y="2992320"/>
            <a:ext cx="255600" cy="200160"/>
          </a:xfrm>
          <a:prstGeom prst="line">
            <a:avLst/>
          </a:prstGeom>
          <a:ln w="9360">
            <a:solidFill>
              <a:srgbClr val="00db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>
            <a:off x="8145360" y="3192480"/>
            <a:ext cx="208080" cy="257040"/>
          </a:xfrm>
          <a:prstGeom prst="line">
            <a:avLst/>
          </a:prstGeom>
          <a:ln w="9360">
            <a:solidFill>
              <a:srgbClr val="00cb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>
            <a:off x="8353440" y="3449520"/>
            <a:ext cx="146160" cy="297000"/>
          </a:xfrm>
          <a:prstGeom prst="line">
            <a:avLst/>
          </a:prstGeom>
          <a:ln w="9360">
            <a:solidFill>
              <a:srgbClr val="00b9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8499600" y="3746520"/>
            <a:ext cx="75960" cy="320760"/>
          </a:xfrm>
          <a:prstGeom prst="line">
            <a:avLst/>
          </a:prstGeom>
          <a:ln w="9360">
            <a:solidFill>
              <a:srgbClr val="00a4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>
            <a:off x="8575560" y="4067280"/>
            <a:ext cx="3240" cy="323640"/>
          </a:xfrm>
          <a:prstGeom prst="line">
            <a:avLst/>
          </a:prstGeom>
          <a:ln w="9360">
            <a:solidFill>
              <a:srgbClr val="008e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 flipH="1">
            <a:off x="8510400" y="4390920"/>
            <a:ext cx="68040" cy="309600"/>
          </a:xfrm>
          <a:prstGeom prst="line">
            <a:avLst/>
          </a:prstGeom>
          <a:ln w="9360">
            <a:solidFill>
              <a:srgbClr val="0079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 flipH="1">
            <a:off x="8380440" y="4700520"/>
            <a:ext cx="130320" cy="276120"/>
          </a:xfrm>
          <a:prstGeom prst="line">
            <a:avLst/>
          </a:prstGeom>
          <a:ln w="9360">
            <a:solidFill>
              <a:srgbClr val="006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 flipH="1">
            <a:off x="8197560" y="4976640"/>
            <a:ext cx="182520" cy="230400"/>
          </a:xfrm>
          <a:prstGeom prst="line">
            <a:avLst/>
          </a:prstGeom>
          <a:ln w="9360">
            <a:solidFill>
              <a:srgbClr val="0054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"/>
          <p:cNvSpPr/>
          <p:nvPr/>
        </p:nvSpPr>
        <p:spPr>
          <a:xfrm flipH="1">
            <a:off x="7980480" y="5207040"/>
            <a:ext cx="217440" cy="171360"/>
          </a:xfrm>
          <a:prstGeom prst="line">
            <a:avLst/>
          </a:prstGeom>
          <a:ln w="9360">
            <a:solidFill>
              <a:srgbClr val="0046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 flipH="1">
            <a:off x="7743600" y="5378400"/>
            <a:ext cx="236520" cy="108000"/>
          </a:xfrm>
          <a:prstGeom prst="line">
            <a:avLst/>
          </a:prstGeom>
          <a:ln w="9360">
            <a:solidFill>
              <a:srgbClr val="003d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 flipH="1">
            <a:off x="7508520" y="5486400"/>
            <a:ext cx="235080" cy="46080"/>
          </a:xfrm>
          <a:prstGeom prst="line">
            <a:avLst/>
          </a:prstGeom>
          <a:ln w="9360">
            <a:solidFill>
              <a:srgbClr val="0038c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 flipH="1" flipV="1">
            <a:off x="7292880" y="5519520"/>
            <a:ext cx="216000" cy="12600"/>
          </a:xfrm>
          <a:prstGeom prst="line">
            <a:avLst/>
          </a:prstGeom>
          <a:ln w="9360">
            <a:solidFill>
              <a:srgbClr val="0037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 flipH="1" flipV="1">
            <a:off x="7108560" y="5459400"/>
            <a:ext cx="183960" cy="60480"/>
          </a:xfrm>
          <a:prstGeom prst="line">
            <a:avLst/>
          </a:prstGeom>
          <a:ln w="9360">
            <a:solidFill>
              <a:srgbClr val="0039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 flipH="1" flipV="1">
            <a:off x="6967080" y="5365800"/>
            <a:ext cx="141480" cy="93600"/>
          </a:xfrm>
          <a:prstGeom prst="line">
            <a:avLst/>
          </a:prstGeom>
          <a:ln w="9360">
            <a:solidFill>
              <a:srgbClr val="003e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 flipH="1" flipV="1">
            <a:off x="6876720" y="5252760"/>
            <a:ext cx="90360" cy="112680"/>
          </a:xfrm>
          <a:prstGeom prst="line">
            <a:avLst/>
          </a:prstGeom>
          <a:ln w="9360">
            <a:solidFill>
              <a:srgbClr val="0045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 flipH="1" flipV="1">
            <a:off x="6837480" y="5140080"/>
            <a:ext cx="39600" cy="112680"/>
          </a:xfrm>
          <a:prstGeom prst="line">
            <a:avLst/>
          </a:prstGeom>
          <a:ln w="9360">
            <a:solidFill>
              <a:srgbClr val="004d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"/>
          <p:cNvSpPr/>
          <p:nvPr/>
        </p:nvSpPr>
        <p:spPr>
          <a:xfrm flipV="1">
            <a:off x="6837480" y="5043240"/>
            <a:ext cx="7920" cy="96840"/>
          </a:xfrm>
          <a:prstGeom prst="line">
            <a:avLst/>
          </a:prstGeom>
          <a:ln w="9360">
            <a:solidFill>
              <a:srgbClr val="0054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 flipV="1">
            <a:off x="6845400" y="4975200"/>
            <a:ext cx="42840" cy="68400"/>
          </a:xfrm>
          <a:prstGeom prst="line">
            <a:avLst/>
          </a:prstGeom>
          <a:ln w="9360">
            <a:solidFill>
              <a:srgbClr val="0059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 flipV="1">
            <a:off x="6888240" y="4946400"/>
            <a:ext cx="69840" cy="28440"/>
          </a:xfrm>
          <a:prstGeom prst="line">
            <a:avLst/>
          </a:prstGeom>
          <a:ln w="9360">
            <a:solidFill>
              <a:srgbClr val="005d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>
            <a:off x="6958080" y="4946760"/>
            <a:ext cx="77760" cy="17280"/>
          </a:xfrm>
          <a:prstGeom prst="line">
            <a:avLst/>
          </a:prstGeom>
          <a:ln w="9360">
            <a:solidFill>
              <a:srgbClr val="005d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>
            <a:off x="7035840" y="4964040"/>
            <a:ext cx="71280" cy="65160"/>
          </a:xfrm>
          <a:prstGeom prst="line">
            <a:avLst/>
          </a:prstGeom>
          <a:ln w="9360">
            <a:solidFill>
              <a:srgbClr val="005a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>
            <a:off x="7107120" y="5029200"/>
            <a:ext cx="47880" cy="108000"/>
          </a:xfrm>
          <a:prstGeom prst="line">
            <a:avLst/>
          </a:prstGeom>
          <a:ln w="9360">
            <a:solidFill>
              <a:srgbClr val="0055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>
            <a:off x="7155000" y="5137200"/>
            <a:ext cx="9360" cy="142920"/>
          </a:xfrm>
          <a:prstGeom prst="line">
            <a:avLst/>
          </a:prstGeom>
          <a:ln w="9360">
            <a:solidFill>
              <a:srgbClr val="004c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"/>
          <p:cNvSpPr/>
          <p:nvPr/>
        </p:nvSpPr>
        <p:spPr>
          <a:xfrm flipH="1">
            <a:off x="7126200" y="5280120"/>
            <a:ext cx="38160" cy="162000"/>
          </a:xfrm>
          <a:prstGeom prst="line">
            <a:avLst/>
          </a:prstGeom>
          <a:ln w="9360">
            <a:solidFill>
              <a:srgbClr val="0042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"/>
          <p:cNvSpPr/>
          <p:nvPr/>
        </p:nvSpPr>
        <p:spPr>
          <a:xfrm flipH="1">
            <a:off x="7032600" y="5442120"/>
            <a:ext cx="93600" cy="168120"/>
          </a:xfrm>
          <a:prstGeom prst="line">
            <a:avLst/>
          </a:prstGeom>
          <a:ln w="9360">
            <a:solidFill>
              <a:srgbClr val="0037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 flipH="1">
            <a:off x="6883560" y="5610240"/>
            <a:ext cx="149040" cy="154080"/>
          </a:xfrm>
          <a:prstGeom prst="line">
            <a:avLst/>
          </a:prstGeom>
          <a:ln w="9360">
            <a:solidFill>
              <a:srgbClr val="002c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 flipH="1">
            <a:off x="6679800" y="5764320"/>
            <a:ext cx="203400" cy="125280"/>
          </a:xfrm>
          <a:prstGeom prst="line">
            <a:avLst/>
          </a:prstGeom>
          <a:ln w="9360">
            <a:solidFill>
              <a:srgbClr val="0022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 flipH="1">
            <a:off x="6435360" y="5889600"/>
            <a:ext cx="244440" cy="77760"/>
          </a:xfrm>
          <a:prstGeom prst="line">
            <a:avLst/>
          </a:prstGeom>
          <a:ln w="9360">
            <a:solidFill>
              <a:srgbClr val="001c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 flipH="1">
            <a:off x="6159240" y="5967360"/>
            <a:ext cx="276120" cy="20520"/>
          </a:xfrm>
          <a:prstGeom prst="line">
            <a:avLst/>
          </a:prstGeom>
          <a:ln w="9360">
            <a:solidFill>
              <a:srgbClr val="0018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 flipH="1" flipV="1">
            <a:off x="5872320" y="5943240"/>
            <a:ext cx="287280" cy="44280"/>
          </a:xfrm>
          <a:prstGeom prst="line">
            <a:avLst/>
          </a:prstGeom>
          <a:ln w="9360">
            <a:solidFill>
              <a:srgbClr val="0019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 flipH="1" flipV="1">
            <a:off x="5587920" y="5827680"/>
            <a:ext cx="284400" cy="115920"/>
          </a:xfrm>
          <a:prstGeom prst="line">
            <a:avLst/>
          </a:prstGeom>
          <a:ln w="9360">
            <a:solidFill>
              <a:srgbClr val="001e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 flipH="1" flipV="1">
            <a:off x="5330880" y="5646240"/>
            <a:ext cx="257040" cy="181080"/>
          </a:xfrm>
          <a:prstGeom prst="line">
            <a:avLst/>
          </a:prstGeom>
          <a:ln w="9360">
            <a:solidFill>
              <a:srgbClr val="0028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"/>
          <p:cNvSpPr/>
          <p:nvPr/>
        </p:nvSpPr>
        <p:spPr>
          <a:xfrm flipH="1" flipV="1">
            <a:off x="5113440" y="5405400"/>
            <a:ext cx="217440" cy="241200"/>
          </a:xfrm>
          <a:prstGeom prst="line">
            <a:avLst/>
          </a:prstGeom>
          <a:ln w="9360">
            <a:solidFill>
              <a:srgbClr val="0037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 flipH="1" flipV="1">
            <a:off x="4952880" y="5118120"/>
            <a:ext cx="160560" cy="287280"/>
          </a:xfrm>
          <a:prstGeom prst="line">
            <a:avLst/>
          </a:prstGeom>
          <a:ln w="9360">
            <a:solidFill>
              <a:srgbClr val="0048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 flipH="1" flipV="1">
            <a:off x="4860720" y="4800600"/>
            <a:ext cx="91800" cy="317520"/>
          </a:xfrm>
          <a:prstGeom prst="line">
            <a:avLst/>
          </a:prstGeom>
          <a:ln w="9360">
            <a:solidFill>
              <a:srgbClr val="005d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 flipH="1" flipV="1">
            <a:off x="4840200" y="4471560"/>
            <a:ext cx="20880" cy="328680"/>
          </a:xfrm>
          <a:prstGeom prst="line">
            <a:avLst/>
          </a:prstGeom>
          <a:ln w="9360">
            <a:solidFill>
              <a:srgbClr val="0073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 flipV="1">
            <a:off x="4840200" y="4149360"/>
            <a:ext cx="52560" cy="322200"/>
          </a:xfrm>
          <a:prstGeom prst="line">
            <a:avLst/>
          </a:prstGeom>
          <a:ln w="9360">
            <a:solidFill>
              <a:srgbClr val="0089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 flipV="1">
            <a:off x="4892760" y="3854520"/>
            <a:ext cx="122040" cy="295200"/>
          </a:xfrm>
          <a:prstGeom prst="line">
            <a:avLst/>
          </a:prstGeom>
          <a:ln w="9360">
            <a:solidFill>
              <a:srgbClr val="009d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 flipV="1">
            <a:off x="5014800" y="3600360"/>
            <a:ext cx="177840" cy="254160"/>
          </a:xfrm>
          <a:prstGeom prst="line">
            <a:avLst/>
          </a:prstGeom>
          <a:ln w="9360">
            <a:solidFill>
              <a:srgbClr val="00b0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 flipV="1">
            <a:off x="5192640" y="3403080"/>
            <a:ext cx="222480" cy="196920"/>
          </a:xfrm>
          <a:prstGeom prst="line">
            <a:avLst/>
          </a:prstGeom>
          <a:ln w="9360">
            <a:solidFill>
              <a:srgbClr val="00bf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 flipV="1">
            <a:off x="5415120" y="3268800"/>
            <a:ext cx="247320" cy="134640"/>
          </a:xfrm>
          <a:prstGeom prst="line">
            <a:avLst/>
          </a:prstGeom>
          <a:ln w="9360">
            <a:solidFill>
              <a:srgbClr val="00ca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 flipV="1">
            <a:off x="5662440" y="3198960"/>
            <a:ext cx="257400" cy="69840"/>
          </a:xfrm>
          <a:prstGeom prst="line">
            <a:avLst/>
          </a:prstGeom>
          <a:ln w="9360">
            <a:solidFill>
              <a:srgbClr val="00d1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 flipV="1">
            <a:off x="5919840" y="3193920"/>
            <a:ext cx="244440" cy="5040"/>
          </a:xfrm>
          <a:prstGeom prst="line">
            <a:avLst/>
          </a:prstGeom>
          <a:ln w="9360">
            <a:solidFill>
              <a:srgbClr val="00d4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>
            <a:off x="6164280" y="3193920"/>
            <a:ext cx="218880" cy="47880"/>
          </a:xfrm>
          <a:prstGeom prst="line">
            <a:avLst/>
          </a:prstGeom>
          <a:ln w="9360">
            <a:solidFill>
              <a:srgbClr val="00d2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"/>
          <p:cNvSpPr/>
          <p:nvPr/>
        </p:nvSpPr>
        <p:spPr>
          <a:xfrm>
            <a:off x="6383160" y="3241800"/>
            <a:ext cx="177840" cy="91800"/>
          </a:xfrm>
          <a:prstGeom prst="line">
            <a:avLst/>
          </a:prstGeom>
          <a:ln w="9360">
            <a:solidFill>
              <a:srgbClr val="00cd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"/>
          <p:cNvSpPr/>
          <p:nvPr/>
        </p:nvSpPr>
        <p:spPr>
          <a:xfrm>
            <a:off x="6561000" y="3333600"/>
            <a:ext cx="130320" cy="120960"/>
          </a:xfrm>
          <a:prstGeom prst="line">
            <a:avLst/>
          </a:prstGeom>
          <a:ln w="9360">
            <a:solidFill>
              <a:srgbClr val="00c6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"/>
          <p:cNvSpPr/>
          <p:nvPr/>
        </p:nvSpPr>
        <p:spPr>
          <a:xfrm>
            <a:off x="6691320" y="3454560"/>
            <a:ext cx="77760" cy="129960"/>
          </a:xfrm>
          <a:prstGeom prst="line">
            <a:avLst/>
          </a:prstGeom>
          <a:ln w="9360">
            <a:solidFill>
              <a:srgbClr val="00be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>
            <a:off x="6769080" y="3584520"/>
            <a:ext cx="25560" cy="125640"/>
          </a:xfrm>
          <a:prstGeom prst="line">
            <a:avLst/>
          </a:prstGeom>
          <a:ln w="9360">
            <a:solidFill>
              <a:srgbClr val="00b5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 flipH="1">
            <a:off x="6776640" y="3710160"/>
            <a:ext cx="17640" cy="101520"/>
          </a:xfrm>
          <a:prstGeom prst="line">
            <a:avLst/>
          </a:prstGeom>
          <a:ln w="9360">
            <a:solidFill>
              <a:srgbClr val="00ae5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 flipH="1">
            <a:off x="6724440" y="3811680"/>
            <a:ext cx="52200" cy="68040"/>
          </a:xfrm>
          <a:prstGeom prst="line">
            <a:avLst/>
          </a:prstGeom>
          <a:ln w="9360">
            <a:solidFill>
              <a:srgbClr val="00a8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"/>
          <p:cNvSpPr/>
          <p:nvPr/>
        </p:nvSpPr>
        <p:spPr>
          <a:xfrm flipH="1">
            <a:off x="6652800" y="3879720"/>
            <a:ext cx="71640" cy="25560"/>
          </a:xfrm>
          <a:prstGeom prst="line">
            <a:avLst/>
          </a:prstGeom>
          <a:ln w="9360">
            <a:solidFill>
              <a:srgbClr val="00a5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"/>
          <p:cNvSpPr/>
          <p:nvPr/>
        </p:nvSpPr>
        <p:spPr>
          <a:xfrm flipH="1" flipV="1">
            <a:off x="6579720" y="3882960"/>
            <a:ext cx="73080" cy="22320"/>
          </a:xfrm>
          <a:prstGeom prst="line">
            <a:avLst/>
          </a:prstGeom>
          <a:ln w="9360">
            <a:solidFill>
              <a:srgbClr val="00a5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 flipH="1" flipV="1">
            <a:off x="6518160" y="3816000"/>
            <a:ext cx="61920" cy="66600"/>
          </a:xfrm>
          <a:prstGeom prst="line">
            <a:avLst/>
          </a:prstGeom>
          <a:ln w="9360">
            <a:solidFill>
              <a:srgbClr val="00a8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 flipH="1" flipV="1">
            <a:off x="6486480" y="3709800"/>
            <a:ext cx="31680" cy="106200"/>
          </a:xfrm>
          <a:prstGeom prst="line">
            <a:avLst/>
          </a:prstGeom>
          <a:ln w="9360">
            <a:solidFill>
              <a:srgbClr val="00ad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"/>
          <p:cNvSpPr/>
          <p:nvPr/>
        </p:nvSpPr>
        <p:spPr>
          <a:xfrm flipV="1">
            <a:off x="6486480" y="3574800"/>
            <a:ext cx="9720" cy="135000"/>
          </a:xfrm>
          <a:prstGeom prst="line">
            <a:avLst/>
          </a:prstGeom>
          <a:ln w="9360">
            <a:solidFill>
              <a:srgbClr val="00b6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 flipV="1">
            <a:off x="6496200" y="3427560"/>
            <a:ext cx="60120" cy="147600"/>
          </a:xfrm>
          <a:prstGeom prst="line">
            <a:avLst/>
          </a:prstGeom>
          <a:ln w="9360">
            <a:solidFill>
              <a:srgbClr val="00bf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 flipV="1">
            <a:off x="6556320" y="3282840"/>
            <a:ext cx="114480" cy="144720"/>
          </a:xfrm>
          <a:prstGeom prst="line">
            <a:avLst/>
          </a:prstGeom>
          <a:ln w="9360">
            <a:solidFill>
              <a:srgbClr val="00c9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 flipV="1">
            <a:off x="6670800" y="3159000"/>
            <a:ext cx="166680" cy="123840"/>
          </a:xfrm>
          <a:prstGeom prst="line">
            <a:avLst/>
          </a:prstGeom>
          <a:ln w="9360">
            <a:solidFill>
              <a:srgbClr val="00d2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"/>
          <p:cNvSpPr/>
          <p:nvPr/>
        </p:nvSpPr>
        <p:spPr>
          <a:xfrm flipV="1">
            <a:off x="6837480" y="3071880"/>
            <a:ext cx="214200" cy="87120"/>
          </a:xfrm>
          <a:prstGeom prst="line">
            <a:avLst/>
          </a:prstGeom>
          <a:ln w="9360">
            <a:solidFill>
              <a:srgbClr val="00d9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 flipV="1">
            <a:off x="7051680" y="3036600"/>
            <a:ext cx="249120" cy="34920"/>
          </a:xfrm>
          <a:prstGeom prst="line">
            <a:avLst/>
          </a:prstGeom>
          <a:ln w="9360">
            <a:solidFill>
              <a:srgbClr val="00dd2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>
            <a:off x="7300800" y="3036960"/>
            <a:ext cx="270000" cy="25200"/>
          </a:xfrm>
          <a:prstGeom prst="line">
            <a:avLst/>
          </a:prstGeom>
          <a:ln w="9360">
            <a:solidFill>
              <a:srgbClr val="00de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"/>
          <p:cNvSpPr/>
          <p:nvPr/>
        </p:nvSpPr>
        <p:spPr>
          <a:xfrm>
            <a:off x="7570800" y="3062160"/>
            <a:ext cx="271440" cy="92160"/>
          </a:xfrm>
          <a:prstGeom prst="line">
            <a:avLst/>
          </a:prstGeom>
          <a:ln w="9360">
            <a:solidFill>
              <a:srgbClr val="00da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"/>
          <p:cNvSpPr/>
          <p:nvPr/>
        </p:nvSpPr>
        <p:spPr>
          <a:xfrm>
            <a:off x="7842240" y="3154320"/>
            <a:ext cx="255600" cy="158760"/>
          </a:xfrm>
          <a:prstGeom prst="line">
            <a:avLst/>
          </a:prstGeom>
          <a:ln w="9360">
            <a:solidFill>
              <a:srgbClr val="00d1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"/>
          <p:cNvSpPr/>
          <p:nvPr/>
        </p:nvSpPr>
        <p:spPr>
          <a:xfrm>
            <a:off x="8097840" y="3313080"/>
            <a:ext cx="222120" cy="222120"/>
          </a:xfrm>
          <a:prstGeom prst="line">
            <a:avLst/>
          </a:prstGeom>
          <a:ln w="9360">
            <a:solidFill>
              <a:srgbClr val="00c4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8319960" y="3535200"/>
            <a:ext cx="171720" cy="271800"/>
          </a:xfrm>
          <a:prstGeom prst="line">
            <a:avLst/>
          </a:prstGeom>
          <a:ln w="9360">
            <a:solidFill>
              <a:srgbClr val="00b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8491680" y="3807000"/>
            <a:ext cx="107640" cy="309240"/>
          </a:xfrm>
          <a:prstGeom prst="line">
            <a:avLst/>
          </a:prstGeom>
          <a:ln w="9360">
            <a:solidFill>
              <a:srgbClr val="00a0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"/>
          <p:cNvSpPr/>
          <p:nvPr/>
        </p:nvSpPr>
        <p:spPr>
          <a:xfrm>
            <a:off x="8599320" y="4116240"/>
            <a:ext cx="36720" cy="328680"/>
          </a:xfrm>
          <a:prstGeom prst="line">
            <a:avLst/>
          </a:prstGeom>
          <a:ln w="9360">
            <a:solidFill>
              <a:srgbClr val="008b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ff"/>
            </a:gs>
            <a:gs pos="100000">
              <a:srgbClr val="ff8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ff"/>
            </a:gs>
            <a:gs pos="100000">
              <a:srgbClr val="ff8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tion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itle sli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llet Point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llet Point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llet Point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r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h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lke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ming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m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yclo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d by the equati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t = 150 * (27 * Cos(t) + 15 * Cos(t * 20 / 7)) / 42 + 4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t = 150 * (27 * Sin(t) + 15 * Sin(t * 20 / 7)) / 42 + 3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0 &lt;= t &lt;= 14 * P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8599320" y="4444920"/>
            <a:ext cx="36720" cy="328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8491320" y="4773600"/>
            <a:ext cx="107640" cy="309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8319600" y="5083200"/>
            <a:ext cx="171720" cy="27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8097480" y="5354640"/>
            <a:ext cx="222120" cy="22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7842240" y="5576760"/>
            <a:ext cx="255600" cy="15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7570800" y="5735520"/>
            <a:ext cx="271440" cy="9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7300800" y="5827680"/>
            <a:ext cx="270000" cy="25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H="1" flipV="1">
            <a:off x="7051680" y="5817960"/>
            <a:ext cx="249120" cy="3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 flipV="1">
            <a:off x="6837120" y="5730480"/>
            <a:ext cx="214200" cy="87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6670440" y="5607000"/>
            <a:ext cx="166680" cy="123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 flipV="1">
            <a:off x="6556320" y="5462280"/>
            <a:ext cx="11448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 flipV="1">
            <a:off x="6495840" y="5315040"/>
            <a:ext cx="60120" cy="147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H="1" flipV="1">
            <a:off x="6486120" y="5179680"/>
            <a:ext cx="9720" cy="13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6486480" y="5073480"/>
            <a:ext cx="31680" cy="106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6518160" y="5006520"/>
            <a:ext cx="61920" cy="6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6580080" y="4984560"/>
            <a:ext cx="73080" cy="2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653160" y="4984920"/>
            <a:ext cx="71640" cy="25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724800" y="5010120"/>
            <a:ext cx="52200" cy="68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777000" y="5078520"/>
            <a:ext cx="17640" cy="101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6768720" y="5180040"/>
            <a:ext cx="25560" cy="12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6691320" y="5305320"/>
            <a:ext cx="77760" cy="130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6561000" y="5435640"/>
            <a:ext cx="130320" cy="120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6383160" y="5556240"/>
            <a:ext cx="177840" cy="9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6164280" y="5648400"/>
            <a:ext cx="218880" cy="4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5918040" y="5690880"/>
            <a:ext cx="24624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 flipV="1">
            <a:off x="5662440" y="5621400"/>
            <a:ext cx="255600" cy="6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 flipV="1">
            <a:off x="5414760" y="5486040"/>
            <a:ext cx="247320" cy="13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192640" y="5289120"/>
            <a:ext cx="222480" cy="196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5014800" y="5035320"/>
            <a:ext cx="177840" cy="25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 flipV="1">
            <a:off x="4892400" y="4739760"/>
            <a:ext cx="122040" cy="295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H="1" flipV="1">
            <a:off x="4840200" y="4417560"/>
            <a:ext cx="52560" cy="322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4840200" y="4088880"/>
            <a:ext cx="20880" cy="328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4861080" y="3771720"/>
            <a:ext cx="91800" cy="317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4952880" y="3484080"/>
            <a:ext cx="160560" cy="28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5113440" y="3243240"/>
            <a:ext cx="217440" cy="24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5330880" y="3061800"/>
            <a:ext cx="258840" cy="1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5589720" y="2946240"/>
            <a:ext cx="282600" cy="115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5872320" y="2901600"/>
            <a:ext cx="287280" cy="44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159600" y="2901960"/>
            <a:ext cx="276120" cy="20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435720" y="2922480"/>
            <a:ext cx="244440" cy="77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680160" y="3000240"/>
            <a:ext cx="203400" cy="12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883560" y="3125880"/>
            <a:ext cx="149040" cy="15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032600" y="3279600"/>
            <a:ext cx="93600" cy="16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126200" y="3448080"/>
            <a:ext cx="38160" cy="16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7155000" y="3610080"/>
            <a:ext cx="936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7106760" y="3753000"/>
            <a:ext cx="47880" cy="10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7035840" y="3860640"/>
            <a:ext cx="71280" cy="65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6958080" y="3925800"/>
            <a:ext cx="77760" cy="1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H="1" flipV="1">
            <a:off x="6888240" y="3914640"/>
            <a:ext cx="69840" cy="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 flipV="1">
            <a:off x="6845040" y="3846240"/>
            <a:ext cx="42840" cy="68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H="1" flipV="1">
            <a:off x="6837480" y="3749400"/>
            <a:ext cx="7920" cy="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6837480" y="3636720"/>
            <a:ext cx="39600" cy="11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6877080" y="3524040"/>
            <a:ext cx="90360" cy="11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6967440" y="3430080"/>
            <a:ext cx="141480" cy="93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7108920" y="3369960"/>
            <a:ext cx="183960" cy="60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7292880" y="3357360"/>
            <a:ext cx="216000" cy="12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508880" y="3357720"/>
            <a:ext cx="235080" cy="4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743960" y="3403440"/>
            <a:ext cx="236520" cy="1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980480" y="3511440"/>
            <a:ext cx="217440" cy="17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8197920" y="3683160"/>
            <a:ext cx="182520" cy="230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8380440" y="3913200"/>
            <a:ext cx="130320" cy="27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8510760" y="4189320"/>
            <a:ext cx="68040" cy="309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8575200" y="4498920"/>
            <a:ext cx="3240" cy="3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8499240" y="4822920"/>
            <a:ext cx="75960" cy="320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8353440" y="5143680"/>
            <a:ext cx="146160" cy="296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8145360" y="5440320"/>
            <a:ext cx="208080" cy="255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7889760" y="5695920"/>
            <a:ext cx="255600" cy="20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7601040" y="5897520"/>
            <a:ext cx="288720" cy="136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7299360" y="6033960"/>
            <a:ext cx="301680" cy="65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H="1" flipV="1">
            <a:off x="7002000" y="6094080"/>
            <a:ext cx="297000" cy="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6730920" y="6026040"/>
            <a:ext cx="271440" cy="68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H="1" flipV="1">
            <a:off x="6496200" y="5905080"/>
            <a:ext cx="234720" cy="120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6313320" y="5743440"/>
            <a:ext cx="182880" cy="16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 flipV="1">
            <a:off x="6186600" y="5560560"/>
            <a:ext cx="126720" cy="182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6118200" y="5373720"/>
            <a:ext cx="68400" cy="18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H="1" flipV="1">
            <a:off x="6103800" y="5200200"/>
            <a:ext cx="14400" cy="1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6103800" y="5052960"/>
            <a:ext cx="32040" cy="147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6135840" y="4946400"/>
            <a:ext cx="64800" cy="10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6200640" y="4884840"/>
            <a:ext cx="82800" cy="61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6283440" y="4871880"/>
            <a:ext cx="83880" cy="12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367320" y="4871880"/>
            <a:ext cx="68400" cy="32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435720" y="4903920"/>
            <a:ext cx="38160" cy="68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6470280" y="4971960"/>
            <a:ext cx="3240" cy="9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6419520" y="5064120"/>
            <a:ext cx="50760" cy="100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>
            <a:off x="6319800" y="5164200"/>
            <a:ext cx="100080" cy="93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6173640" y="5257800"/>
            <a:ext cx="146160" cy="68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990760" y="5326200"/>
            <a:ext cx="182520" cy="2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H="1" flipV="1">
            <a:off x="5781600" y="5332320"/>
            <a:ext cx="20952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H="1" flipV="1">
            <a:off x="5564160" y="5250960"/>
            <a:ext cx="217440" cy="81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H="1" flipV="1">
            <a:off x="5354640" y="5108040"/>
            <a:ext cx="20952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H="1" flipV="1">
            <a:off x="5173200" y="4906800"/>
            <a:ext cx="181080" cy="20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H="1" flipV="1">
            <a:off x="5033880" y="4652640"/>
            <a:ext cx="139680" cy="25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4952520" y="4362120"/>
            <a:ext cx="81000" cy="290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H="1" flipV="1">
            <a:off x="4938480" y="4047840"/>
            <a:ext cx="14040" cy="314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938840" y="3730680"/>
            <a:ext cx="5868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4997520" y="3430440"/>
            <a:ext cx="129960" cy="300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5127480" y="3161880"/>
            <a:ext cx="195480" cy="268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5322960" y="2946240"/>
            <a:ext cx="24912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5572080" y="2790720"/>
            <a:ext cx="287280" cy="155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5859360" y="2706480"/>
            <a:ext cx="309600" cy="8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6168960" y="2692440"/>
            <a:ext cx="312840" cy="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481800" y="2692440"/>
            <a:ext cx="295200" cy="55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777000" y="2747880"/>
            <a:ext cx="262080" cy="115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039080" y="2863800"/>
            <a:ext cx="214200" cy="16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253280" y="3025800"/>
            <a:ext cx="158760" cy="19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412040" y="3220920"/>
            <a:ext cx="96840" cy="206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08880" y="3427560"/>
            <a:ext cx="38160" cy="203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7534080" y="3630600"/>
            <a:ext cx="12600" cy="1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7476840" y="3811680"/>
            <a:ext cx="57240" cy="147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7394400" y="3959280"/>
            <a:ext cx="82800" cy="102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H="1">
            <a:off x="7299360" y="4062240"/>
            <a:ext cx="95040" cy="5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flipH="1">
            <a:off x="7210080" y="4118040"/>
            <a:ext cx="889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H="1" flipV="1">
            <a:off x="7142040" y="4087440"/>
            <a:ext cx="68400" cy="3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H="1" flipV="1">
            <a:off x="7108920" y="4020840"/>
            <a:ext cx="33120" cy="6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7108920" y="3933360"/>
            <a:ext cx="9360" cy="87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7118280" y="3844440"/>
            <a:ext cx="58680" cy="8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7176960" y="3772080"/>
            <a:ext cx="106560" cy="7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7283520" y="3727440"/>
            <a:ext cx="146160" cy="44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7429680" y="3727440"/>
            <a:ext cx="179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608960" y="3727440"/>
            <a:ext cx="195120" cy="5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804080" y="3781440"/>
            <a:ext cx="195480" cy="11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7999560" y="3894120"/>
            <a:ext cx="177480" cy="171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8177040" y="4065480"/>
            <a:ext cx="142920" cy="225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8319960" y="4290840"/>
            <a:ext cx="92160" cy="268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8412120" y="4559400"/>
            <a:ext cx="30240" cy="296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H="1">
            <a:off x="8402760" y="4856040"/>
            <a:ext cx="39600" cy="308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8291160" y="5164200"/>
            <a:ext cx="111240" cy="301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flipH="1">
            <a:off x="8112240" y="5465880"/>
            <a:ext cx="179280" cy="272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 flipH="1">
            <a:off x="7875360" y="5738760"/>
            <a:ext cx="2365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7591320" y="5967360"/>
            <a:ext cx="284400" cy="171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7280280" y="6138720"/>
            <a:ext cx="311040" cy="10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6957720" y="6242040"/>
            <a:ext cx="322200" cy="30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H="1" flipV="1">
            <a:off x="6644880" y="6232680"/>
            <a:ext cx="312840" cy="39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 flipH="1" flipV="1">
            <a:off x="6359400" y="6126120"/>
            <a:ext cx="285840" cy="106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 flipV="1">
            <a:off x="6118200" y="5964120"/>
            <a:ext cx="241200" cy="16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5931000" y="5763960"/>
            <a:ext cx="187200" cy="199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 flipV="1">
            <a:off x="5803560" y="5541840"/>
            <a:ext cx="127080" cy="22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H="1" flipV="1">
            <a:off x="5738400" y="5315040"/>
            <a:ext cx="65160" cy="226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flipH="1" flipV="1">
            <a:off x="5733720" y="5100480"/>
            <a:ext cx="4680" cy="21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5734080" y="4916160"/>
            <a:ext cx="44280" cy="183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5778360" y="4771800"/>
            <a:ext cx="8100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859360" y="4676400"/>
            <a:ext cx="103320" cy="95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962680" y="4630680"/>
            <a:ext cx="106200" cy="46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6068880" y="4630680"/>
            <a:ext cx="954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164280" y="4632480"/>
            <a:ext cx="68400" cy="41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232680" y="4673520"/>
            <a:ext cx="29880" cy="68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6246720" y="4741920"/>
            <a:ext cx="15840" cy="81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6183360" y="4822920"/>
            <a:ext cx="63360" cy="77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flipH="1">
            <a:off x="6075360" y="4900680"/>
            <a:ext cx="108000" cy="55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flipH="1">
            <a:off x="5930640" y="4956120"/>
            <a:ext cx="144360" cy="20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H="1" flipV="1">
            <a:off x="5761080" y="4950000"/>
            <a:ext cx="169920" cy="26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H="1" flipV="1">
            <a:off x="5583240" y="4868640"/>
            <a:ext cx="177840" cy="81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 flipV="1">
            <a:off x="5414760" y="4729320"/>
            <a:ext cx="168120" cy="13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 flipH="1" flipV="1">
            <a:off x="5271840" y="4535640"/>
            <a:ext cx="142920" cy="193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flipH="1" flipV="1">
            <a:off x="5172120" y="4295880"/>
            <a:ext cx="100080" cy="239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 flipH="1" flipV="1">
            <a:off x="5127480" y="4019400"/>
            <a:ext cx="44640" cy="276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V="1">
            <a:off x="5127480" y="3727080"/>
            <a:ext cx="20880" cy="29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flipV="1">
            <a:off x="5148360" y="3433680"/>
            <a:ext cx="90360" cy="293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flipV="1">
            <a:off x="5238720" y="3158640"/>
            <a:ext cx="158760" cy="27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V="1">
            <a:off x="5397480" y="2920680"/>
            <a:ext cx="222120" cy="237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5619600" y="2736720"/>
            <a:ext cx="273240" cy="184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 flipV="1">
            <a:off x="5892840" y="2615760"/>
            <a:ext cx="307800" cy="120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6200640" y="2568600"/>
            <a:ext cx="327240" cy="4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6527880" y="2568600"/>
            <a:ext cx="323640" cy="25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851520" y="2593800"/>
            <a:ext cx="303480" cy="95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155000" y="2689200"/>
            <a:ext cx="266400" cy="154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7421400" y="2843280"/>
            <a:ext cx="214560" cy="203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7635960" y="3046320"/>
            <a:ext cx="154080" cy="23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7790040" y="3279600"/>
            <a:ext cx="88560" cy="24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7878600" y="3527280"/>
            <a:ext cx="27000" cy="239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flipH="1">
            <a:off x="7875360" y="3767040"/>
            <a:ext cx="29880" cy="219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flipH="1">
            <a:off x="7799400" y="3986280"/>
            <a:ext cx="76320" cy="182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H="1">
            <a:off x="7691400" y="4168800"/>
            <a:ext cx="108000" cy="13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H="1">
            <a:off x="7570440" y="4303800"/>
            <a:ext cx="120600" cy="8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 flipH="1">
            <a:off x="7451280" y="4387680"/>
            <a:ext cx="119160" cy="33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H="1" flipV="1">
            <a:off x="7351560" y="4409640"/>
            <a:ext cx="10008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flipH="1" flipV="1">
            <a:off x="7283160" y="4362480"/>
            <a:ext cx="68040" cy="4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 flipH="1" flipV="1">
            <a:off x="7256160" y="4290480"/>
            <a:ext cx="2700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 flipV="1">
            <a:off x="7256520" y="4214520"/>
            <a:ext cx="1908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7275600" y="4149360"/>
            <a:ext cx="66600" cy="65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7342200" y="4110120"/>
            <a:ext cx="108000" cy="39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7450200" y="4110120"/>
            <a:ext cx="137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7588080" y="4110120"/>
            <a:ext cx="155880" cy="50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743960" y="4160880"/>
            <a:ext cx="156960" cy="10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7900920" y="4264200"/>
            <a:ext cx="139680" cy="16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8040600" y="4424400"/>
            <a:ext cx="104760" cy="20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8145360" y="4632480"/>
            <a:ext cx="57240" cy="249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 flipH="1">
            <a:off x="8201160" y="4881600"/>
            <a:ext cx="1440" cy="272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 flipH="1">
            <a:off x="8131320" y="5154480"/>
            <a:ext cx="69840" cy="28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H="1">
            <a:off x="7993080" y="5435640"/>
            <a:ext cx="138240" cy="27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H="1">
            <a:off x="7791480" y="5705640"/>
            <a:ext cx="201600" cy="24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 flipH="1">
            <a:off x="7534440" y="5946840"/>
            <a:ext cx="257040" cy="19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>
            <a:off x="7234200" y="6141960"/>
            <a:ext cx="300240" cy="13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 flipH="1">
            <a:off x="6910200" y="6276960"/>
            <a:ext cx="323640" cy="65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6580080" y="6332040"/>
            <a:ext cx="330480" cy="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 flipH="1" flipV="1">
            <a:off x="6262560" y="6251040"/>
            <a:ext cx="317520" cy="81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 flipH="1" flipV="1">
            <a:off x="5976720" y="6105240"/>
            <a:ext cx="285480" cy="14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 flipH="1" flipV="1">
            <a:off x="5738760" y="5905440"/>
            <a:ext cx="238320" cy="200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 flipH="1" flipV="1">
            <a:off x="5559480" y="5665680"/>
            <a:ext cx="179280" cy="239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 flipH="1" flipV="1">
            <a:off x="5446440" y="5403600"/>
            <a:ext cx="112680" cy="26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 flipH="1" flipV="1">
            <a:off x="5397120" y="5140440"/>
            <a:ext cx="49320" cy="26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flipV="1">
            <a:off x="5397480" y="4892760"/>
            <a:ext cx="15840" cy="24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V="1">
            <a:off x="5413320" y="4675320"/>
            <a:ext cx="66600" cy="21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5479920" y="4501800"/>
            <a:ext cx="109800" cy="1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V="1">
            <a:off x="5589720" y="4378320"/>
            <a:ext cx="131760" cy="123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 flipV="1">
            <a:off x="5721480" y="4309920"/>
            <a:ext cx="139680" cy="68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 flipV="1">
            <a:off x="5861160" y="4290480"/>
            <a:ext cx="129960" cy="1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5991120" y="4290840"/>
            <a:ext cx="104760" cy="25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6095880" y="4316400"/>
            <a:ext cx="66960" cy="55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6162840" y="4371840"/>
            <a:ext cx="2376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>
            <a:off x="6162840" y="4444920"/>
            <a:ext cx="2376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H="1">
            <a:off x="6095880" y="4518000"/>
            <a:ext cx="66960" cy="55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H="1">
            <a:off x="5990760" y="4573440"/>
            <a:ext cx="104760" cy="25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H="1" flipV="1">
            <a:off x="5860800" y="4579560"/>
            <a:ext cx="129960" cy="1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 flipH="1" flipV="1">
            <a:off x="5721480" y="4511520"/>
            <a:ext cx="139680" cy="68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 flipH="1" flipV="1">
            <a:off x="5589720" y="4387680"/>
            <a:ext cx="131760" cy="123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H="1" flipV="1">
            <a:off x="5479560" y="4214880"/>
            <a:ext cx="109800" cy="172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 flipH="1" flipV="1">
            <a:off x="5412960" y="3997440"/>
            <a:ext cx="66600" cy="21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 flipH="1" flipV="1">
            <a:off x="5397480" y="3749760"/>
            <a:ext cx="15840" cy="24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5397480" y="3486240"/>
            <a:ext cx="47520" cy="26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5445000" y="3224160"/>
            <a:ext cx="114480" cy="262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 flipV="1">
            <a:off x="5559480" y="2984400"/>
            <a:ext cx="179280" cy="239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 flipV="1">
            <a:off x="5738760" y="2784240"/>
            <a:ext cx="238320" cy="199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flipV="1">
            <a:off x="5977080" y="2638440"/>
            <a:ext cx="285480" cy="14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6262560" y="2557080"/>
            <a:ext cx="317520" cy="81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V="1">
            <a:off x="6580080" y="2548080"/>
            <a:ext cx="330480" cy="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6910560" y="2548080"/>
            <a:ext cx="323640" cy="64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7234200" y="2612880"/>
            <a:ext cx="300240" cy="13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534440" y="2747880"/>
            <a:ext cx="257040" cy="19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7791480" y="2943360"/>
            <a:ext cx="201600" cy="24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993080" y="3184560"/>
            <a:ext cx="138240" cy="27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8131320" y="3454560"/>
            <a:ext cx="69840" cy="280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8201160" y="3735360"/>
            <a:ext cx="1440" cy="27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 flipH="1">
            <a:off x="8145000" y="4008600"/>
            <a:ext cx="57240" cy="249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 flipH="1">
            <a:off x="8040240" y="4257720"/>
            <a:ext cx="104760" cy="20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 flipH="1">
            <a:off x="7900920" y="4465800"/>
            <a:ext cx="139680" cy="16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 flipH="1">
            <a:off x="7743960" y="4626000"/>
            <a:ext cx="156960" cy="10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 flipH="1">
            <a:off x="7587720" y="4729320"/>
            <a:ext cx="155880" cy="50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 flipH="1">
            <a:off x="7449840" y="4780080"/>
            <a:ext cx="137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 flipH="1" flipV="1">
            <a:off x="7342200" y="4739760"/>
            <a:ext cx="108000" cy="39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 flipH="1" flipV="1">
            <a:off x="7275240" y="4675320"/>
            <a:ext cx="66600" cy="64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 flipH="1" flipV="1">
            <a:off x="7256160" y="4599000"/>
            <a:ext cx="1908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 flipV="1">
            <a:off x="7256520" y="4527720"/>
            <a:ext cx="2700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 flipV="1">
            <a:off x="7283520" y="4479480"/>
            <a:ext cx="68040" cy="47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 flipV="1">
            <a:off x="7351560" y="4468320"/>
            <a:ext cx="10008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7451640" y="4468680"/>
            <a:ext cx="119160" cy="33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7570800" y="4502160"/>
            <a:ext cx="120600" cy="8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7691400" y="4586400"/>
            <a:ext cx="108000" cy="13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7799400" y="4721400"/>
            <a:ext cx="76320" cy="182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7875720" y="4903920"/>
            <a:ext cx="2988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7878240" y="5122800"/>
            <a:ext cx="27000" cy="239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 flipH="1">
            <a:off x="7790040" y="5362560"/>
            <a:ext cx="88560" cy="24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7635960" y="5610240"/>
            <a:ext cx="154080" cy="23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 flipH="1">
            <a:off x="7421400" y="5843520"/>
            <a:ext cx="214560" cy="203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7155000" y="6046920"/>
            <a:ext cx="266400" cy="15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 flipH="1">
            <a:off x="6851160" y="6200640"/>
            <a:ext cx="303480" cy="95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6527520" y="6296040"/>
            <a:ext cx="323640" cy="25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 flipH="1" flipV="1">
            <a:off x="6200280" y="6273360"/>
            <a:ext cx="327240" cy="47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 flipH="1" flipV="1">
            <a:off x="5892480" y="6152760"/>
            <a:ext cx="307800" cy="120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 flipH="1" flipV="1">
            <a:off x="5619240" y="5968800"/>
            <a:ext cx="273240" cy="183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 flipH="1" flipV="1">
            <a:off x="5397120" y="5730840"/>
            <a:ext cx="222120" cy="238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 flipH="1" flipV="1">
            <a:off x="5238360" y="5455800"/>
            <a:ext cx="158760" cy="27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 flipH="1" flipV="1">
            <a:off x="5148000" y="5162400"/>
            <a:ext cx="90360" cy="293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 flipH="1" flipV="1">
            <a:off x="5127480" y="4870080"/>
            <a:ext cx="20880" cy="29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 flipV="1">
            <a:off x="5127480" y="4593960"/>
            <a:ext cx="44640" cy="27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 flipV="1">
            <a:off x="5172120" y="4354560"/>
            <a:ext cx="100080" cy="239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 flipV="1">
            <a:off x="5272200" y="4160880"/>
            <a:ext cx="142920" cy="193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 flipV="1">
            <a:off x="5415120" y="4021200"/>
            <a:ext cx="168120" cy="13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 flipV="1">
            <a:off x="5583240" y="3939840"/>
            <a:ext cx="177840" cy="81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 flipV="1">
            <a:off x="5761080" y="3912840"/>
            <a:ext cx="169920" cy="27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931000" y="3913200"/>
            <a:ext cx="144360" cy="20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6075360" y="3933720"/>
            <a:ext cx="108000" cy="5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183360" y="3989520"/>
            <a:ext cx="63360" cy="77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246720" y="4067280"/>
            <a:ext cx="15840" cy="81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6232320" y="4148280"/>
            <a:ext cx="29880" cy="68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 flipH="1">
            <a:off x="6164280" y="4216320"/>
            <a:ext cx="68400" cy="41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6068520" y="4257720"/>
            <a:ext cx="954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 flipH="1" flipV="1">
            <a:off x="5962320" y="4213080"/>
            <a:ext cx="106200" cy="46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 flipH="1" flipV="1">
            <a:off x="5859000" y="4118040"/>
            <a:ext cx="103320" cy="95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 flipH="1" flipV="1">
            <a:off x="5778000" y="3973320"/>
            <a:ext cx="8100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 flipH="1" flipV="1">
            <a:off x="5733720" y="3789360"/>
            <a:ext cx="44280" cy="184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 flipV="1">
            <a:off x="5734080" y="3574800"/>
            <a:ext cx="4680" cy="214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 flipV="1">
            <a:off x="5738760" y="3347640"/>
            <a:ext cx="65160" cy="227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 flipV="1">
            <a:off x="5803920" y="3125520"/>
            <a:ext cx="127080" cy="22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 flipV="1">
            <a:off x="5931000" y="2925720"/>
            <a:ext cx="187200" cy="200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 flipV="1">
            <a:off x="6118200" y="2763720"/>
            <a:ext cx="241200" cy="16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 flipV="1">
            <a:off x="6359400" y="2657160"/>
            <a:ext cx="285840" cy="10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 flipV="1">
            <a:off x="6645240" y="2617920"/>
            <a:ext cx="312840" cy="39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6958080" y="2617920"/>
            <a:ext cx="322200" cy="29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7280280" y="2647800"/>
            <a:ext cx="311040" cy="10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591320" y="2751120"/>
            <a:ext cx="284400" cy="171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7875720" y="2922480"/>
            <a:ext cx="2365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8112240" y="3151080"/>
            <a:ext cx="179280" cy="27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8291520" y="3424320"/>
            <a:ext cx="111240" cy="299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8402760" y="3724200"/>
            <a:ext cx="39600" cy="308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 flipH="1">
            <a:off x="8412120" y="4032360"/>
            <a:ext cx="30240" cy="29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 flipH="1">
            <a:off x="8319960" y="4330800"/>
            <a:ext cx="92160" cy="268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 flipH="1">
            <a:off x="8176680" y="4599000"/>
            <a:ext cx="142920" cy="223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 flipH="1">
            <a:off x="7999200" y="4822920"/>
            <a:ext cx="177480" cy="172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 flipH="1">
            <a:off x="7803720" y="4995720"/>
            <a:ext cx="195480" cy="11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 flipH="1">
            <a:off x="7608960" y="5108400"/>
            <a:ext cx="195120" cy="5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 flipH="1">
            <a:off x="7429680" y="5162400"/>
            <a:ext cx="179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flipH="1" flipV="1">
            <a:off x="7283520" y="5117760"/>
            <a:ext cx="146160" cy="44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flipH="1" flipV="1">
            <a:off x="7176960" y="5044680"/>
            <a:ext cx="10656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 flipH="1" flipV="1">
            <a:off x="7117920" y="4955760"/>
            <a:ext cx="58680" cy="8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 flipH="1" flipV="1">
            <a:off x="7108920" y="4870440"/>
            <a:ext cx="9360" cy="85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 flipV="1">
            <a:off x="7108920" y="4802040"/>
            <a:ext cx="33120" cy="68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 flipV="1">
            <a:off x="7142040" y="4765320"/>
            <a:ext cx="68400" cy="3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7210440" y="4765680"/>
            <a:ext cx="88920" cy="6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7299360" y="4772160"/>
            <a:ext cx="95040" cy="55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7394400" y="4827600"/>
            <a:ext cx="82800" cy="10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7477200" y="4930920"/>
            <a:ext cx="57240" cy="147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7534440" y="5078520"/>
            <a:ext cx="12600" cy="18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 flipH="1">
            <a:off x="7508880" y="5259240"/>
            <a:ext cx="38160" cy="203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 flipH="1">
            <a:off x="7411680" y="5462640"/>
            <a:ext cx="96840" cy="20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H="1">
            <a:off x="7252920" y="5668920"/>
            <a:ext cx="158760" cy="193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 flipH="1">
            <a:off x="7038720" y="5862600"/>
            <a:ext cx="214200" cy="16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6777000" y="6026040"/>
            <a:ext cx="262080" cy="115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 flipH="1">
            <a:off x="6481800" y="6141960"/>
            <a:ext cx="295200" cy="5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flipH="1" flipV="1">
            <a:off x="6168600" y="6183360"/>
            <a:ext cx="312840" cy="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 flipH="1" flipV="1">
            <a:off x="5859360" y="6099120"/>
            <a:ext cx="309600" cy="8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 flipH="1" flipV="1">
            <a:off x="5572080" y="5943600"/>
            <a:ext cx="287280" cy="155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 flipH="1" flipV="1">
            <a:off x="5322960" y="5727600"/>
            <a:ext cx="24912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 flipH="1" flipV="1">
            <a:off x="5127120" y="5459040"/>
            <a:ext cx="195480" cy="268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flipH="1" flipV="1">
            <a:off x="4997160" y="5159160"/>
            <a:ext cx="129960" cy="299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 flipH="1" flipV="1">
            <a:off x="4938480" y="4842000"/>
            <a:ext cx="5868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 flipV="1">
            <a:off x="4938840" y="4528800"/>
            <a:ext cx="14040" cy="312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 flipV="1">
            <a:off x="4952880" y="4236840"/>
            <a:ext cx="81000" cy="29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 flipV="1">
            <a:off x="5033880" y="3984480"/>
            <a:ext cx="138240" cy="2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 flipV="1">
            <a:off x="5172120" y="3781440"/>
            <a:ext cx="182520" cy="203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 flipV="1">
            <a:off x="5354640" y="3638160"/>
            <a:ext cx="20952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 flipV="1">
            <a:off x="5564160" y="3557160"/>
            <a:ext cx="217440" cy="81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 flipV="1">
            <a:off x="5781600" y="3535200"/>
            <a:ext cx="20808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5989680" y="3535200"/>
            <a:ext cx="183960" cy="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6173640" y="3564000"/>
            <a:ext cx="146160" cy="68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6319800" y="3632040"/>
            <a:ext cx="100080" cy="93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6419880" y="3726000"/>
            <a:ext cx="50760" cy="9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6470640" y="3825720"/>
            <a:ext cx="3240" cy="9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 flipH="1">
            <a:off x="6435720" y="3917880"/>
            <a:ext cx="38160" cy="68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 flipH="1">
            <a:off x="6367320" y="3986280"/>
            <a:ext cx="68400" cy="31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 flipH="1" flipV="1">
            <a:off x="6283080" y="4005000"/>
            <a:ext cx="83880" cy="12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 flipH="1" flipV="1">
            <a:off x="6200640" y="3943440"/>
            <a:ext cx="82800" cy="61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 flipH="1" flipV="1">
            <a:off x="6135840" y="3836880"/>
            <a:ext cx="64800" cy="106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 flipH="1" flipV="1">
            <a:off x="6103440" y="3689280"/>
            <a:ext cx="32040" cy="147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 flipV="1">
            <a:off x="6103800" y="3516480"/>
            <a:ext cx="14400" cy="172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 flipV="1">
            <a:off x="6118200" y="3328560"/>
            <a:ext cx="68400" cy="18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 flipV="1">
            <a:off x="6186600" y="3146040"/>
            <a:ext cx="126720" cy="182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 flipV="1">
            <a:off x="6313320" y="2984400"/>
            <a:ext cx="182880" cy="16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 flipV="1">
            <a:off x="6496200" y="2863440"/>
            <a:ext cx="234720" cy="120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 flipV="1">
            <a:off x="6730920" y="2795400"/>
            <a:ext cx="271440" cy="68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 flipV="1">
            <a:off x="7002360" y="2790720"/>
            <a:ext cx="297000" cy="5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7299360" y="2790720"/>
            <a:ext cx="301680" cy="65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7601040" y="2855880"/>
            <a:ext cx="288720" cy="136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7889760" y="2992320"/>
            <a:ext cx="255600" cy="200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8145360" y="3192480"/>
            <a:ext cx="208080" cy="25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8353440" y="3449520"/>
            <a:ext cx="146160" cy="297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8499600" y="3746520"/>
            <a:ext cx="75960" cy="320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8575560" y="4067280"/>
            <a:ext cx="3240" cy="32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 flipH="1">
            <a:off x="8510400" y="4390920"/>
            <a:ext cx="68040" cy="309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 flipH="1">
            <a:off x="8380440" y="4700520"/>
            <a:ext cx="130320" cy="27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 flipH="1">
            <a:off x="8197560" y="4976640"/>
            <a:ext cx="182520" cy="230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 flipH="1">
            <a:off x="7980480" y="5207040"/>
            <a:ext cx="217440" cy="171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 flipH="1">
            <a:off x="7743600" y="5378400"/>
            <a:ext cx="236520" cy="1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 flipH="1">
            <a:off x="7508520" y="5486400"/>
            <a:ext cx="235080" cy="46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 flipH="1" flipV="1">
            <a:off x="7292880" y="5519520"/>
            <a:ext cx="216000" cy="12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7108560" y="5459400"/>
            <a:ext cx="183960" cy="60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6967080" y="5365800"/>
            <a:ext cx="141480" cy="93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 flipH="1" flipV="1">
            <a:off x="6876720" y="5252760"/>
            <a:ext cx="90360" cy="11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 flipH="1" flipV="1">
            <a:off x="6837480" y="5140080"/>
            <a:ext cx="39600" cy="11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 flipV="1">
            <a:off x="6837480" y="5043240"/>
            <a:ext cx="7920" cy="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 flipV="1">
            <a:off x="6845400" y="4975200"/>
            <a:ext cx="42840" cy="68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 flipV="1">
            <a:off x="6888240" y="4946400"/>
            <a:ext cx="69840" cy="2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6958080" y="4946760"/>
            <a:ext cx="77760" cy="1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035840" y="4964040"/>
            <a:ext cx="71280" cy="65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7107120" y="5029200"/>
            <a:ext cx="47880" cy="1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7155000" y="5137200"/>
            <a:ext cx="936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H="1">
            <a:off x="7126200" y="5280120"/>
            <a:ext cx="38160" cy="16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 flipH="1">
            <a:off x="7032600" y="5442120"/>
            <a:ext cx="93600" cy="168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6883560" y="5610240"/>
            <a:ext cx="149040" cy="154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H="1">
            <a:off x="6679800" y="5764320"/>
            <a:ext cx="203400" cy="12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H="1">
            <a:off x="6435360" y="5889600"/>
            <a:ext cx="244440" cy="77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6159240" y="5967360"/>
            <a:ext cx="276120" cy="20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H="1" flipV="1">
            <a:off x="5872320" y="5943240"/>
            <a:ext cx="287280" cy="44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 flipH="1" flipV="1">
            <a:off x="5587920" y="5827680"/>
            <a:ext cx="284400" cy="115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 flipH="1" flipV="1">
            <a:off x="5330880" y="5646240"/>
            <a:ext cx="257040" cy="1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H="1" flipV="1">
            <a:off x="5113440" y="5405400"/>
            <a:ext cx="217440" cy="24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 flipH="1" flipV="1">
            <a:off x="4952880" y="5118120"/>
            <a:ext cx="16056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 flipH="1" flipV="1">
            <a:off x="4860720" y="4800600"/>
            <a:ext cx="9180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 flipH="1" flipV="1">
            <a:off x="4840200" y="4471560"/>
            <a:ext cx="20880" cy="328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 flipV="1">
            <a:off x="4840200" y="4149360"/>
            <a:ext cx="52560" cy="322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 flipV="1">
            <a:off x="4892760" y="3854520"/>
            <a:ext cx="122040" cy="295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 flipV="1">
            <a:off x="5014800" y="3600360"/>
            <a:ext cx="177840" cy="254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V="1">
            <a:off x="5192640" y="3403080"/>
            <a:ext cx="222480" cy="196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 flipV="1">
            <a:off x="5415120" y="3268800"/>
            <a:ext cx="247320" cy="134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V="1">
            <a:off x="5662440" y="3198960"/>
            <a:ext cx="257400" cy="6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 flipV="1">
            <a:off x="5919840" y="3193920"/>
            <a:ext cx="244440" cy="5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6164280" y="3193920"/>
            <a:ext cx="218880" cy="47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6383160" y="3241800"/>
            <a:ext cx="177840" cy="9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6561000" y="3333600"/>
            <a:ext cx="130320" cy="120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6691320" y="3454560"/>
            <a:ext cx="77760" cy="129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6769080" y="3584520"/>
            <a:ext cx="25560" cy="12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 flipH="1">
            <a:off x="6776640" y="3710160"/>
            <a:ext cx="17640" cy="101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6724440" y="3811680"/>
            <a:ext cx="52200" cy="68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H="1">
            <a:off x="6652800" y="3879720"/>
            <a:ext cx="71640" cy="25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H="1" flipV="1">
            <a:off x="6579720" y="3882960"/>
            <a:ext cx="7308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 flipH="1" flipV="1">
            <a:off x="6518160" y="3816000"/>
            <a:ext cx="61920" cy="6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 flipH="1" flipV="1">
            <a:off x="6486480" y="3709800"/>
            <a:ext cx="31680" cy="10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 flipV="1">
            <a:off x="6486480" y="3574800"/>
            <a:ext cx="9720" cy="13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 flipV="1">
            <a:off x="6496200" y="3427560"/>
            <a:ext cx="60120" cy="147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 flipV="1">
            <a:off x="6556320" y="3282840"/>
            <a:ext cx="11448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 flipV="1">
            <a:off x="6670800" y="3159000"/>
            <a:ext cx="166680" cy="123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 flipV="1">
            <a:off x="6837480" y="3071880"/>
            <a:ext cx="214200" cy="87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 flipV="1">
            <a:off x="7051680" y="3036600"/>
            <a:ext cx="249120" cy="3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7300800" y="3036960"/>
            <a:ext cx="270000" cy="25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7570800" y="3062160"/>
            <a:ext cx="271440" cy="9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7842240" y="3154320"/>
            <a:ext cx="255600" cy="15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8097840" y="3313080"/>
            <a:ext cx="222120" cy="22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8319960" y="3535200"/>
            <a:ext cx="171720" cy="27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8491680" y="3807000"/>
            <a:ext cx="107640" cy="309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8599320" y="4116240"/>
            <a:ext cx="36720" cy="328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5T19:14:57Z</dcterms:created>
  <dc:creator>Rod</dc:creator>
  <dc:description/>
  <dc:language>en-US</dc:language>
  <cp:lastModifiedBy>Rod</cp:lastModifiedBy>
  <dcterms:modified xsi:type="dcterms:W3CDTF">2003-07-07T22:49:52Z</dcterms:modified>
  <cp:revision>7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 Boolean">
    <vt:bool>0</vt:bool>
  </property>
  <property fmtid="{D5CDD505-2E9C-101B-9397-08002B2CF9AE}" pid="3" name="A date">
    <vt:filetime>1983-01-30T06:00:00Z</vt:filetime>
  </property>
  <property fmtid="{D5CDD505-2E9C-101B-9397-08002B2CF9AE}" pid="4" name="A float">
    <vt:r8>1.23</vt:r8>
  </property>
  <property fmtid="{D5CDD505-2E9C-101B-9397-08002B2CF9AE}" pid="5" name="A number">
    <vt:r8>20</vt:r8>
  </property>
  <property fmtid="{D5CDD505-2E9C-101B-9397-08002B2CF9AE}" pid="6" name="A string">
    <vt:lpwstr>http://www.vb-helper.com/office.htm</vt:lpwstr>
  </property>
</Properties>
</file>