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CFA-713B-4384-B615-B4DEB581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722-FD50-42AD-99E8-3EA659FF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0DE-B6C9-4C1E-B524-652288DD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D7D9-5666-41B7-BCF8-113F8FEA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4197-9204-44F1-B077-A56BEC25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ED8-43F8-4C16-8CDB-A10A992E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381-387A-41CB-A74D-9E0A3F49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F98-C646-4149-B2F1-58D8E766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547-668C-460D-B11E-32A15253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CBFC-E761-46BB-9321-FFE8A477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911-C6B7-4368-9410-42FFD57B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E633-1F32-4677-A155-CD50DD0C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874D-CB52-46BD-9EED-9DEC80CE0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Me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 Merge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Merge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Merge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20:07:42Z</dcterms:created>
  <dc:creator>Rod</dc:creator>
  <dc:description/>
  <dc:language>en-US</dc:language>
  <cp:lastModifiedBy>Rod</cp:lastModifiedBy>
  <dcterms:modified xsi:type="dcterms:W3CDTF">2003-05-09T20:30:03Z</dcterms:modified>
  <cp:revision>9</cp:revision>
  <dc:subject/>
  <dc:title>Presentation Merge</dc:title>
</cp:coreProperties>
</file>