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E88-5943-4CBD-A4A8-F27B549C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01B-68CF-4CC0-8C21-7F31813B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48D-2E58-4D67-AD08-F74A5A9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A4B-0253-4BC2-8439-5BBD9F08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488-D82D-4EF6-AF9F-E2290CF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25E-1459-4183-86BE-08BCD59B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E27-C447-4A9C-BC29-286EA575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F50-7F2C-4F57-8683-D8E651B5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41B-DA5C-43EB-A710-CE0FEEEA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640-9521-43CA-9827-39DF1608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242-D309-483E-B7BE-C0F2A81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60D-081B-447D-82E8-3E40B91C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87D6-31A2-4FED-B093-B37D63EF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 Poi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15:16:30Z</dcterms:created>
  <dc:creator>Rod</dc:creator>
  <dc:description/>
  <dc:language>en-US</dc:language>
  <cp:lastModifiedBy>Rod</cp:lastModifiedBy>
  <dcterms:modified xsi:type="dcterms:W3CDTF">2003-07-07T15:16:32Z</dcterms:modified>
  <cp:revision>1</cp:revision>
  <dc:subject/>
  <dc:title>This is the Title</dc:title>
</cp:coreProperties>
</file>