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D0E8-B5F6-4A85-BAE7-A495C1D86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A43D-0D29-4533-B9B1-F4EED77C4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0649-57F7-4972-9F04-C1721AC8D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49BE-7CA6-49D2-9CEA-F5072AE7E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19F1-A918-49B4-B8CC-9E235FCC2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7E5F-E0EB-406D-9537-83FA623BF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4756-88D7-42D1-9524-9636C67AB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7C91-894E-411D-B5D7-4B1D77A00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30BA-94D9-4103-8E29-66B0870F1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9973-9F37-44C5-8B9B-2FD1EFB7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A1DF-5D29-4D41-8582-7A12F34B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BA71-9B73-4FFE-A8E3-1D9C4176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C506A-F7CA-4807-8356-EAC9FA157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3T18:14:58Z</dcterms:created>
  <dc:creator>Rod</dc:creator>
  <dc:description/>
  <dc:language>en-US</dc:language>
  <cp:lastModifiedBy>Rod</cp:lastModifiedBy>
  <dcterms:modified xsi:type="dcterms:W3CDTF">2003-03-18T16:18:21Z</dcterms:modified>
  <cp:revision>26</cp:revision>
  <dc:subject/>
  <dc:title>Slide 1</dc:title>
</cp:coreProperties>
</file>