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D17-9DEC-4E59-9D77-30D784D1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A08-B114-4B77-91AB-369460AF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448-C05C-487B-AE44-755E24E1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4B6-77F8-4F43-8180-83837C74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C206-D0C2-476F-A38E-A8275C4F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E120-07E5-4E48-8D55-F692F114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75C3-3EBA-4235-9D12-917D3DA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D43C-4353-453C-92D5-C0BBDBE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1F0C-ACBC-4FDD-8BC6-FA0E2493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517C-0B16-4580-8093-D0FF51E0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AE66-ECDF-4BB9-B94A-AEBB139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C97-971D-4E59-9167-947A8361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A904-BC3D-483C-99E7-129CA9FD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6581-BC5B-4F21-A67D-45F0D47D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135A-2687-4A87-8091-B183F248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2893-E616-4F6A-9BA8-E2951147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D9F0-7C56-4D23-9571-184B1799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FE7-F834-4418-91A7-FD8DC49C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F31-A586-4108-B9F8-9F3AC2C8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651-5783-4766-A9FE-DDEB4CDB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03A-A2A9-413D-95E2-22B4263B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616-9F55-4137-B80D-2B29281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991-BD76-4D95-91C5-5D25230E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A87-98CF-43CE-AEFC-EAA5AE09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5869-B85B-437E-AEF1-751BD3990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4B3F-AE88-430B-BD35-FB1177C6D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LE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ing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sier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e’s Slide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Slide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2:46:18Z</dcterms:created>
  <dc:creator>Rod</dc:creator>
  <dc:description/>
  <dc:language>en-US</dc:language>
  <cp:lastModifiedBy>Rod</cp:lastModifiedBy>
  <dcterms:modified xsi:type="dcterms:W3CDTF">2003-01-27T21:11:04Z</dcterms:modified>
  <cp:revision>3</cp:revision>
  <dc:subject/>
  <dc:title>OLE </dc:title>
</cp:coreProperties>
</file>