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D34-91B3-4A80-99E0-64A38F81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B42-4F6A-4AE6-971A-133AD37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F41-8C20-49F3-95A1-15F0DA23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015-C264-4A30-A1B0-D072FB8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CEB6-AE4A-429B-BE28-BAFDA93A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B8AD-ECC9-42A8-9B92-4EE6022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70D7-7C1D-48EB-A6CC-29D46AA0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D0F6-EC6F-4FF2-9954-E6FF90D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5D24-9F58-44D5-B9D8-4212A5C1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7F27-EA05-45D6-866C-3F0BE571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6AB-369C-4D04-9B9A-EA8DDE4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139-28B4-473E-893C-299ECA5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D9BE-DBFE-4FDA-871B-E7748A8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C327-133C-49EA-98FB-B1C171C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F18-3428-4BCD-A509-E9ABD732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A7E6-0BF6-4572-8D63-D8B8C2C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E133-E905-4710-B1FE-8B7C6223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D14-D0A2-4A7F-9493-5A2CF81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E44-D8C8-46E8-BBC8-BB9C84C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1B6-37C8-4B81-AFF2-EC4D26F9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1DF-3DAF-4995-82F3-37E2E14A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6FC-2D09-4B1A-A4F7-8BEC544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F61-B998-4715-8361-0202095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4BF-14E5-4698-B1D3-B978220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235-652A-4E2C-9AFA-D4ADB9E3B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40F-F44A-4E73-A281-BFF302715F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Point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document is linked by more than one Office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he second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06:00Z</dcterms:created>
  <dc:creator>Rod</dc:creator>
  <dc:description/>
  <dc:language>en-US</dc:language>
  <cp:lastModifiedBy>Rod</cp:lastModifiedBy>
  <dcterms:modified xsi:type="dcterms:W3CDTF">2003-02-10T16:40:36Z</dcterms:modified>
  <cp:revision>3</cp:revision>
  <dc:subject/>
  <dc:title>PowerPoint Slide</dc:title>
</cp:coreProperties>
</file>