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48EA-EFA0-4D6B-B8A1-8FD09172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6B1-9A1C-4BBB-BF35-DF58C8DF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1102-18CB-4414-850F-5C2F5E82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E20-6931-4AB4-9BB3-93462FF9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25C6-AD4F-4A0F-902D-F97258C0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55CE-16D9-4522-B07F-4FF7F9D2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6FE2-38EE-4AA1-8111-CF4DEABA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DA14-465D-45C4-880E-FAE528B0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E8C1-378C-42BB-8A2A-4769EFF3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A7BD-0FC1-45B2-8070-47B0C3CD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7986-D9B8-4A19-AF77-6F806214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8B5-1846-4968-BEE6-28782AA3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ECAA-0A6A-4B69-B6A5-8124ABF9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8AE6-C07D-4838-9E65-05FE0850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D6FE-9B5C-464A-9B87-A1646265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654E-4BE9-4A6E-AF1C-549BDE05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AEC1-66AB-4008-88ED-7F2B0214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012D-6E04-4D8F-9112-C54831A8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1C62-1521-41EA-99C4-08F2E365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5FF-A2F7-42E9-B188-FD4110B3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CAF6-05F7-4125-93D5-1B01F467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4177-4884-48DE-8BC5-EB1057CA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A389-23BB-4C82-9363-BDB5191C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86F-C461-44CF-BD42-7256DE78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53EC-2296-4D7C-9E6C-4B5A5516FA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DCEA-6B6C-411D-91EC-FB357F7B9E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keOLE.pp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 to create and manipulate OLE obj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Embedded Word Document"/>
          <p:cNvGraphicFramePr/>
          <p:nvPr/>
        </p:nvGraphicFramePr>
        <p:xfrm>
          <a:off x="914400" y="685800"/>
          <a:ext cx="73152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Embedded Word Documen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85800"/>
                    <a:ext cx="7315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Linked Word Document" descr=""/>
          <p:cNvPicPr/>
          <p:nvPr/>
        </p:nvPicPr>
        <p:blipFill>
          <a:blip r:embed="rId1"/>
          <a:stretch/>
        </p:blipFill>
        <p:spPr>
          <a:xfrm>
            <a:off x="1828800" y="3130560"/>
            <a:ext cx="548640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23:13:04Z</dcterms:created>
  <dc:creator>Rod</dc:creator>
  <dc:description/>
  <dc:language>en-US</dc:language>
  <cp:lastModifiedBy>Rod</cp:lastModifiedBy>
  <dcterms:modified xsi:type="dcterms:W3CDTF">2003-02-19T18:16:07Z</dcterms:modified>
  <cp:revision>14</cp:revision>
  <dc:subject/>
  <dc:title>MakeOLE.ppt</dc:title>
</cp:coreProperties>
</file>