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F091-D10C-458D-89BC-DE0E38075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998F-3074-423B-ADDC-125EC787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DF0B-8B62-41DC-B566-4F24A583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F430-7EBB-4818-8B16-C1A9ACDB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EF3C-ECDC-4023-8656-C9BD65A3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EE6A-00B4-4CDD-9479-D99491D1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2585-E41F-4471-8C1E-BDAA20C7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DD0F-4801-4071-B42C-C150F078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CC97-DD10-4A42-ADCA-57FBEDE1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59C0-11BB-49C3-B740-A6A3E4DF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1ABF-B675-4338-A61E-54F80535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821-8679-4BA2-BA60-2B7ACCA7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9D22-2BC0-43FC-B44D-D5278AA1B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23:42:27Z</dcterms:created>
  <dc:creator>Rod</dc:creator>
  <dc:description/>
  <dc:language>en-US</dc:language>
  <cp:lastModifiedBy>Rod</cp:lastModifiedBy>
  <dcterms:modified xsi:type="dcterms:W3CDTF">2003-01-09T21:01:44Z</dcterms:modified>
  <cp:revision>14</cp:revision>
  <dc:subject/>
  <dc:title>Slide 1</dc:title>
</cp:coreProperties>
</file>