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928D-FF9E-4331-B91E-AD408212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CA59-0923-4521-8007-CB47D2BE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E295-81CC-47AF-98A8-F88D0600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2AA5-2425-4753-B452-EE769CB9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D9E-7A45-4411-9452-6BFA2DBE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D57-0C32-4947-BE59-80D1289C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77CD-EA40-4424-9543-95BBFB15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2333-BD24-40ED-B37E-2941F801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7B02-DCE8-4F52-91F2-13EAA6ED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3F8-C9E7-4C60-9A3C-F3192609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AA40-8AD3-4510-9708-831FCDFD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6D98-80AE-4BB2-B210-C7E78B68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1C35-E129-4BF8-9B27-99AAA83B3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23:42:27Z</dcterms:created>
  <dc:creator>Rod</dc:creator>
  <dc:description/>
  <dc:language>en-US</dc:language>
  <cp:lastModifiedBy>Rod</cp:lastModifiedBy>
  <dcterms:modified xsi:type="dcterms:W3CDTF">2003-01-09T20:34:51Z</dcterms:modified>
  <cp:revision>26</cp:revision>
  <dc:subject/>
  <dc:title>Slide 1</dc:title>
</cp:coreProperties>
</file>