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77F-E61F-4892-9BC5-90FF41E3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A05-8AC3-43DE-9E75-428BCD7F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3A1D-9C8D-466E-B37D-6029D98F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842-2400-44A5-8050-21648630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488-E2A6-4CB4-A4ED-DB486967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52E-49F8-4081-9932-4646DA28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DA6-ED05-4CAF-B925-525EA761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611-28D0-4B58-A005-E804BC2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B48-3A19-430A-9F8B-6E5364CD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9DB-2DA6-4D87-9404-434A04BF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A87-3DD3-40A2-83DB-49F9CD35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29B-965F-4269-A1F3-BAA0BB70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3136-87E2-48D0-8830-F72FB245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23:42:27Z</dcterms:created>
  <dc:creator>Rod</dc:creator>
  <dc:description/>
  <dc:language>en-US</dc:language>
  <cp:lastModifiedBy>Rod</cp:lastModifiedBy>
  <dcterms:modified xsi:type="dcterms:W3CDTF">2003-01-13T21:10:17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upportsSayHi">
    <vt:bool>1</vt:bool>
  </property>
</Properties>
</file>