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CB7-2D8F-4944-A77F-2D3ECCFC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528-F3E1-4A7B-BA28-FC797CB7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920-AEBA-49F2-962E-3CEFFC3E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910-055D-436C-894B-046B1100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044-9A21-4B62-BC7F-72C512DC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3AA-15A4-48AA-8ACB-EBEEDC1D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3E0-57BB-4D20-A780-2F00BAD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746-421E-4E1D-A07B-F2840D0B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21B-C66E-412B-B3C1-F383CB9D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317-388E-4078-A9C2-A50ADF1F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3E3-5DC1-4A82-BD49-24C6E36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882-20BF-44C0-9572-CB5343F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9F8-3F76-4748-97BC-59711E24A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23:42:27Z</dcterms:created>
  <dc:creator>Rod</dc:creator>
  <dc:description/>
  <dc:language>en-US</dc:language>
  <cp:lastModifiedBy>Rod</cp:lastModifiedBy>
  <dcterms:modified xsi:type="dcterms:W3CDTF">2003-01-09T21:04:13Z</dcterms:modified>
  <cp:revision>17</cp:revision>
  <dc:subject/>
  <dc:title>Slide 1</dc:title>
</cp:coreProperties>
</file>