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156D-4F9D-4CBE-8905-717889664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tner Group predicts $1.8T in consumer trans by mobile devices by 200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NN FN PDA sales $1.03B last year, up 13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 76%, recently Palm down and PocketPCs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nnected user sometimes/all th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C: PocketPC, HandheldPC, PalmSize PC, Smart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q, Casio, 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: Palm (3-Com), Sony, Handspring, Kyoc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s: AF: Personal $20, Prof $299, Ent $6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z-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s in VB and Windows event handler fires as soon as trig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alm current routine must exit before event handler f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ions: access db, bmps, true type fonts, mo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, trap inline, perform inline error handler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immediately after any probably e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155-BCB8-416D-820B-2076D0EB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467-A2E4-4CB4-89E3-FB6643EB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584-1C08-4829-B0FF-30BBD132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ECE-7E70-496A-B6A0-B119368D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CB7E-28DC-44AA-9BC9-C0531E12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06A3-E060-4025-A8C6-97DFD584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C0FA-A8F0-4A84-A2E9-5CEF9AD9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2AB4-7D27-4032-A067-E13246CF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EABE-9BD1-4C21-8FFF-858C7111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A1AB-89BB-418C-929C-EC78A450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1164-38DD-4735-BF64-8D130E0D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8130-35C9-4112-B26E-B58E5717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7A2E-376F-440A-A806-082BD579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C066-6A74-4682-9B97-CCB9535C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C45F-15E0-4C8C-8602-167962C9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BF97-C93D-4E6D-BFF4-FB03F497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3906-6C1F-4B15-BA36-231339A8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C786-CFC8-4D06-A859-986DB2B2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7D0D-1E71-41A1-B3EE-A16DFC3E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6C1-FD90-4929-92E7-054F37BD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35F-ACB9-47C7-BF9B-0727BF87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DA2-ADE4-4986-858B-4C51E5CF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A5CD-2FAF-425E-9C85-7B35C83E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2F91-91C6-4953-8C99-E6382493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0117-E60C-4257-8533-35EC0F33D3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8997-8DD6-46ED-B022-D96329231D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icrosoft.com/mobile" TargetMode="External"/><Relationship Id="rId2" Type="http://schemas.openxmlformats.org/officeDocument/2006/relationships/hyperlink" Target="http://www.palm.com/" TargetMode="External"/><Relationship Id="rId3" Type="http://schemas.openxmlformats.org/officeDocument/2006/relationships/hyperlink" Target="http://www.appforge.com/" TargetMode="External"/><Relationship Id="rId4" Type="http://schemas.openxmlformats.org/officeDocument/2006/relationships/hyperlink" Target="http://www.vbpj.com/" TargetMode="External"/><Relationship Id="rId5" Type="http://schemas.openxmlformats.org/officeDocument/2006/relationships/hyperlink" Target="http://www.msdn.microsoft.com/msdnmag" TargetMode="External"/><Relationship Id="rId6" Type="http://schemas.openxmlformats.org/officeDocument/2006/relationships/hyperlink" Target="http://www.devbuzz.com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Cawallace1@earthlink.net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VB Development 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r PocketPC and Palm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 Wal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ver MS VB.NET S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 27,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ocketPC DB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Server 2000 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e RDBM .sd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use Access .cd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only T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Sync easy to set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CE OLEDB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Server 2000 CE Flexible Syncs but somewhat difficult to set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alm and PocketPC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alm vs PocketPC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er, thin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er battery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M f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ly simple b/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ct sc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cketP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satile app platform, cap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li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ful, Brigh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sc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onclusion (IMHO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verlap, but PocketPC is not a souped-up P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ketPC is a powerful engine for deploying portable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m is a great little P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DA App Recommendat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I size, xy, scrolling (&lt;&gt;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ouse, keyboard, limited controls, co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speed – efficiency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be reliable in f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number of recs /selections 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What To Do Now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looking at applications your mobile users ne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ose that can run successfully on a PocketPC, especially laptop replace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Next . . 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ketP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 4 “Talisk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reless conne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r footpr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Plug/P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XML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More Next . . 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ketP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S.NET &amp; .NET Fra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bedded.NET, C# &amp; V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separate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IT processing by processor fam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 Mobile Internet Toolk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Even More Next . . 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uild PocketPC &amp; Palm Apps with same code ba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Inf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icrosoft.com/mob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palm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appforge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vbpj.c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vs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ww.msdn.microsoft.com/msdnm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www.devbuzz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world is going </a:t>
            </a:r>
            <a:r>
              <a:rPr b="0" i="1" lang="en-US" sz="4400" spc="-1" strike="noStrike">
                <a:solidFill>
                  <a:srgbClr val="00ffff"/>
                </a:solidFill>
                <a:latin typeface="Arial"/>
              </a:rPr>
              <a:t>mobile!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area for mobile app$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require users to be tied to de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new remote functi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f"/>
                </a:solidFill>
                <a:latin typeface="Arial"/>
              </a:rPr>
              <a:t>Thanks!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 Wal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awallace1@earthlink.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vbdenver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Mobile Development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31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3.5 OS (3.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Forge 1.2.1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HotSync 4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s, Need VB Lic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32160" y="1945800"/>
            <a:ext cx="38098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cket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 CE 3 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 eMVB 3 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 ActiveSync 3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, No VS/VB Lic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We won’t discuss tonigh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/Browser based apps on PDA or Cell Ph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 Mobile Internet Toolkit Beta 2 .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 Mobile Information 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 . .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Let’s talk about PDA cod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large subset of VB run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s usually due to OS or mobile device log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 is a 4 letter word – build to su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ketPC is closer to same c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on actual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alm                 PocketPC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0 x 160 Pixel 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8 MB 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MB 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 MHz Proces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load &amp; Inst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ulator built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User Gui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ster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20 x 240 Pixel 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-64 MB 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 MB 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2 bit, 206 MHz Pro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load &amp; Install, pick SDK per 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ulator in SD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SDN User Gu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al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 Ingots Contro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(show/hi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r.Rais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Error Go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s diffe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sion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401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Decimal, Curr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With, For Each N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Resume Next, On Error Resume N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Classes, Coll, 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enu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File System I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ocketPC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 Contr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Error Resume Next,  On Error GoTo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Windows AP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many restri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alm DB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Table = .pd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QL, RDB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DataBound Cntr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rimary Ke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AM based Inde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ccess or any ODBC DB as original 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7T05:10:49Z</dcterms:created>
  <dc:creator>Preferred Customer</dc:creator>
  <dc:description/>
  <dc:language>en-US</dc:language>
  <cp:lastModifiedBy>Chris Wallace</cp:lastModifiedBy>
  <dcterms:modified xsi:type="dcterms:W3CDTF">2002-05-11T18:02:17Z</dcterms:modified>
  <cp:revision>21</cp:revision>
  <dc:subject/>
  <dc:title>VB Development  for PocketPC and Palm </dc:title>
</cp:coreProperties>
</file>